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4673-7198-4869-BF8A-DFF7D850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1DA2-FAF1-4B7D-820A-E7289DFB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A4C-8551-47A6-A8E5-A0A41ACA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7B5B-1B0B-46AC-ABE9-9D7F36FE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5983-7DE0-4B12-BFA8-BEDDBCAF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5D84-CE16-41A6-9693-B0074128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41F5-A413-41CE-ABB2-BA6C02C5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4485-2AD6-4C92-BDC7-141B6728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B00E-F356-4AF3-91C9-62C8F7EB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8A18-A73D-4EDD-A79D-277D4745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70A2-A6CC-4C2F-BEA5-E5A6C65C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B4F7-67A2-4C31-B70B-00B80117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2C55-F250-46C4-B7B0-331F168F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51AD-EB15-4EDD-AFB5-6671B343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2C6A-C3F2-4D2D-9317-1902C1D0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D295-488A-4506-BFC1-5C2DC02E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1824-7DDC-4BA5-B287-FAA7CB58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A6F1-30AD-4CC8-9E86-9B72475C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5EAA-A549-494B-BC87-F0F566A2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1EF-3E24-4489-9A7C-89316459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58E0-29F4-437F-A5F0-3C1CFFA0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A52C-4DCA-4489-B03C-FFAC6B27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1B84-04D2-488C-8BCC-99BE8144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2068-47B9-4B71-A4E2-F50295D2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6966-269B-4EFA-8CEA-E033781AD3C3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C2E9-8544-492C-8D8C-42300E36F394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10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의 통합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7307-B488-4619-AABC-827A936B489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10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의 통합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통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입에 데이터 웨어하우스가 필요한 이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 웨어하우스 도입시 고려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rac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솔루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A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솔루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872-E346-4DC0-88CF-8BD64A053DD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  <a:ea typeface="굴림"/>
              </a:rPr>
              <a:t>ERP</a:t>
            </a: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란 무엇인가</a:t>
            </a: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?</a:t>
            </a:r>
            <a:br>
              <a:rPr sz="4400"/>
            </a:b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tp://www.valhae.com/business/erp.html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굴림"/>
                <a:ea typeface="굴림"/>
              </a:rPr>
              <a:t>Enterprise Resource Planning/</a:t>
            </a:r>
            <a:r>
              <a:rPr b="1" lang="ko-KR" sz="3200" spc="-1" strike="noStrike">
                <a:solidFill>
                  <a:srgbClr val="3333cc"/>
                </a:solidFill>
                <a:latin typeface="굴림"/>
                <a:ea typeface="굴림"/>
              </a:rPr>
              <a:t>전사적 자원관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회사전체 경영자원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즉 생산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판매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물류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회계 등의 기업업무를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전사적인 경영자원으로 활용하기 위하여 최적화하는 시스템으로 주로 통합시스템 소프트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기업의 경영목적을 가장 효율적으로 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기업내의 생산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회계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영업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재고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판매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물류 등의 업무를 통합적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조직적으로 연계 관리하고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회사 내 모든 정보를 공유하며 정보를 만들어 제공한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기업의 생산성과 경쟁력을 극대화시키는 통합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시스템 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(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  <a:ea typeface="굴림"/>
              </a:rPr>
              <a:t>OLTP layer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의 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  <a:ea typeface="굴림"/>
              </a:rPr>
              <a:t>software, 177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페이지 참조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F7A4-315D-4E51-9F94-9D1311B26C7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erp_p1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39080" cy="4907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762120"/>
            <a:ext cx="7391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valhae.com/business/erp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5DA-9F7C-4157-9380-44CF7F56E7A1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도입에 데이터 웨어하우스가 필요한 이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구 우수 모범 기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est practic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프로세스를 담고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ustomi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체의 프로세스를 바꾸는 것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어려운 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하는 장표를 개발하는 것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rting syste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표준화된 장표와 그 외는 프로그래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A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이용하면 정형화된 장표와 비정형화된 장표를 얻을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DCE3-913E-49C2-AF28-22C991E57FD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 도입시 고려사항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운영계에 해당하는 시스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정보계에 해당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트랜잭션을 처리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트랜잭션의 결과를 분석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하나의 하드웨어에 구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동일한 하드웨어에서 운영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부하를 줄 수 있다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하드웨어를 사용하는 것이 바람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먼저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먼저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순서는 별 문제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1A56-9A72-441D-8269-07A1C81B9CA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 도입시 고려사항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데이터를 어떻게 추출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vendor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제공하는 추출 도구를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 데이터 마트의 위험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데이터를 추출하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부서 단위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목적별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추세는 전사적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가 고급 데이터 분석의 내용을 제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업의 경영 활동에 부가가치를 창조할 수 있는 시스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F893-53B6-49A1-92B3-2BE3175D08C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racle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ol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BFC5-F396-4B7A-94C6-EFB189F82B9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A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ol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3B6C-BAA1-415D-8DF5-E89380B9CC2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7T08:20:24Z</dcterms:modified>
  <cp:revision>276</cp:revision>
  <dc:subject/>
  <dc:title>제6장 데이터 웨어하우스의 관리</dc:title>
</cp:coreProperties>
</file>