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326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E72E-1BC4-4EC6-92C6-5C3D455A1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3B12-9521-4EFB-A2C4-04A30C067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2D6E-BF18-42A8-AF90-F6A57D7D3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2638-31DB-4AFD-A631-BB468C754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5D8CD-AA08-4A56-90A3-BA67F6ADF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1FB92-DF9B-4123-8B48-4D9A1AA32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1E25E-1E2A-46C3-893B-74C495FC8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33ACF-1461-4AA8-9F49-EF4BFC241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F40B9-D1CA-4B11-8E18-527DE97E8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28448-E3C7-49A9-B4ED-BECE9C603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A6464-38ED-4CC6-8EA4-C234D9FF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0470-4169-4682-A590-73B26DC7F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6252B-F801-4CED-A68F-3A3488B8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06231-FE04-48A0-B83E-291D8425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D32DE-8D43-4CF5-9D63-FBFC42241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90630-D521-41F1-9091-0ED24C216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AB210-208F-4FF0-BE66-CBB409470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3491-827B-4FB1-B682-C97D7B8FA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76A4-041E-40CA-ADFB-BACB2B13A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2B3F-F9FF-45B1-B4E4-A83089A01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5156-9BDC-4941-9CF0-EEC5EC9D8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DDF6-6414-44B6-A2B2-491CB3C5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0B4F-8328-4AB8-80AE-FB4A1751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25DE-5421-47FE-897D-FACBDA13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103C4-4EDF-4740-8EA6-B1E81C0FEF09}" type="datetime3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2026년 7월 31일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1C7AF-8385-403B-BA89-26CB878327A6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39E7A-92A6-4D87-BE72-895905F906E7}" type="datetime3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2026년 7월 31일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646D3-2546-49BB-93C4-0B954039B4FA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220968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굴림"/>
              </a:rPr>
              <a:t>Chapter 8</a:t>
            </a:r>
            <a:br>
              <a:rPr sz="5400"/>
            </a:b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징 구조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502920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ong Soo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park@cs.sungshin.ac.k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38862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니드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E356-A510-4385-A870-1F7D72DB936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3E80E2-2DA8-405D-B113-BA0D96F470D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8_3" descr=""/>
          <p:cNvPicPr/>
          <p:nvPr/>
        </p:nvPicPr>
        <p:blipFill>
          <a:blip r:embed="rId1"/>
          <a:stretch/>
        </p:blipFill>
        <p:spPr>
          <a:xfrm>
            <a:off x="1295280" y="609480"/>
            <a:ext cx="6782040" cy="5730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F4EC-8EA5-404F-9E3E-B964F860F9A1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F95F1F-6E81-4622-966A-EF798A6219C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를 위한 대상 데이터베이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RDBMS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MDBMS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추출 기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표준 관계형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BMS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설비를 이용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전문적인 데이터 추출 도구를 이용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위 데이터 접근 도구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관계형 조회 사용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관계형 데이터의 다차원 시각을 이용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주문식 사용자 인터페이스를 이용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특수 목적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SS/EIS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사용자 인터페이스 사용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징 설계시 세가지 결정적인 문제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7727-3353-4490-A81B-7ADF725726D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9756D9-C65B-4899-8423-B12BB76357F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대상 데이터베이스로서의 종래의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RDB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종래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RDBM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와 범용 데이터 접근 도구들을 이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최근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RDBMS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복잡한 조회와 분석 기능을 지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지원하기 위한 추가적인 기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추출과 복제 서비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병렬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조회 최적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비트맵 색인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리고 색인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렬 및 적재 시간의 단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새로운 저가 최적화 프로그램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조회 성능 최적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racle 7.3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및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ybase System 11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Q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가속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5690-9FCB-4375-A138-9F92B90736A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CB1543-7247-4AFE-823C-6F6269267CF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자산권이 있는 대상 데이터베이스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분명한 사업적 명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사 결정 지원 응용 프로그램을 위해 중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다차원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AP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처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복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조회 기능들 사이의 긴밀한 통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자산권 데이터웨어하우징 도구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온라인 조회에 신속한 반응을 제공하기 위해 특별히 설계된 다중 플랫폼 엔진을 통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능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파일 세분화와 분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저장된 절차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문식 데이터웨어하우징 기능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반복 조회 지원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QL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확장 기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CF8B-4386-48DE-B8BA-8850287FEC0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DB1A6D-A9C6-4B60-A570-B8F44AC4B55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추출과 관리 도구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추출 및 변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종래의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DBM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필요한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문적인 데이터 추출 도구들이 필요한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두 기능을 보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종래의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DBM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의해 제공되는 능력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추출과 변환이라는 전문화된 도구들로 보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추출과 변환 도구의 두 가지 주요 기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oint-and-click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식 인터페이스 제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추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클리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재조정을 수행하는 프로그램을 자동으로 생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4108-F1E1-4956-8109-EB09C02C148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D1D196-79B6-4B6E-B556-93FA046050D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메타데이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메타데이터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다음을 설명하는 데이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도구들은 소스 데이터의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형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대상 데이터의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형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서 대상 데이터를 생성하기 위해 소스 데이터에 적용되었던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변환 과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운영데이터에서 이루어진 변경사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메타데이터 저장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상위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ASE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도구에 의해 생성된 정보 모델을 포함 가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표준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DL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인터페이스를 사용하여 반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31B8-926C-4F0B-BE5B-ABA687358B7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B9E0DF-F30B-447F-BC4B-61AA262484D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전위 데이터 접근 도구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어떤 전위 도구들이 적합한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관계형 데이터 접근 도구를 사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특수 목적의 다차원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SS/EIS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도구가 필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관계형 조회 도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자들이 관계형 데이터에 매우 편리하게 접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도움없이 조회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보고서 및 그래픽 프리젠테이션을 지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산업 표준 사용자 인터페이스의 지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모든 표준 플랫폼으로의 이주 가능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B33E-2720-4822-AF0D-6906EC4344B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21FCD5-F232-4768-8195-BFA7DC51E42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관계형 데이터의 다차원 시각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대상 데이터베이스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종래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RDB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최종사용자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여러 차원에서 관계형 데이터를 분석할 수 있는 능력을 부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DBM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지원없이 다차원 데이터 분석을 수행할 수 있는 능력을 부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6500-E95B-4892-9440-B45BDD36A52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7D0D04-A32A-4B5F-BD86-4D1213C60B3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SS/EIS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도구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고급 다차원 데이터 분석을 위해 사용되는 좀더 복잡한 도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SS/EIS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응용 프로그램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재무 보고와 통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업 계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line-of-business)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익성 보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업 예산 작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관리보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CD97-DFAB-4813-AA19-634258BB4D0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863A82-F1E2-4352-8813-551FBFF2434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클라이언트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/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서버 도구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최종 사용자들의 특정 요건을 만족하는 주문식 의사 결정 지원 응용 프로그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파워소프트 사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owerBuil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응용 프로그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이 간편한 그래픽 사용자 인터페이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체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GUI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걸쳐 공통된 모양과 느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단순한 데이터베이스 접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자가 조정 가능한 온라인 도움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광범위한 멀티미디어 응용 프로그램을 지원하기 위한 확장성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스프레드시트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워드 프로세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통계 패키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등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BFC7-F688-4E33-924A-EA16C31E329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8A5D4D-5404-4F12-AC59-9A470F635EA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8960" y="5335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전략적 사업 개요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전략적 사업 목표를 만족시키는 강력한 기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 서비스 개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업무 처리 비용 절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접근을 쉽게 한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현 조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업무 관리자들의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73%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접근 안됨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호스트 컴퓨터 시스템에 대한 투자 보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응용 프로그램 패키지를 사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클라이언트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서버들을 전위에 배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를 재정비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y D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0933-4348-4E3F-A7C4-16EB530B2C6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0B1370-8A33-4818-B816-2C97C3432B3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접근 도구의 선택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쉬운 사용과 탄탄한 기능에 대한 요건에 따라 결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사용자 편이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oint-and-click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식 인터페이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다중 문서 인터페이스 프레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아이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도움말 기능과 같은 일련의 일상적인 기능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능적 요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어떤 조회 도구를 사용할 것인지에 따라 결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문식 의사 결정 지원 응용 프로그램 개발 필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/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4263-8872-48F9-A641-0F97FA37F2F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0352E2-200E-44B1-9CF3-D8B7256B511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구현 옵션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의 구현시 구조적 옵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메인프레임 응용 프로그램 리호스트하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층 구조에서 메인프레임을 서버로 사용하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층 기업 정보 구조 구축하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34D4-E4D1-466E-A8DD-14FECC54C07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6DDF02-0801-4919-952C-5BE2A949EC0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33399"/>
                </a:solidFill>
                <a:latin typeface="Tahoma"/>
                <a:ea typeface="굴림"/>
              </a:rPr>
              <a:t>메인프레임 응용 프로그램 리호스트 하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존 코드를 저가 서버로 이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존 응용 프로그램들을 훨씬 더 싼 비용의 마이크로컴퓨터 기반 서버로 이동시키는 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 서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UNIX(Solaris), Windows 2000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리호스팅 도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icroFocus COBOL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전략적 사업 문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환경 구축에 매력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새로운 응용 프로그램과 서비스를 개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존 코드가 앞으로 수년 동안 사용 예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리호스팅은 비용을 줄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D23A-05D3-4850-9FE9-4EA7BC08CF9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800A8B-C7A7-4428-B6B0-8A3F782A070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서버로서의 메인프레임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2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층 구조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층 접근 방식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2-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ier architectu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후위 서버 구성 요소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메인프레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위 클라이언트 구성 요소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LAN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반 응용 프로그램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기능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:</a:t>
            </a:r>
            <a:r>
              <a:rPr b="0" lang="ko-KR" sz="2000" spc="-1" strike="noStrike">
                <a:solidFill>
                  <a:srgbClr val="000099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굴림"/>
              </a:rPr>
              <a:t>기존 메인프레임 시스템의 복잡성을 감추는 것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MS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의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Visual 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사이베이스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파워소프트 사의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owerBuil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볼랜드의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lph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8-1: 2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층 데이터 웨어하우징 구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존 시스템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데이터베이스 서버처럼 활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확장성이 없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at-client”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위 시스템의 개발을 부추긴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A29B-B795-4F5B-A6B6-D01D906E459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BF877C-B277-48F7-91E9-43AA3B3C2D5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8_1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8229600" cy="5684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673B-B70A-47A4-B49E-02930A528D3C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DF4B6D-FC41-4444-AE12-C03025AC2DF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기업 정보 구조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3-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tier architecture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을 위한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층 기업 정보 구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층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호스트 컴퓨터에 있는 소스 데이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층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속 데이터베이스 서버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95280" indent="-3808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대상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Target) DB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와 같은 조직 전체 공유 데이터와 업무 규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층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래픽 지향적인 최종 사용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95280" indent="-3808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LAN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기반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C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또는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Works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“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적합한” 데이터 웨어하우징 구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설계시 일련의 대안 데이터 웨어하우징 구조를 조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략적 사업 요건을 만족하는 구조 선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1587-E0C2-4B8A-9293-6530B2D3D9F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CF512F-414D-41C1-8895-D003A8F3C1D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8_2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8077320" cy="577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769F-CFC8-4F52-8487-66BE5DD382E5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13F5F3-62BC-4A2C-A1B3-BEB6D23398D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의 구성요소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8-3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호스트 컴퓨터에 있는 소스 데이터베이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운영 데이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추출 및 변환 도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모델링 도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중앙 저장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를 위한 대상 데이터베이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전위 데이터 접근 도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FA14-F55C-4EE5-B10B-F3AF03B35CC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3AE54C-1411-4C03-A19D-956C44A7537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iawei Han</dc:creator>
  <dc:description/>
  <dc:language>en-US</dc:language>
  <cp:lastModifiedBy>Jong Soo Park</cp:lastModifiedBy>
  <cp:lastPrinted>1999-09-10T20:38:56Z</cp:lastPrinted>
  <dcterms:modified xsi:type="dcterms:W3CDTF">2002-05-27T23:56:13Z</dcterms:modified>
  <cp:revision>278</cp:revision>
  <dc:subject/>
  <dc:title>No Slide Title</dc:title>
</cp:coreProperties>
</file>