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DB70-CB2D-425B-8D32-DCC17CB8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10D-5D4D-4959-86A9-7525151C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3328-847F-4540-BA9C-6CBF1A58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8EE9-AB1E-4D23-BA05-C95D577A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BDA9-9C7C-4467-A5F2-B413A6DD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3E6D-B309-4978-83AE-EEC49BAE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18E8-7A65-4BAA-A013-7490073D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0EF4-EF21-41A9-9E5E-D26A015A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BD2D-CCED-432B-9F46-DCC7AB4F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BEC8-6BE0-4AD0-885A-80DB1682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9604-1CCD-4F6F-B314-C5BC5323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3A27-8DF2-4C33-9D41-54EED1A4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B7B8-F1E8-4260-85E8-5683E0DE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C3C3-4B08-4EB0-A5B8-1409BA86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D314-2BDF-40A0-B510-DE8C2E5D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E55D-E421-4868-BE87-5700076C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796D-06AA-4203-B476-EF1DABB7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8EA-385D-49E9-8C51-AC149232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1EBD-9E7D-4430-AC05-C8794406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6133-05E4-4311-983E-6642E90A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050-9733-4DC6-BC4B-D9FC2D12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87A-38B0-4817-9803-C2A2B294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24A-52A5-44B7-AE9A-089B3710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8232-8AE4-45CE-B2AB-6C764351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4C3F-FDC9-49CA-8027-2C4392F73ECD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BD1A-CE7B-4CE2-8753-9550FDABCD80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9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구조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6C1-D3FF-4375-8312-1492B916968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없는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운영계 시스템에서 생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7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 참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의 하드웨어 장비를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용 서버를 작게 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없으므로 디스크 용량을 작게 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교적 저렴한 비용으로 구축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성시 운영계 시스템에 부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성시 많은 추출 프로그램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349-D277-4DD3-AC40-4C2F3AFB978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가 존재하는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장 많이 채택하고 있는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os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A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태로 추출해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로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데이터의 통합과 정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을 제외하면 운영계 시스템에 부하 없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과 독립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개발과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향후 전사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의 확장이 매우 쉽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많은 데이터를 보관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이 커진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정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을 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/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용량이 커진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5ED8-37AD-439B-AAA8-534C4BC17CD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p-down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이냐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Bottom-u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이냐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op-down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를 만드는 회사의 주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만드는 데 적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ottom-u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를 만드는 회사의 주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만드는 데 적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 Mart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를 많이 만들고 이를 통합한다는 것은 거의 불가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또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같이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D9D-FFCA-4A9D-8F4D-2474B0F5ED4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terprise Data Wareho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사적 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회사의 거의 모든 시스템에서 거의 모든 데이터를 가지고 구축하는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’로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37D-D1D5-46A2-8BA9-EC9A65A37FF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4211-F0FB-467B-B8F7-7F6DD19FB2D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‘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인프라’로서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Wareho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62B-A594-4962-BD26-74CD5439943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287B-A6A3-45A7-84C1-3D375CB5416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데이터 웨어하우스의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본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어플리케이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DS(Operational Data Sto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사적 데이터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3B27-A743-4824-BBE8-63AB5011228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기본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데이터 웨어하우스 구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참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165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저장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sito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차원적인 모델링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act table, dimension table, summary table, meta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여러 가지 기술을 사용하여 액세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통계 분석 패키지를 사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켓팅 분야와 결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60E-961C-4A1D-8E8F-E96E61317BC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방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op-dow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ottom-u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A038-F0FB-4F63-90FE-C121454030C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Ma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m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수 사용자가 제한된 주제로 소규모의 데이터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각 부서별로 다양한 분석과 예측을 목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렴한 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쉽고 빠르게 구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유지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은 데이터 마트는 관리 지원이 어렵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된 생명이 짧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8600" y="3733920"/>
            <a:ext cx="8915400" cy="596520"/>
            <a:chOff x="228600" y="3733920"/>
            <a:chExt cx="8915400" cy="596520"/>
          </a:xfrm>
        </p:grpSpPr>
        <p:sp>
          <p:nvSpPr>
            <p:cNvPr id="109" name=""/>
            <p:cNvSpPr/>
            <p:nvPr/>
          </p:nvSpPr>
          <p:spPr>
            <a:xfrm>
              <a:off x="228600" y="3886200"/>
              <a:ext cx="2209680" cy="43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OLTP </a:t>
              </a: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시스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00" y="41148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373392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데이터의 추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67080" y="3809880"/>
              <a:ext cx="1981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ata M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160" y="41148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38880" y="388620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부서별 사용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495B-7D1C-41BA-AB3D-B3C0B6FEC50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Tahoma"/>
                <a:ea typeface="굴림"/>
              </a:rPr>
              <a:t>독립적으로 존재하는 데이터 마트들의 위험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68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체 시스템 관리를 매우 혼란스럽게 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계 데이터 분석을 위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관리 분석을 위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마켓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포팅을 위한 정보계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관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에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여러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데이터를 중복해서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BAB-D94B-40BC-9B8B-9AD59FDA06C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같이 존재하는 데이터 마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(Operational Data Sto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출 분야의 문제점을 해결하기 위해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중간 단계의 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저장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구축하려는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Data Ma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169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같이 존재하는 데이터 마트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CF4-CA33-409B-A944-B95189140A8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역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 부분뿐만 아니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모든 데이터의 원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’ 역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주로 </a:t>
            </a: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원시 데이터</a:t>
            </a: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굴림"/>
              </a:rPr>
              <a:t>Raw Data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다 들어가기 때문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체 디스크 용량 산정시 중요한 요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데이터 정제 작업을 쉽게 할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내부 구조가 일반적으로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ER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40CA-F454-4492-BB9E-50DE912CAF1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DS+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트 구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축 원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의 추출 문제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에서 데이터를 추출하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델링으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서별 데이터 마트의 데이터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추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서버에서의 병목 현상을 데이터 마트로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가 통합되지 않은 회사에 많은 도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규모의 제조업체나 소규모의 유통업체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60A-31CB-493D-A556-2D749A170A9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7T07:05:18Z</dcterms:modified>
  <cp:revision>264</cp:revision>
  <dc:subject/>
  <dc:title>제6장 데이터 웨어하우스의 관리</dc:title>
</cp:coreProperties>
</file>