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EFFD-AA6A-4C47-8311-3FA89699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B204-CB33-46CC-BC53-86CDA200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2EE0-AFD4-437E-9030-9D1D9E48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3FC-99AF-45E6-A2DB-3B3480E5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B292-DDD9-4B85-8174-B8114AD7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AA14-73DA-4F54-9283-FFCF404A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0FD0-3BE4-48AC-8498-A32CB0F0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C811-2E33-4996-B27B-45BE93A7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1357-9EFE-4FEC-9FF9-C6D7F059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2E07-F07E-4B5B-9F7E-F4FA76F4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5E34-509E-46B9-B1AC-24B4C57A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DC3D-9F12-45BA-9770-0DC22AB9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093E-67BA-41D8-B5BD-447DAAE3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7EC0-ADD9-4E60-8EE7-38921B58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54DC-FC33-48C0-812A-69C07924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72BE-2A42-4BDC-8774-94591D6E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C9D6-4E78-4E47-B3B0-916B5BCD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8353-94DF-4A7E-B58E-09CBB731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9EC5-E067-4370-B793-35B1A1B2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BFD1-1C12-4A8A-836E-C204C2EB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5BC4-5ACD-4DF2-B3FD-51D38ECE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D50D-285E-4E10-B95D-6024F600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E789-73BB-4C86-BDE7-B2861667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DB0F-8434-40BD-A1B1-D155FBA4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7A52-4E2C-4128-B242-4557E07B5C06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7BF6-772F-4528-A659-7F9B54CB59EC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11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구축 방법론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419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박 종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D8BF-433A-4BCB-BC15-B9541B24C90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단계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-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정의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스템의 목적 선언문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ission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E094-C752-45E6-A2B8-F473272F165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11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장 구축 방법론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프로젝트 추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프로젝트 추진의 주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선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방법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다른 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Projec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 시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구축 방법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97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설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천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발견과 발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모든 단계에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문서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34F2-708B-4834-B9D1-D8AF6980A55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축 원칙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안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업이 사용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현업의 요구 사항이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100%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반영되어야 한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양이 많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강력한 하드웨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섬세한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설계 및 튜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신속한 추출과 로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스템을 구축해본 경험으로 하면 실패하기 쉽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A2FF-5FD5-4E45-A70D-35CDE71ECC7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프로젝트 추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제트 추진 주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업에서 주도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제일 바람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현업에서 원하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구축 가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컴퓨터 비전문가로 인한 신기술 도입에 어려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산실에서 주도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대개의 경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파일럿 시스템 구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외국 컨설팅 업체에서 맡길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국내 기술로도 가능하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6841-8C4F-4F43-9269-A1F25FE1855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업무 선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Project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안시 가장 고민하는 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제 영역 선정 작업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민감한 부분을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국내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제 영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por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만들기 힘든 부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영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장표 분석 결과가 운영계 시스템과 일치하지 않는 부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을 배치 작업으로 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의 정보 가동 방식으로는 전혀 분석할 수 없는 부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3200-83E9-4C36-85B9-ABD689EB6FB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축방법이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LT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다른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사용자 수를 기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데이터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보다 약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ardwar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량 산정에 오류 가능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실제 데이터로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병목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네트워크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서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병목 현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 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현업이 프로젝트의 처음에서 끝까지 참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주인은 현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의 주인은 전산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29CB-5814-4C33-BD5B-9C9B097A67D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 Projec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시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 발주와 도착 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에서 설치까지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월 가량 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원시 데이터를 정의하고 초기의 원시 데이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내리는 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각보다 시간이 많이 걸린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기존의 운영계 시스템에서 데이터를 맞추는 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안 맞을 것이다’라는 자세에서 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업무를 협의하는 시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많으면 곤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E979-DD4F-4994-9877-F0E94FFD7F0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축 방법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모든 단계를 체계적으로 정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밀 지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회사마다 구축 방법론이 다르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projec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스템 개발과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다른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cyc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갖는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EF14-5FB4-4650-AD78-6C02B41E5BE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762120"/>
            <a:ext cx="5638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racle 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축 방법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47920" y="1600200"/>
            <a:ext cx="5333760" cy="5016240"/>
            <a:chOff x="1447920" y="1600200"/>
            <a:chExt cx="5333760" cy="5016240"/>
          </a:xfrm>
        </p:grpSpPr>
        <p:sp>
          <p:nvSpPr>
            <p:cNvPr id="117" name=""/>
            <p:cNvSpPr/>
            <p:nvPr/>
          </p:nvSpPr>
          <p:spPr>
            <a:xfrm>
              <a:off x="1447920" y="1600200"/>
              <a:ext cx="52578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정  의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7920" y="2516040"/>
              <a:ext cx="3124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분  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47920" y="3432240"/>
              <a:ext cx="3124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0000"/>
                  </a:solidFill>
                  <a:latin typeface="Tahoma"/>
                  <a:ea typeface="굴림"/>
                </a:rPr>
                <a:t>설  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47920" y="4348080"/>
              <a:ext cx="312408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0000"/>
                  </a:solidFill>
                  <a:latin typeface="Tahoma"/>
                  <a:ea typeface="굴림"/>
                </a:rPr>
                <a:t>구  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47920" y="5221440"/>
              <a:ext cx="312408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천  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47920" y="6095880"/>
              <a:ext cx="533376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발견과 발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4489560" y="3892680"/>
              <a:ext cx="3124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문 서 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199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19920" y="5715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71800" y="2133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71800" y="3048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71800" y="3962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71800" y="4800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715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0" y="2819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37339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4572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5486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388D-1C4E-452D-B073-D9CDC4B8875D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6-03T06:11:41Z</dcterms:modified>
  <cp:revision>288</cp:revision>
  <dc:subject/>
  <dc:title>제6장 데이터 웨어하우스의 관리</dc:title>
</cp:coreProperties>
</file>