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0EA-DB51-4E6C-A82F-31F63E1E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F05-BB9B-422C-953A-BC797069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3A3-8943-46DC-AE07-23CE7102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720-2117-4972-8110-0DCB8812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A3F0-3211-464B-91B2-0C7855D0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4BE9-1589-4ECE-AF17-72CF1391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603A-7AEE-4E14-A9BB-16DBF60B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9B01-C319-4DCB-8E89-81EBA9FA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7FA4-6F04-4B80-B832-8F29B4BC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F649-D5C8-4415-92FC-EFE70F92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105E-8C11-4068-9F2C-FF5D3E98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FF35-10A3-4CEF-8A2D-4F53C6A8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97EB-D176-4436-B13C-1D4EEDC1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F4E1-8284-4489-B47D-EEEC89AC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A014-4EEC-41F1-8969-367C5F13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BAFB-C663-40E0-881E-4DCBA8B4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00F2-8E60-4EFA-A1DC-1D38DD51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E4E-CB44-4990-A391-BD7F9968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11F-F092-4580-9A61-776D5267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804-5380-4CA8-A24B-2CAD4032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AD9-56DC-4CC1-94E9-3B155C8A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BBC-2BCE-48D1-87EF-1F8E109D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4C5-1457-4A02-BCC7-3A0E527C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8BD-1A57-46BE-8B0D-047D370F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2FB9-BA1C-462A-854A-72F5A8EE5BD6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61FA-5B41-414D-8372-C089FCA64533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6F70-D8C1-4D74-80B1-2ACA4D61E4E7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983C-FED2-49E3-9030-6B394F8A917C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정당화하고 최고 경영진의 지원을 얻는 방법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443-7E4E-4913-BA45-B45B471849A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0A111-468B-482D-9696-30BF71CD85E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능력 발전의 단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상태 보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심 설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보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 관계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에 의한 동적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183-4634-49CE-AF68-235F8F8A54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9FB08-F19B-491D-8EA5-DDEB9775CF1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웨어하우스에 무엇을 어떤 순서로 넣을지 어떻게 판단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데이터는 똑같이 가치있는 것이 아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가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정의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모델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분석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B8E-9FC3-4147-9323-C673E0C365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E41E5-9142-4CC9-82BA-C152B05EB10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과 자원 면에서 당신의 조직체 내에서 데이터 웨어하우스의 그림자는 얼마나 큰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자 데이터 웨어하우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매번 처음부터 시작하지 않아도 될 수 있도록 분석 조각들을 모으고 반복할 수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BD1-AE8C-4D58-8342-9CE927FC21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60B3C-AC4B-4D5F-B270-F2FFF3CD0B5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0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회의를 통제하게 만들 준비가 되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방침을 취하고 당신의 각본을 벗어날 각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상회의에서 발표하는 당신을 비디오 촬영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C182-1EBC-4C47-8135-BC98A8F119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7B3FA-47DB-4E8B-9117-A1D2A56AAB4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언제 수석 경영진을 납득시키기를 끝낼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이 회사 경영 과정에서 확고히 뿌리를 내린 때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767-0A3A-48C0-B59C-1083A12219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E9ACF-0CEE-4BB9-9359-8B5D36DAFB1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2: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들이 데이터 웨어하우스를 이용하면서 시간을 얼마나 낭비할 것인지에 대해 중역들이 걱정하는 것은 얼마나 타당성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몇 가지 역사적인 증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관계들이 변경시켰을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정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필요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지능형 에이전트 소프트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에 관한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A14-3826-42D4-89D6-DC4E67A207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6F3CC-91E9-487E-BCAE-AE0F6A2E3B1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가 단 한 그룹의 필요성에 의해 윤색되지 않도록 폭넓은 충분한 지원 기반을 갖추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근본적으로 많은 기업 노력들을 지원할 잠재력을 가진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400-890B-4E07-B82F-502BDD4B6F3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5D654-99B8-4576-944B-CA93A719DC6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의사결정에 개입된 중역들의 개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능력 그리고 스타일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어떻게 지식을 습득하고 다른 사람과 어떻게 상호작용을 하는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무엇이 그들을 지루하게 하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엇이 그들을 흥미롭게 하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들의 기분을 상하게 할 것인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만일 대답이 ‘아니오’라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사항들을 고려하는 것이 좋을 것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 일곱 가지의 중요하고도 뚜렷이 구분되는 지능의 종류 – 부분적으로 탁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976-BBAC-4F91-A093-BA186A920D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3FA19-CCAB-4692-8951-27749B28F5E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성의 특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석 경영진에게 프리젠테이션을 실시하기전에 제시해야 될 두 가지 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외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내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직관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체계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가지 스타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84E-0E16-4DF1-B5C0-3B131BD88B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98A21-5752-4BA6-810A-41AB859E72F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의 구성요소는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5-9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목표와의 연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반 설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종류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B65-139A-4BCB-9B6F-A5805AC291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DB1E8-43FC-4B63-9EFC-338FE16AA10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5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모든 것이 준비에 달려 있다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의 전에 지금 스스로 질문을 던지고 해답을 전개할 기회를 갖는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동안 데이터 웨어하우스에 관하여 일해온 많은 사람들의 경험을 반영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1AE-8D3B-4210-9721-7750156F3F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44F90-44F1-4A6D-AE0E-9C276EC26C6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단 그들이 필요성에 대해 의견 일치를 보일 경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고 경영진은 당신이 그것을 해낼 수 있다는 것을 어떻게 알 수 있을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대 시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출을 눈에 보이는 대로 수입 이내로 억제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 있는 제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공식 데이터의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성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69B-2E43-4F00-9C61-B3A11C5E77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2643A-27D5-4BFD-8034-BE36BDFD847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하나의 조직체로서 어떻게 사람들로 하여금 이러한 설비를 새롭고 혁신적으로 사용하도록 교육하고 부추길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사람들이 그것을 이용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공적인 데이터 웨어하우스는 지속적인 사용자 개입과 학습을 지원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575-9031-431A-99E0-7DE78409B7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A89E6-5BB1-4E18-867B-4FBC2230FEC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슨 무엇이 될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반에는 어떻게 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공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작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성취하기 위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잠재력 이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파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업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지지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과 전달이라는 두 가지 근본적인 업무 활동을 조화시키는 경영시스템을 지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A4F-469E-4D81-B593-A6404DCF911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99345-FB44-4AE0-9B6D-B3D2EA9B08A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의 데이터 웨어하우스 노력은 경영진에 의해 “단순히 또다른 형태의 정보 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“그들의 기업 전략 중 하나 이상의 부분을 성공적으로 시행할 때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잠재력의 이해와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에 근거한 의사 결정으로 전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 및 고객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재정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42C-EED0-425A-9043-88AF6108F3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AC04E-A5C7-443A-A8E9-67B83A65E2B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어떤 기업 추진 계획들을 지원할 수 있는지 어떻게 찾아낼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계획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 작성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역 보좌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재정비 계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문위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9AE-8646-41A8-9512-521DAA7927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C9D03-59D8-45EC-B141-B7F6E8265D8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왜 데이터 웨어하우스와 동일한 문장에서 “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전략적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이라는 단어를 쓸 때 주의를 기울어야 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이나 수입 증대에 연결시킬 방법을 찾을 수 없으면서 투자를 요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oo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체적이고 이미 합의된 전략적 목적을 달성하는 데 필요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또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53B-4883-4A94-9AB4-E2F5EF39EE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C8FD8-2795-47A1-96AD-759387FDB94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경영진은 당신의 프리젠테이션이 있기 전에 데이터 웨어하우스에 관하여 무엇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착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ea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는 조심해야 할 </a:t>
            </a:r>
            <a:r>
              <a:rPr b="0" lang="ko-KR" sz="2400" spc="-1" strike="noStrike">
                <a:solidFill>
                  <a:srgbClr val="3333cc"/>
                </a:solidFill>
                <a:latin typeface="Tahoma"/>
                <a:ea typeface="굴림"/>
              </a:rPr>
              <a:t>순환 주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란 무엇인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가지고 있으니 우리도 하나 갖추어야 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우리에게도 예전에 그런 것이 하나 있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런데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것이 효과는 없고 시간과 돈만 낭비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진은 아이디어의 순환 주기 중 어디에 위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0BB-E3F8-45A9-932B-A45ED03778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0F5E5-B6B9-4773-89C8-1054D0BC3E8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왜 납득시키기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자원들이 수직적 연통이 될 경향이 있는 세계에서 펼쳐지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수평적 게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힘과 능력을 부여하는 실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업무 문제점들에 영향을 주도록 도입될 수 있는 내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및 분석학의 여러 능력으로 구성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713-AEA5-4BB0-99DF-0244425A8B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E0FFD-0660-4677-AB01-CDA7A7DDCE7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른 사람들은 어떤 종류의 정당화를 이용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노력에 드는 비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보고서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그것을 하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업무에 관한 공통적인 시각과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간단한 도매 금융업 수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손실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F3E-1A3F-4DEE-BF7A-E452072795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21AC7-C46C-4E8F-95FF-E63AAF249A5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를 무엇이라고 설명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반 설비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그밖의 다른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을 여러 가지 기업 노력들을 지원하는 기반 설비로 생각하는 것이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유익할 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2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일관성 있는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모델을 제공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E4C-105A-4C3B-811E-B2FC66FC11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BDE4F-77CB-4648-AFF2-5D4EE9404A2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10T05:36:11Z</dcterms:modified>
  <cp:revision>219</cp:revision>
  <dc:subject/>
  <dc:title>No Slide Title</dc:title>
</cp:coreProperties>
</file>