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F152-DF27-4076-B844-38FE79CF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9BC-0F11-4ED7-9257-FA31B508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B369-1B63-4F75-B9F1-B8BA98FE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7EB2-3030-4987-8D44-CC94DD55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3D19-4578-4E6F-B01C-8353F6E0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8D96-76FE-4E81-9AB4-244C55E9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03DB-CE69-4557-BDBA-81BF7D09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A5B2-233A-4057-AFB4-3F1655D4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FC7E-F664-4B9C-9EFF-8A3C854A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3353-890E-4FBC-9D1C-857ABB67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CEC9-7F38-4E96-AC7B-DCE5B144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B3E-F1B7-4277-B522-A818AEB6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8946-ED46-42B8-900D-A53FD8B8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AB09-3074-4DA8-BF91-F0C3FB9A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07B9-7212-45B3-8ABF-62609980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00AE-6BF8-4784-819C-8A00CF2A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D6FC-49D0-43EC-B861-08BC314F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228-4937-4AEF-AB21-2D4C92A0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BD1-B793-4E3E-B491-8B1AF050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8F67-24C4-4DC5-8F54-952C0AF1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812-98F5-4047-AED3-B0AD94DE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FEE-3D67-4ADE-A60B-BDD72EBC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D5F-EF10-4625-8D5D-350EBFD3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7E9-E2F1-4617-97BF-918EAB12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38AF-C464-4C9D-8007-C51E3979AF3A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A3AE-E8EB-4825-8B11-E48DDF527BC9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48E6-EBAF-48F2-9D79-864B6E9CA246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19AD-ED76-4EB9-B393-E4D86840D6F2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5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추출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가공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로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ETT)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97E-7575-4A01-82A7-17EBD5139AC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85527-405F-4DBF-AA76-557A8DF7533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중요성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생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있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정확하고 신속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어려운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준화된 솔루션이 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많고 하드웨어가 열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질이 낮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620-54A7-41BE-AEAD-7390593F77D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1C7E6-9557-40AB-B11A-283B90F5F65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운영계 시스템과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동시에 구축할 경우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통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 구축 후에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잘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동시에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은 시간과 경비를 절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 데이터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공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에서 필요한 장표를 만드는 노력을 대폭 절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647F-0115-466A-B5F3-0C831C376B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56F50-32B6-458D-9684-0729F787FDB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K*Load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오프라인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으로 데이터 웨어하우스 서버에 있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파일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신속하게 로드하는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ED3-3F1B-4911-BD27-74B4FAEDD5F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97FBE-2584-4989-9821-EACF5FA0E6A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학적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지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년간의 졸업생의 성적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려 사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법론 연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7F27-D902-4C17-99C0-0670ACAA640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344D2-5EA3-4FAD-BB18-92D671D27CA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1. 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개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서버와 다른 별도의 서버에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의 데이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=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xtraction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nsformation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송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nsportation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약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의 종류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 주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양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로딩 속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질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과거 데이터의 형식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 조건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의 역할 등에 좌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7828-4C99-4C70-A2ED-8B7AEADBCEA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F1567-A832-4E5B-82E3-CA5C77DDC0E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형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필요한 최종 테이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원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imension tab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형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과 요약 테이블을 소스 시스템에서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의 로그 파일을 분석하여 사실 테이블과 요약 테이블을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F42-1C93-48AD-BCC7-ACBA436E0E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1A397-2AF6-4E9C-B8C6-3F2C3B001EB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초기 데이터와 주기적 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과거 수년간의 데이터를 보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초기 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itial dat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테이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gnetic Tap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태로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cord layout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형식을 지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산 시스템에서 중요한 것은 데이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적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 단위 또는 월 단위로 소스 시스템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넘어오는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많으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ff line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으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7BA-A260-4BDD-8BB1-86B6C7FBBC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92D7A-28F1-49F2-9E33-36F2C3BD13F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변환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ransformation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추출한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사실 테이블이 특정한 포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가 복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코드가 일치하지 않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DB(Hierarchical database)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BM IMS/DB : H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근간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올릴 때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주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1D9A-4426-49CF-90A3-F4D8CD2E95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41FFF-CF9B-4F4A-8410-0FDC411DE79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정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clean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들어가는 데이터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00%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D(dimension ID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해당하는 값이 차원 테이블과 상이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에 비정상적인 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이용한 데이터 정제 작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D(Operational Data Store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이용한 정제 작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변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제 작업을 용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 조건의 변화에 신속 대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의 문제에 신속 복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902-78DB-49E7-ABFE-F75AAC2292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4F9F9-0930-4C73-A874-F3E764653F2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방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ff Lin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오프라인 방식의 개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과 순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의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gnetic tap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시 주의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nlin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온라인 추출 방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pen 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오라클 분산 옵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racle distributed op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032-A94C-47F4-8F67-D597D46C2F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E386E-F418-466B-950B-719FCF4D8C8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방식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공유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al-tim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원하는 은행에서 많이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ferred I/O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로그 파일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특정한 데이터가 바뀌면 로그 파일을 만들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주기적으로 데이터를 가져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24A-36CB-4DF7-8C07-FB8D9F40AE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2E9AC-58F6-4837-8C50-C43099BD5E5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추출 데이터의 정확성 보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장하는 방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필드의 값을 합산 후 대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과 로드시 에러가 생길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에러의 원인을 밝히고 교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5DCD-082F-4ABA-A93B-83CD0F684F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09C46-F2C0-4446-BB2E-B0C350CCE40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4-16T05:27:39Z</dcterms:modified>
  <cp:revision>227</cp:revision>
  <dc:subject/>
  <dc:title>제5장 데이터의 추출, 가공, 로드(ETT)</dc:title>
</cp:coreProperties>
</file>