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C52E-7CF8-4ED2-A935-7EEF5FA6D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2D57-E135-4AE9-AF17-A5ACA419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B270-59BB-449B-9820-43A865EA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5AAA-8506-4E7D-B9B6-A2A562761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DEE9-612D-45DB-9CF7-AFAC9EBB9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801B-962E-44A2-AB61-AA745637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7D4B-D7CC-432C-98AF-670CEF5B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DEF3-8CF7-4BFC-9ECB-24A8B0C3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0CC5-659C-4092-BE2A-A666C31D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88D9-373A-4880-A85C-D0A1F2AD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D07B-1997-466F-9189-43E3D348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9498-6F9E-4143-8AD3-06FB4D56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45EE-432D-4347-8652-AAB9FF2D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C200-204C-4BB5-88A2-81787466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D0DA-3086-425E-A5D7-86CA1729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FA9F-BF4E-44E4-B6B1-03BDD5817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DC09-5397-4622-9450-99235715A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2F9B-5BF0-4773-8CE5-880D98C8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73C4-9BBF-454E-A5A2-BFE36EAB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5C54-AC5B-4007-92B2-9B415457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B416-167F-4702-9EEA-8E10F4D8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2F96-EA78-4C17-AE37-C73CF071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8A67-F451-474E-AD91-B19AD168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8AD2-C202-45E4-8AE1-5D46F8FD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F1D8-254E-439B-8B0A-BCB29ACEECE5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2F87-8B87-46E4-8BD9-6C0B1A6CA7E0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F43E-40B6-4674-BC3F-7BAE27370F67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A762-7803-423A-AC45-352968C134B7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oc.org/" TargetMode="External"/><Relationship Id="rId2" Type="http://schemas.openxmlformats.org/officeDocument/2006/relationships/hyperlink" Target="http://www.toc.org/" TargetMode="External"/><Relationship Id="rId3" Type="http://schemas.openxmlformats.org/officeDocument/2006/relationships/hyperlink" Target="http://www.toc.org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7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하드웨어와 데이터 웨어하우스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72C5-571C-4674-8BAE-2CE97944672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CD64AC-CF6F-4E75-8C2D-FDD5EC68A36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2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지원하는 데이터베이스의 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정한 하드웨어에만 사용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에 사용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에 사용되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능을 포함하는 범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방형 컴퓨터 기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CAAE-A8AC-473B-9B9B-D24949951EA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DF7801-1797-443D-8894-5ED114330B2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를 지원하는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기능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1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artition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테이블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ow(tuple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가 수억 건 이상 되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파티션과 인덱스 파티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파티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tatic partition and hash part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tar query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o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가 적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부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여 최종적으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시 꼭 필요하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797E-F123-4BD5-AF76-E0541215D77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A03801-C357-4A73-BB8F-D99E482E025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를 지원하는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기능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2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itmap ind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빠르고 인덱스 테이블도 작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arallel Loading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한꺼번에 많은 데이터를 로딩할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ortable table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 시스템의 테이블을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에서 바로 데이터베이스에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oadable Table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데이터베이스에 있는 기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3555-1567-43AB-BABE-A5E1B85040F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1DCAAC-2A3D-4384-9C50-6329124B750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3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PC-D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벤치 마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PC(Transaction Processing Performance Counc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1"/>
              </a:rPr>
              <a:t>www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2"/>
              </a:rPr>
              <a:t>tpc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3"/>
              </a:rPr>
              <a:t>.o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  <a:ea typeface="굴림"/>
              </a:rPr>
              <a:t>TPC-D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represents a broad range of decision support (DS) applications that require complex, long running queries against large complex data structures. (</a:t>
            </a:r>
            <a:r>
              <a:rPr b="0" i="1" lang="en-US" sz="2400" spc="-1" strike="noStrike">
                <a:solidFill>
                  <a:srgbClr val="3333cc"/>
                </a:solidFill>
                <a:latin typeface="Verdana"/>
                <a:ea typeface="굴림"/>
              </a:rPr>
              <a:t>Obsolete as of 4/6/9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CE11-F0F2-48D4-BE13-07416CEA2E8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0F2732-751E-4188-8C2F-730C043D126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PC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TPC-C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is an on-line transaction processing benchmark, Version 5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TPC-H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is an ad-hoc, decision support benchma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TPC-R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is a business reporting, decision support benchma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TPC-W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is a transactional web e-Commerce bench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9054-E9EF-44F1-A4EB-9F2106E8FE8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1222EE-47F1-46CF-B117-29706EA7895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7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장 하드웨어와 데이터베이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하드웨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데이터베이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PC-D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벤치마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1285-DD69-444F-A4E1-3B390E7E4C2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4B32E8-E66B-41FE-9574-9933CF14A41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와 하드웨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위한 하드웨어 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강력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 proces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원 기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calabili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스템의 안정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64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it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A657-D772-4D81-AA3D-26E5273124E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52C26-5C77-4E52-9ADF-853203F6642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MP(Symmetric Multi Process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여러 개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emory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및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isk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공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들은 서로 독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모리에 있는 프로그램과 데이터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hared bu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통해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공유 버스에서 충돌 현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해결방법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rossbar switch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하기 편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준에서 로드 분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디스크 액세스 시에 충돌이 일어나지 않는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1D75-31E4-4EDD-8A72-561CAF72AA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500155-F083-4458-8304-5FEFD13B133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PP(Massively Parallel Process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일반적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od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노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PU-Memory-Disk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한조가 되어 운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노드마다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데이터베이스가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노드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처럼 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P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여러 개의 노드로 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ternode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LAN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esh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ta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4B6C-DD47-4330-982D-D3BEDB612A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98507D-9C00-46E8-9982-D5E85717B19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MP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지역성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locality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disk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액세스하는 것은 빠르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mote disk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액세스는 느리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지역성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노드간 데이터의 분산 정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좋다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컬 디스크에 있는 데이터를 노드 내부에서 액세스하는 경우가 많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나쁘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원격 디스크의 데이터를 자주 액세스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분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내용과 액세스 형태를 고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4ACC-CA1B-4FF2-8279-8ECF0ADFCF4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DB074-E4D7-4512-81CC-E14D184428F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NUMA(Non-Uniform Memory Access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장점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P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UMA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메모리를 공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프로그램과 데이터는 동일한 주소 환경에 존재하므로 지역성이 매우 강하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나 데이터베이스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럼 하나만 존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9505-B369-45D3-ABF8-233CCCEDDA8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BC739F-7F54-45B0-9F38-D5967D94DC9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하드웨어를 도입할 때 고려사항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 server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하드웨어의 기능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검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하드웨어의 아키텍처만 보고 속단 금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자사의 데이터 양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Updat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ccess pattern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등을 고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여러 하드웨어를 비교 검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반적인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하드웨어 선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요건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대한 면밀한 고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안정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교육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75F9-5A29-4CD1-A99D-D43A4D44DE3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C07637-CFA8-44B6-9C28-F56C3E7C4C3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하드웨어의 용량 산정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iz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디스크 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3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페이지 테이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814% +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약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모리 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통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B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을 생성시 시간이 많이 걸리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에서 주기적으로 일어나는 중요한 프로세서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6047-E99B-4D37-85E2-B461547FC74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A6BEB3-BD1C-402B-BDDB-003E57B0BD2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5-14T05:22:52Z</dcterms:modified>
  <cp:revision>237</cp:revision>
  <dc:subject/>
  <dc:title>제6장 데이터 웨어하우스의 관리</dc:title>
</cp:coreProperties>
</file>