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391520" y="632448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20B676A7-C0FE-4A00-AF70-13F5790084EF}" type="slidenum">
              <a:rPr b="0" lang="ko-KR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571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제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13</a:t>
            </a: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장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병렬처리 시스템 운영체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62360" cy="127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8200">
            <a:off x="2207880" y="3877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컴퓨터 운영체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0840" y="3286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0800">
            <a:off x="5001120" y="388440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의 종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멀티프로세서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ultiprocessor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파이프라인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pipelin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열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array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벡터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vector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데이터플로우 컴퓨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dataflow compu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에 속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때에 따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간 상호연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connec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bus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bar switch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stage interconnection network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cub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표적인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캐쉬 일치성 문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che coherency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90920"/>
            <a:ext cx="65534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32400">
            <a:off x="6314760" y="3631680"/>
            <a:ext cx="69048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45200">
            <a:off x="3276720" y="3287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00000">
            <a:off x="2356920" y="355608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27816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51814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04956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4464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464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56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0040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6576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486400"/>
            <a:ext cx="137160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캐쉬 일치성 문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연산과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연산 과정을 여러 단계로 분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를 위한 하드웨어 유니트를 독립적으로 구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순차적으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동시에 동작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활용범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어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struc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mputa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010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648320"/>
            <a:ext cx="45720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파이프 라인 개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38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960" y="1386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760" y="19800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2160" y="25135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560" y="30470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762120"/>
            <a:ext cx="48765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어 파이프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010640" cy="25909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instruction cycle)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에서 각 단계의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F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D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해독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decod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및 피연산자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operand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EX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실행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execut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WB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실행 결과를 다시 메모리에 적재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write-back)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는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나의 명령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별로 소요 시간이 비슷하도록 시스템에 따라 구분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1, I2, I3, I4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는 각각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B, EX, ID, IF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단계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를 처리하는 하드웨어 유니트들이 같이 작동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228600" cy="1295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배열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개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처리 요소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PE : Processing Element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제어 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ntrol unit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제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매 클럭마다 처리 요소들이 동일한 작업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공간 병렬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spatial parallelism)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을 활용하기에 적합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) BSP, Illiac </a:t>
            </a:r>
            <a:r>
              <a:rPr b="1" lang="ko-KR" sz="2000" spc="-1" strike="noStrike">
                <a:solidFill>
                  <a:srgbClr val="000000"/>
                </a:solidFill>
                <a:latin typeface="Comic Sans MS"/>
              </a:rPr>
              <a:t>Ⅳ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AP-610, CM-2, MP-1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벡터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종의 파이프라인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벡터 레지스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ector register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간 병렬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emporal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STAR-100, Cray-1, Cray-X/MP, VP-200, SX-2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gie-Mell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학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ung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교수에 의해 제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배열 프로세서와 유사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처리 요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의 연결 방법이 고정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경계 프로세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undary processor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에서만 메모리 접근 가능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와 메모리 간의 병목현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ttleneck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114800"/>
            <a:ext cx="6858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05520"/>
            <a:ext cx="121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(n-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334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26708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620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65760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ystolic Array </a:t>
            </a:r>
            <a:r>
              <a:rPr b="0" lang="zh-CN" sz="1600" spc="-1" strike="noStrike">
                <a:solidFill>
                  <a:srgbClr val="3333cc"/>
                </a:solidFill>
                <a:latin typeface="Comic Sans MS"/>
              </a:rPr>
              <a:t>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 내에 복수 개의 연산 장치 존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연산 장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LU : Arithmetic Logic Un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매 사이클마다 하나 이상의 명령어들을 동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BM PC/Pent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5960" y="1691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760" y="33516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160" y="38851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560" y="49518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52388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990720"/>
            <a:ext cx="47246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uperscalar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구조에서의 명령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36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24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2224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760" y="2818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44186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560" y="5485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복수개의 프로세서를 두어 동시에 여러 작업을 수행할 수 있도록 구성된 컴퓨터 시스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데이타 플로우 컴퓨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폰노이만 구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Non Von Neumann Archit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피연산자들이 모두 이용 가능해지는 순간 명령어가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ring ru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되도록 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어 처리 순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 종속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 dependenc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플로우 그래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flow grap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표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ne-grain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수준의 병렬성 이용에 적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새로운 프로그래밍 언어와 컴파일러가 필요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상호연결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ing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Corssbar switch matr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Hypercu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ultistage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공유 버스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간 통신 버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us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동 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상호간 메시지 교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새로운 장치 추가 용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목현상 발생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의 단순성과 효율성으로 많이 사용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종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ng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다중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p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 및 효율성 증진 위해 여러 개의 버스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5715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960" y="4952880"/>
            <a:ext cx="482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4960" y="36878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06668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단일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838080"/>
            <a:ext cx="33530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중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5053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334120"/>
            <a:ext cx="12193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638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0574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67560" y="35877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4197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133720"/>
            <a:ext cx="0" cy="129528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0" cy="22860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97180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0" cy="182880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419720"/>
            <a:ext cx="0" cy="9144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스위치 행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각 메모리 모듈에 접근 가능한 독립적인 경로 제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모리 모듈의 수만큼 버스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두 개 이상의 메모리에 대한 동시 접근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rossbar-switch hardw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 버스와 메모리 버스 교차 지점에 위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충돌 해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flict resolu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 담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여러 프로세서들의 한 메모리 모듈에 대한 동시 접근 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의 고비용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대량의 병행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sive parallelis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이 요구되는 환경에 부적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1523880"/>
            <a:ext cx="67053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65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1709640"/>
            <a:ext cx="761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69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52640" y="2852640"/>
            <a:ext cx="68580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52640" y="37339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52640" y="53341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8440" y="315756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224316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8440" y="5638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8440" y="4038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38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62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55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55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760" y="300528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55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076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0760" y="54864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051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051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15160" y="19382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5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800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70680" y="4179960"/>
            <a:ext cx="108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4800" y="17748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0120" y="2503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990720"/>
            <a:ext cx="35049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크로스바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스위치 행렬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을 트리 구조 형태의 상호연결 네트워크로 연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자식 관계의 프로세서들간 통신 시간 빠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서로 다른 부모에 속한 프로세서들간 통신 시간 느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t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단점 보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상위 층에 노드들간의 통신 선로의 수 증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행렬 구조에 비해 구현 비용 낮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Machin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-5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523880"/>
            <a:ext cx="71625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676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616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3776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2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08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968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53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553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7692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7620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692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a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구조 상호연결 네트워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하이퍼 큐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매우 많은 프로세서들의 효과적인 상호연결 가능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ko-KR" sz="1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들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로 연결시키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하이퍼 큐브 구조의 효율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에서 모든 프로세서들간의 통신 경로의 길이는  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하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6-dimensional hyper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결 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65536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ntel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PSC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의 독립적 운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이 자신의 메모리를 별도로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들간의 통신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시지 전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essage pass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법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간 화일 전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oad balanc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146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146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38862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8862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1424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21337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04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1337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5053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34304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35053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63832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412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39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7339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56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37339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3148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51055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0195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51055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484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5867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532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838080"/>
            <a:ext cx="2743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하이퍼 큐브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다단계 상호연결 네트워크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치들이 여러 단계로 접속되어 구성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각 스위치들은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접속 모드로 구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직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ir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차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ro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ow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upp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동적 연결망 구성 가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메커니즘이 매우 복잡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1676520"/>
            <a:ext cx="70106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19810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7180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96252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49528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4382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7672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429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4290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2920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816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3200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1066680"/>
            <a:ext cx="41148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단계 상호연결 네트워크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를 위한 선행 작업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체적인 병렬수행 가능 부분 추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2971800"/>
            <a:ext cx="65534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3200400"/>
            <a:ext cx="24382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876920"/>
            <a:ext cx="24382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3962520"/>
            <a:ext cx="2438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4419720"/>
            <a:ext cx="24382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86760" y="5715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20040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9920" y="487692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46483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51460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프로그램의 병렬성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명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licit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가 병렬 수행 가능 부분들을 명시하도록 하는 기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요구사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밍 언어에 병렬성 지원을 위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construc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가 제공되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기능 확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램의 모든 병렬 수행 가능 부분들의 검출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을 잘못 검출할 가능성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디버깅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정확성 증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rrectness proof, verifica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실현 가능성에 한계점 노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자동 검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utomatic detection of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는 순차적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가 프로그램을 분석하여 병렬 수행  가능 부분들을 자동 검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계어 코드 생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분석 및 검출 부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의 부담 전혀 없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에서 이루어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루프 분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oop distribu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지정된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모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간에 종속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ependenc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이 존재하지 않는 경우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을 병렬 실행시킬 수 있도록 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루프 영역에 대한 병렬성 검출의 중요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루프 영역이 프로그램의 총 실행 시간의 대부분을 차지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장들간의 종속성” 의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한 문장의 실행 결과가 다른 문장의 실행에 영향을 미칠 수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있는가 하는 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2096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1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08480" y="2057400"/>
            <a:ext cx="233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1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1] + C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2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2] + C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3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3] + C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4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4] + C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5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5] + C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990720"/>
            <a:ext cx="2743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800600"/>
            <a:ext cx="6400800" cy="7621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는 상호 종속성이 존재하지 않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때문에 이들의 병렬 실행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4800600"/>
            <a:ext cx="228600" cy="7621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1]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2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3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A[i-1] + A[i-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분배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이 불가능한 경우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4800600"/>
            <a:ext cx="6400800" cy="9144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 종속성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앞 문장의 실행 결과가 다음 문장의 실행에 영향을 미치게 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루프의 분배 불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876920"/>
            <a:ext cx="228600" cy="7617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트리 높이 축소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tree height reduci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상의 하나의 문장 내에서 병렬 수행 가능 부분들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검출하고 이를 기계어 코드의 생성에 반영시키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대수식에서 만족되는 교환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분 법칙 등 이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주의 사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환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배분 법칙의 성립 여부 확인 필요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컴퓨터 시스템과 같은 유한 상태 기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nal state machine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서는 결합 법칙과 배분 법칙이 성립하지 않는 경우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경우 트리 높이 축소 기법의 사용 불가능하게 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523880"/>
            <a:ext cx="68580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334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533412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33412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752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518184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43828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5530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28600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905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228600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914400"/>
            <a:ext cx="502920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ose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48320" y="1295280"/>
            <a:ext cx="323352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3240" y="14479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22860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52720" y="228600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0240" y="3352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66920" y="33526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93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051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27" idx="0"/>
          </p:cNvCxnSpPr>
          <p:nvPr/>
        </p:nvCxnSpPr>
        <p:spPr>
          <a:xfrm flipH="1">
            <a:off x="2823840" y="1773360"/>
            <a:ext cx="47520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5"/>
            <a:endCxn id="528" idx="0"/>
          </p:cNvCxnSpPr>
          <p:nvPr/>
        </p:nvCxnSpPr>
        <p:spPr>
          <a:xfrm>
            <a:off x="3568320" y="1773360"/>
            <a:ext cx="47556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7" idx="3"/>
            <a:endCxn id="529" idx="0"/>
          </p:cNvCxnSpPr>
          <p:nvPr/>
        </p:nvCxnSpPr>
        <p:spPr>
          <a:xfrm flipH="1">
            <a:off x="228996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5"/>
            <a:endCxn id="530" idx="0"/>
          </p:cNvCxnSpPr>
          <p:nvPr/>
        </p:nvCxnSpPr>
        <p:spPr>
          <a:xfrm>
            <a:off x="295884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9" idx="3"/>
            <a:endCxn id="531" idx="0"/>
          </p:cNvCxnSpPr>
          <p:nvPr/>
        </p:nvCxnSpPr>
        <p:spPr>
          <a:xfrm flipH="1">
            <a:off x="1909080" y="3677760"/>
            <a:ext cx="24660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5"/>
            <a:endCxn id="532" idx="0"/>
          </p:cNvCxnSpPr>
          <p:nvPr/>
        </p:nvCxnSpPr>
        <p:spPr>
          <a:xfrm>
            <a:off x="2425680" y="3677760"/>
            <a:ext cx="170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6129360" y="16002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67240" y="24382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4382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00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244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342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486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39" idx="3"/>
            <a:endCxn id="540" idx="0"/>
          </p:cNvCxnSpPr>
          <p:nvPr/>
        </p:nvCxnSpPr>
        <p:spPr>
          <a:xfrm flipH="1">
            <a:off x="555732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0"/>
          </p:cNvCxnSpPr>
          <p:nvPr/>
        </p:nvCxnSpPr>
        <p:spPr>
          <a:xfrm flipH="1">
            <a:off x="510048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0" idx="5"/>
            <a:endCxn id="543" idx="0"/>
          </p:cNvCxnSpPr>
          <p:nvPr/>
        </p:nvCxnSpPr>
        <p:spPr>
          <a:xfrm>
            <a:off x="569232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5"/>
            <a:endCxn id="541" idx="0"/>
          </p:cNvCxnSpPr>
          <p:nvPr/>
        </p:nvCxnSpPr>
        <p:spPr>
          <a:xfrm>
            <a:off x="645480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4" idx="0"/>
          </p:cNvCxnSpPr>
          <p:nvPr/>
        </p:nvCxnSpPr>
        <p:spPr>
          <a:xfrm flipH="1">
            <a:off x="662400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1" idx="5"/>
            <a:endCxn id="545" idx="0"/>
          </p:cNvCxnSpPr>
          <p:nvPr/>
        </p:nvCxnSpPr>
        <p:spPr>
          <a:xfrm>
            <a:off x="721656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971800" y="762120"/>
            <a:ext cx="32004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높이 축소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4440" y="1295280"/>
            <a:ext cx="32338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5181480"/>
            <a:ext cx="6096240" cy="10670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(A + B) + C) + D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(A + B) + (C +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트리상의 같은 레벨에 있는 연산을 병렬로 실행하는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연산 단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프로그램의 실행 시간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334120"/>
            <a:ext cx="228600" cy="838080"/>
          </a:xfrm>
          <a:custGeom>
            <a:avLst/>
            <a:gdLst>
              <a:gd name="textAreaLeft" fmla="*/ 35640 w 228600"/>
              <a:gd name="textAreaRight" fmla="*/ 200160 w 228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47920" y="4038480"/>
            <a:ext cx="6248160" cy="1295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 wait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규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우선 프로그램 상에 조건부 종속성을 갖는 문장들을 병렬 실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추후에 이에 대한 검토를 하도록 하는 방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유휴 프로세서들 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= A + B * C;                           //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K = 100) THEN L = 10;       //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= L + A * 3;                           // 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65760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ever wait”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규칙 활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5486400"/>
            <a:ext cx="5943600" cy="6858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①과 문장 ③을 우선 병렬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②의 실행 결과에 따라 문장 ③의 재실행 여부 결정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54864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parbegin/paren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 내 특정 블럭의 문장들을 병렬로 실행시키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사용되는 키워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여러 개의 병렬 제어 흐름으로 분열시키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시 하나의 제어 흐름으로 병합하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4495680"/>
            <a:ext cx="624852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cf)  begin-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블럭 내의 문장들을 순서대로 실행하도록 지시하는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7920" y="2133720"/>
            <a:ext cx="6553080" cy="373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236232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A +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2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4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반 프로그래밍 언어에서 구분자 역할로 사용되는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세미콜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을 키워드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”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로 대치하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앞 뒤 문장이 병렬로 실행되도록 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2057400"/>
            <a:ext cx="6553080" cy="2514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51460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 and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029200"/>
            <a:ext cx="6553080" cy="83808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와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병렬 프로그램을 표현하는 능력 면에서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ork/join/quit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스가 프로그램상의 임의의 지점에서 새로운 프로세스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생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합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arg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킬 수 있도록 지원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명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fork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abel) w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로 지정된 지점부터 실행하는 새로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스를 생성 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명령 이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두 프로세스가 병렬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qu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현재 이 명령을 실행한 프로세스를 종료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join t,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정수형 변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의 값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만큼 감소시키고 그 결과가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지점으로 분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branc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는 명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리불가능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divisib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이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724280" y="2743200"/>
            <a:ext cx="33530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743200"/>
            <a:ext cx="3352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9144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295280"/>
            <a:ext cx="624852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를 사용하여 코딩한 경우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를사용하여 코딩한 경우의 비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28954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7120" y="46483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99200" y="40384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160" y="32446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6828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7476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0" y="49528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419520" y="45720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9040" y="4572000"/>
            <a:ext cx="150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30880" y="3657600"/>
            <a:ext cx="3650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15040" y="2895480"/>
            <a:ext cx="38088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07120" y="53341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35720" y="502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5720" y="3276720"/>
            <a:ext cx="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16680" y="5942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a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그램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160" y="5942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다이어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2286000"/>
            <a:ext cx="5181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parbegin-parend </a:t>
            </a: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블록 구조를 사용한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447920" y="2286000"/>
            <a:ext cx="6248160" cy="26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28195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160020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rk-join-qui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언어 구조를 이용한 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8560" y="3936960"/>
            <a:ext cx="52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447920" y="2286000"/>
            <a:ext cx="6553080" cy="3429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11430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2514600"/>
            <a:ext cx="4343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:    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:     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:    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5:     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모든 프로세서들이 하나의 공유 메모리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hared memor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메모리 내의 하나의 운영체제가 시스템 전체 자원 관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witching 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들간 메모리 접근 경쟁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, IBM 3090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목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유 메모리 접근 경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제 해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성능 저하 방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기능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3352680"/>
            <a:ext cx="594360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0040" y="2971800"/>
            <a:ext cx="594360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3352680"/>
            <a:ext cx="42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ments shared variable s by i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he original value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witching hardware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여러 프로세서들로부터 수행되는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에 대해 필요한 정보 보존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적절한 값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제로 공유 변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값 증가 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실행한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값들을 모두 모아서 한 번에 증가시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90720" y="1752480"/>
            <a:ext cx="7315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2520" y="3200400"/>
            <a:ext cx="1431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1337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297180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46483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38680" y="538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24382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1080" y="403848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184600">
            <a:off x="2000520" y="423180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fetch-and-add(s,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588200">
            <a:off x="2061360" y="266652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67800">
            <a:off x="2017080" y="31996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3505320"/>
            <a:ext cx="2149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94240" y="37339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00040" y="405288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K = k1 + k2 +         +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517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1143000"/>
            <a:ext cx="39621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의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143000" y="2057400"/>
            <a:ext cx="33526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990720"/>
            <a:ext cx="563904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프로그램 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20968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2057400"/>
            <a:ext cx="335304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2209680"/>
            <a:ext cx="2849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Comic Sans MS"/>
              </a:rPr>
              <a:t>forall</a:t>
            </a:r>
            <a:r>
              <a:rPr b="1" lang="ko-KR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1676520"/>
            <a:ext cx="33530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루프 프로그램 세그먼트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0200" y="3962520"/>
            <a:ext cx="5943600" cy="1828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114800"/>
            <a:ext cx="2666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hile (k &lt;= 100)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k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k] + C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358128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()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을 사용하여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2971800"/>
            <a:ext cx="1981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114800"/>
            <a:ext cx="19051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의 수에 무관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 동적 추가 할당에 무관하게 정확한 결과 출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들의 상대적인 진행 속도에 무관하게 결과 얻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단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칭 하드웨어 등의 요구로 추가 비용 소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 운영체제의 기능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일반 다중 프로그래밍 시스템의 운영체제 기능 포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ask assignment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load balancing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의 고장 및 복구에 따른 시스템 재구성 기능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reconfiguration capabil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 프로세스 또는 태스크 관리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 생성시 커널 자료 구조 갱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할된 병렬 태스크들의 재병합시 동기화 위한 메커니즘 지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운영체제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매스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슬레이브 구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master-slave organiza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들 중  하나를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로 지정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2425680"/>
            <a:ext cx="609624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 및 운영체제의 실행 권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들만을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1878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에 고부하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장시 신뢰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부하 시에 시스템의 프로세서 활용도 저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0200" y="4940280"/>
            <a:ext cx="6400800" cy="83808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고부하의 단순한 해결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aster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에 입출력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/O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lave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들에 연산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mpute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166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9160" y="1752480"/>
            <a:ext cx="60948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69160" y="28195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69160" y="46483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200400"/>
            <a:ext cx="685800" cy="685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3886200"/>
            <a:ext cx="1143000" cy="762120"/>
          </a:xfrm>
          <a:prstGeom prst="upArrowCallout">
            <a:avLst>
              <a:gd name="adj1" fmla="val 37497"/>
              <a:gd name="adj2" fmla="val 3749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02880" y="53989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89280" y="48052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676520"/>
            <a:ext cx="1371600" cy="3809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1055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73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3276720"/>
            <a:ext cx="1295640" cy="457200"/>
          </a:xfrm>
          <a:prstGeom prst="wedgeRoundRectCallout">
            <a:avLst>
              <a:gd name="adj1" fmla="val -72060"/>
              <a:gd name="adj2" fmla="val 10138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8160" y="334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590920"/>
            <a:ext cx="1295280" cy="457200"/>
          </a:xfrm>
          <a:prstGeom prst="wedgeRoundRectCallout">
            <a:avLst>
              <a:gd name="adj1" fmla="val 58087"/>
              <a:gd name="adj2" fmla="val 98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60720" y="2629080"/>
            <a:ext cx="122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838080"/>
            <a:ext cx="38102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Master-slave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독립 운영체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eparate executives)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내의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(Processing El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자 자신의 운영체제 탑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컴퓨터 시스템의 경우와 동일하게 운영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을 통한 시스템 성능 향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의 이용을 위한 구조로 사용 곤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신뢰성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메모리 접근 경쟁 발생 확률 적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 재구성이 복잡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3200400"/>
            <a:ext cx="5105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09680" y="2133720"/>
            <a:ext cx="60984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17524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4572000"/>
            <a:ext cx="60984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4952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45720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629400" y="2666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3809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712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9112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20574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257800" y="51814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1981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60020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19051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410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838080"/>
            <a:ext cx="25905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독립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447920"/>
            <a:ext cx="64008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518184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8288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9810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86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2590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1055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914400"/>
            <a:ext cx="472464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ight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대칭적 운영체제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ymmetrical OS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의 단점 보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어느 프로세서나 운영체제 실행 권한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임의의 순간에 운영체제 실행중인 프로세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시스템 호출에 대한 서비스 제공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자원의 관리 등의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신뢰성 매우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자원 활용도 높일 수 있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한 프로세스에 대한 병렬처리 요구시 여러 프로세서들의 공동 작업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990720" y="1295280"/>
            <a:ext cx="71625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124080"/>
            <a:ext cx="5410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1523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100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0572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24382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384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24382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28564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84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5053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82880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05520" y="5638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5" idx="0"/>
            <a:endCxn id="703" idx="3"/>
          </p:cNvCxnSpPr>
          <p:nvPr/>
        </p:nvCxnSpPr>
        <p:spPr>
          <a:xfrm flipV="1">
            <a:off x="1630080" y="2360160"/>
            <a:ext cx="516600" cy="1145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9" name=""/>
          <p:cNvCxnSpPr>
            <a:stCxn id="703" idx="7"/>
            <a:endCxn id="704" idx="2"/>
          </p:cNvCxnSpPr>
          <p:nvPr/>
        </p:nvCxnSpPr>
        <p:spPr>
          <a:xfrm flipV="1">
            <a:off x="2577600" y="1790280"/>
            <a:ext cx="1156680" cy="19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434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1905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5880" y="54864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43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7" idx="2"/>
            <a:endCxn id="706" idx="5"/>
          </p:cNvCxnSpPr>
          <p:nvPr/>
        </p:nvCxnSpPr>
        <p:spPr>
          <a:xfrm flipH="1" flipV="1">
            <a:off x="2577240" y="5484240"/>
            <a:ext cx="1156680" cy="1926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5" name=""/>
          <p:cNvCxnSpPr>
            <a:stCxn id="706" idx="2"/>
            <a:endCxn id="715" idx="4"/>
          </p:cNvCxnSpPr>
          <p:nvPr/>
        </p:nvCxnSpPr>
        <p:spPr>
          <a:xfrm flipH="1" flipV="1">
            <a:off x="1561680" y="3962160"/>
            <a:ext cx="49608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6" name=""/>
          <p:cNvCxnSpPr>
            <a:stCxn id="705" idx="6"/>
            <a:endCxn id="708" idx="6"/>
          </p:cNvCxnSpPr>
          <p:nvPr/>
        </p:nvCxnSpPr>
        <p:spPr>
          <a:xfrm>
            <a:off x="7315200" y="2171880"/>
            <a:ext cx="2160" cy="3124800"/>
          </a:xfrm>
          <a:prstGeom prst="curvedConnector5">
            <a:avLst>
              <a:gd name="adj1" fmla="val 36100000"/>
              <a:gd name="adj2" fmla="val 49994"/>
              <a:gd name="adj3" fmla="val 3610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3124080" y="83808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대칭적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주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는 분산 시스템 구조로 보는 경향 많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체적인 병렬처리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ipelin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rray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ystolic array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ataflow compute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검출 기법들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지원하는 언어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명시적인 병렬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자동 검출 기법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성 지원을 위한 운영체제의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처리 시스템을 위한 운영체제가 가져야 할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중 프로세서들에 대한 관리 및 태스크 할당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재구성 등의 기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들 생성시 관리 기능 및 생성된 병렬 태스크들의 재병합시 동기화 지원 기능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운영체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기타 병렬처리 시스템 분류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분류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스측에 전달되는 명령어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ruction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과      자료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ta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을 기준으로 분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체적인 구조에 따라 분류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SD(Sing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프로세서에 하나의 연산 장치를 두어 명령 처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칼라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calar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실상 병렬처리 개념을 갖지 않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MD(Sing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가 서로 다른 데이터에 대해 지정된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벡터 연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행렬 곱셈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역행렬 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화상 처리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, ILLIAC </a:t>
            </a:r>
            <a:r>
              <a:rPr b="1" lang="ko-KR" sz="1800" spc="-1" strike="noStrike">
                <a:solidFill>
                  <a:srgbClr val="000000"/>
                </a:solidFill>
                <a:latin typeface="Comic Sans MS"/>
              </a:rPr>
              <a:t>Ⅳ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MPP, DAP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SD(Multip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자료 흐름에 대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연산 장치들이 서로 다른 종류의 연산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가 많지 않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MD(Multip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억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입출력 처리 장치 등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호 연결망으로 묶어 사용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서로 다른 데이터에 대해 서로 다른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m*, nCUBE, 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1:32:34Z</dcterms:created>
  <dc:creator>엄영익</dc:creator>
  <dc:description/>
  <dc:language>en-US</dc:language>
  <cp:lastModifiedBy>dwa2007</cp:lastModifiedBy>
  <dcterms:modified xsi:type="dcterms:W3CDTF">2009-06-23T07:32:42Z</dcterms:modified>
  <cp:revision>1052</cp:revision>
  <dc:subject/>
  <dc:title>슬라이드 제목 없음</dc:title>
</cp:coreProperties>
</file>