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7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73.xml.rels" ContentType="application/vnd.openxmlformats-package.relationships+xml"/>
  <Override PartName="/ppt/notesSlides/notesSlide70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64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6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5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63.xml.rels" ContentType="application/vnd.openxmlformats-package.relationships+xml"/>
  <Override PartName="/ppt/slides/_rels/slide5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</p:sldIdLst>
  <p:sldSz cx="10098088" cy="6858000"/>
  <p:notesSz cx="6858000" cy="96583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6858000" cy="965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hdr"/>
          </p:nvPr>
        </p:nvSpPr>
        <p:spPr>
          <a:xfrm>
            <a:off x="-3240" y="0"/>
            <a:ext cx="2975040" cy="4809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i="1" lang="ko-KR" sz="1000" spc="-1" strike="noStrike">
                <a:solidFill>
                  <a:srgbClr val="000000"/>
                </a:solidFill>
                <a:latin typeface="Arial"/>
                <a:ea typeface="돋움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3"/>
          </p:nvPr>
        </p:nvSpPr>
        <p:spPr>
          <a:xfrm>
            <a:off x="3886200" y="0"/>
            <a:ext cx="2975040" cy="4809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  <a:defRPr b="0" i="1" lang="ko-KR" sz="1000" spc="-1" strike="noStrike">
                <a:solidFill>
                  <a:srgbClr val="000000"/>
                </a:solidFill>
                <a:latin typeface="Arial"/>
                <a:ea typeface="돋움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i="1" lang="ko-KR" sz="1000" spc="-1" strike="noStrike">
                <a:solidFill>
                  <a:srgbClr val="000000"/>
                </a:solidFill>
                <a:latin typeface="Arial"/>
                <a:ea typeface="돋움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sldImg"/>
          </p:nvPr>
        </p:nvSpPr>
        <p:spPr>
          <a:xfrm>
            <a:off x="781200" y="747360"/>
            <a:ext cx="5295600" cy="3592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body"/>
          </p:nvPr>
        </p:nvSpPr>
        <p:spPr>
          <a:xfrm>
            <a:off x="914400" y="4586400"/>
            <a:ext cx="5029200" cy="43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ftr" idx="4"/>
          </p:nvPr>
        </p:nvSpPr>
        <p:spPr>
          <a:xfrm>
            <a:off x="-3240" y="9177480"/>
            <a:ext cx="2975040" cy="4809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  <a:defRPr b="0" i="1" lang="ko-KR" sz="1000" spc="-1" strike="noStrike">
                <a:solidFill>
                  <a:srgbClr val="000000"/>
                </a:solidFill>
                <a:latin typeface="Arial"/>
                <a:ea typeface="돋움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i="1" lang="ko-KR" sz="1000" spc="-1" strike="noStrike">
                <a:solidFill>
                  <a:srgbClr val="000000"/>
                </a:solidFill>
                <a:latin typeface="Arial"/>
                <a:ea typeface="돋움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 type="sldNum" idx="5"/>
          </p:nvPr>
        </p:nvSpPr>
        <p:spPr>
          <a:xfrm>
            <a:off x="3886200" y="9177480"/>
            <a:ext cx="2975040" cy="4809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  <a:defRPr b="0" i="1" lang="ko-KR" sz="1000" spc="-1" strike="noStrike">
                <a:solidFill>
                  <a:srgbClr val="000000"/>
                </a:solidFill>
                <a:latin typeface="Arial"/>
                <a:ea typeface="돋움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343B9A01-7698-496E-A345-BC069DEEC147}" type="slidenum">
              <a:rPr b="0" i="1" lang="ko-KR" sz="1000" spc="-1" strike="noStrike">
                <a:solidFill>
                  <a:srgbClr val="000000"/>
                </a:solidFill>
                <a:latin typeface="Arial"/>
                <a:ea typeface="돋움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sldImg"/>
          </p:nvPr>
        </p:nvSpPr>
        <p:spPr>
          <a:xfrm>
            <a:off x="781200" y="747720"/>
            <a:ext cx="5295600" cy="3592440"/>
          </a:xfrm>
          <a:prstGeom prst="rect">
            <a:avLst/>
          </a:prstGeom>
          <a:ln w="0">
            <a:noFill/>
          </a:ln>
        </p:spPr>
      </p:sp>
      <p:sp>
        <p:nvSpPr>
          <p:cNvPr id="1291" name="PlaceHolder 2"/>
          <p:cNvSpPr>
            <a:spLocks noGrp="1"/>
          </p:cNvSpPr>
          <p:nvPr>
            <p:ph type="body"/>
          </p:nvPr>
        </p:nvSpPr>
        <p:spPr>
          <a:xfrm>
            <a:off x="914400" y="4586400"/>
            <a:ext cx="5029200" cy="43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4280" bIns="44280" anchor="t">
            <a:noAutofit/>
          </a:bodyPr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optimizer mode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에 따라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execution plan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이 달라질 수도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index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를 사용하지 않고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full scan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하는 이유는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optimizer mode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가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choose(default)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이기 때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7.2.X : optimizer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가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OLTP,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소량의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data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에 맞게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execution plan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작성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: COM_IDX1 index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를 사용할 수도 있다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7.3.X : data warehousing, batch processing,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대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: choose, all_rows(DWH), full sc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결합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index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의 첫번째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column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이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절에서 상수와 비교되어야 해당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index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사용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nested loop : driving table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의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size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를 고려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작을 수록 유리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같은 조건이면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from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절의 뒷쪽이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driving tab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sort merge :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스스로 일의 양을 줄일수 있는 경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hash join :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연결고리를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hash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함수로 사용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, memory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상에서 이루어져 속도 향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대용량에 유리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(only 7.3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PlaceHolder 1"/>
          <p:cNvSpPr>
            <a:spLocks noGrp="1"/>
          </p:cNvSpPr>
          <p:nvPr>
            <p:ph type="sldImg"/>
          </p:nvPr>
        </p:nvSpPr>
        <p:spPr>
          <a:xfrm>
            <a:off x="781200" y="747720"/>
            <a:ext cx="5295600" cy="3592440"/>
          </a:xfrm>
          <a:prstGeom prst="rect">
            <a:avLst/>
          </a:prstGeom>
          <a:ln w="0">
            <a:noFill/>
          </a:ln>
        </p:spPr>
      </p:sp>
      <p:sp>
        <p:nvSpPr>
          <p:cNvPr id="1309" name="PlaceHolder 2"/>
          <p:cNvSpPr>
            <a:spLocks noGrp="1"/>
          </p:cNvSpPr>
          <p:nvPr>
            <p:ph type="body"/>
          </p:nvPr>
        </p:nvSpPr>
        <p:spPr>
          <a:xfrm>
            <a:off x="914400" y="4586400"/>
            <a:ext cx="5029200" cy="43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4280" bIns="44280" anchor="t">
            <a:noAutofit/>
          </a:bodyPr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A, C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의 순서로하면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nested loop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의 수가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480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번에서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40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번으로 줄어든다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PlaceHolder 1"/>
          <p:cNvSpPr>
            <a:spLocks noGrp="1"/>
          </p:cNvSpPr>
          <p:nvPr>
            <p:ph type="sldImg"/>
          </p:nvPr>
        </p:nvSpPr>
        <p:spPr>
          <a:xfrm>
            <a:off x="781200" y="747720"/>
            <a:ext cx="5295600" cy="3592440"/>
          </a:xfrm>
          <a:prstGeom prst="rect">
            <a:avLst/>
          </a:prstGeom>
          <a:ln w="0">
            <a:noFill/>
          </a:ln>
        </p:spPr>
      </p:sp>
      <p:sp>
        <p:nvSpPr>
          <p:cNvPr id="1293" name="PlaceHolder 2"/>
          <p:cNvSpPr>
            <a:spLocks noGrp="1"/>
          </p:cNvSpPr>
          <p:nvPr>
            <p:ph type="body"/>
          </p:nvPr>
        </p:nvSpPr>
        <p:spPr>
          <a:xfrm>
            <a:off x="914400" y="4586400"/>
            <a:ext cx="5029200" cy="43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4280" bIns="44280" anchor="t">
            <a:noAutofit/>
          </a:bodyPr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group by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절로 인하여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distinct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는 무의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optimizer_mode=choose(default)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이면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, analyze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된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table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과 그렇지 않은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table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이 함께 사용될 때 일관성 있는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execution plan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을 작성하지 못함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14page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에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optimizer_mode=first_rows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라고 지정하여 사용하는 것이 좋다고 되어 있으나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업무의 성격에 따라 다르게 사용하는 것이 좋다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.(OLTP:first_rows, BATCH:all_row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7.3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에서의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optimizer mode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가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choose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이면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통계정보의 유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무에 따라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CBO/RBO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결정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통계정보는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analyze table compute/estimate/delete statistic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RBO : 20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여가지의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rule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에 따라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rank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analyze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시에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temp tablespace size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가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table size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의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배정도 되어야 다른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appl.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에 영향을 주지 않는다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PlaceHolder 1"/>
          <p:cNvSpPr>
            <a:spLocks noGrp="1"/>
          </p:cNvSpPr>
          <p:nvPr>
            <p:ph type="body"/>
          </p:nvPr>
        </p:nvSpPr>
        <p:spPr>
          <a:xfrm>
            <a:off x="914400" y="4586400"/>
            <a:ext cx="5029200" cy="43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4280" bIns="44280" anchor="t">
            <a:noAutofit/>
          </a:bodyPr>
          <a:p>
            <a:pPr>
              <a:spcBef>
                <a:spcPts val="374"/>
              </a:spcBef>
              <a:buClr>
                <a:srgbClr val="000000"/>
              </a:buClr>
              <a:buFont typeface="Symbol" charset="2"/>
              <a:buChar char="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index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를 구성하는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column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의 일부만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절에 나타나고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일부가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order by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절에 나타나는 경우에도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index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를 사용하는가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Symbol" charset="2"/>
              <a:buChar char="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order by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절에서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index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의 첫번째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column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을 사용하면 해당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index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를 사용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Symbol" charset="2"/>
              <a:buChar char="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절과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order by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절에 나타나는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column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이 모두 결합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index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를 구성하므로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order by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절에 의한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sorting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을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index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를 사용하여 해결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Symbol" charset="2"/>
              <a:buChar char="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결합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index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에서의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column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의 수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: 5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개까지는 정확하게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match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하여 찾아내나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그 이후는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range scan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사용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Symbol" charset="2"/>
              <a:buChar char="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order by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에서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sorting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을 줄이는 방법이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tuning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의 기본 원리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PlaceHolder 2"/>
          <p:cNvSpPr>
            <a:spLocks noGrp="1"/>
          </p:cNvSpPr>
          <p:nvPr>
            <p:ph type="sldImg"/>
          </p:nvPr>
        </p:nvSpPr>
        <p:spPr>
          <a:xfrm>
            <a:off x="781200" y="747720"/>
            <a:ext cx="5295600" cy="35924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 type="sldImg"/>
          </p:nvPr>
        </p:nvSpPr>
        <p:spPr>
          <a:xfrm>
            <a:off x="781200" y="747720"/>
            <a:ext cx="5295600" cy="3592440"/>
          </a:xfrm>
          <a:prstGeom prst="rect">
            <a:avLst/>
          </a:prstGeom>
          <a:ln w="0">
            <a:noFill/>
          </a:ln>
        </p:spPr>
      </p:sp>
      <p:sp>
        <p:nvSpPr>
          <p:cNvPr id="1297" name="PlaceHolder 2"/>
          <p:cNvSpPr>
            <a:spLocks noGrp="1"/>
          </p:cNvSpPr>
          <p:nvPr>
            <p:ph type="body"/>
          </p:nvPr>
        </p:nvSpPr>
        <p:spPr>
          <a:xfrm>
            <a:off x="914400" y="4586400"/>
            <a:ext cx="5029200" cy="43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4280" bIns="44280" anchor="t">
            <a:noAutofit/>
          </a:bodyPr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전체범위처리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: table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전체를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search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해야 원하는 결과를 얻을 수 있다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: batch processing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에 유리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. min, max, sum, group by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부분범위처리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: OLT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이 과정에서는  부분범위처리에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focu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운반단위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: array s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sldImg"/>
          </p:nvPr>
        </p:nvSpPr>
        <p:spPr>
          <a:xfrm>
            <a:off x="781200" y="747720"/>
            <a:ext cx="5295600" cy="3592440"/>
          </a:xfrm>
          <a:prstGeom prst="rect">
            <a:avLst/>
          </a:prstGeom>
          <a:ln w="0">
            <a:noFill/>
          </a:ln>
        </p:spPr>
      </p:sp>
      <p:sp>
        <p:nvSpPr>
          <p:cNvPr id="1299" name="PlaceHolder 2"/>
          <p:cNvSpPr>
            <a:spLocks noGrp="1"/>
          </p:cNvSpPr>
          <p:nvPr>
            <p:ph type="body"/>
          </p:nvPr>
        </p:nvSpPr>
        <p:spPr>
          <a:xfrm>
            <a:off x="914400" y="4586400"/>
            <a:ext cx="5029200" cy="43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4280" bIns="44280" anchor="t">
            <a:noAutofit/>
          </a:bodyPr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주범위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먼저 읽혀지는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driving r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부범위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나중에 읽혀지는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checking r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index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를 이용하여 주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부 조건을 변경 가능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PlaceHolder 1"/>
          <p:cNvSpPr>
            <a:spLocks noGrp="1"/>
          </p:cNvSpPr>
          <p:nvPr>
            <p:ph type="sldImg"/>
          </p:nvPr>
        </p:nvSpPr>
        <p:spPr>
          <a:xfrm>
            <a:off x="781200" y="747720"/>
            <a:ext cx="5295600" cy="3592440"/>
          </a:xfrm>
          <a:prstGeom prst="rect">
            <a:avLst/>
          </a:prstGeom>
          <a:ln w="0">
            <a:noFill/>
          </a:ln>
        </p:spPr>
      </p:sp>
      <p:sp>
        <p:nvSpPr>
          <p:cNvPr id="1311" name="PlaceHolder 2"/>
          <p:cNvSpPr>
            <a:spLocks noGrp="1"/>
          </p:cNvSpPr>
          <p:nvPr>
            <p:ph type="body"/>
          </p:nvPr>
        </p:nvSpPr>
        <p:spPr>
          <a:xfrm>
            <a:off x="914400" y="4586400"/>
            <a:ext cx="5029200" cy="43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4280" bIns="44280" anchor="t">
            <a:noAutofit/>
          </a:bodyPr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null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에 대한 규정을 어떻게 하느냐에 따라서 수행속도에 얼마나 많은 영향을 주는가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column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에 변형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: index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를 충분히 사용못함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null :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현재 미결정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미지수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없다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null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값을 다른 유일한 값으로 약속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: ‘X’, 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mast_menu_id varchar2(10) </a:t>
            </a:r>
            <a:r>
              <a:rPr b="1" lang="ko-KR" sz="1000" spc="-1" strike="noStrike">
                <a:solidFill>
                  <a:srgbClr val="000000"/>
                </a:solidFill>
                <a:latin typeface="Arial"/>
              </a:rPr>
              <a:t>default ‘X’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not nu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sldImg"/>
          </p:nvPr>
        </p:nvSpPr>
        <p:spPr>
          <a:xfrm>
            <a:off x="781200" y="747720"/>
            <a:ext cx="5295600" cy="3592440"/>
          </a:xfrm>
          <a:prstGeom prst="rect">
            <a:avLst/>
          </a:prstGeom>
          <a:ln w="0">
            <a:noFill/>
          </a:ln>
        </p:spPr>
      </p:sp>
      <p:sp>
        <p:nvSpPr>
          <p:cNvPr id="1313" name="PlaceHolder 2"/>
          <p:cNvSpPr>
            <a:spLocks noGrp="1"/>
          </p:cNvSpPr>
          <p:nvPr>
            <p:ph type="body"/>
          </p:nvPr>
        </p:nvSpPr>
        <p:spPr>
          <a:xfrm>
            <a:off x="914400" y="4586400"/>
            <a:ext cx="5029200" cy="43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4280" bIns="44280" anchor="t">
            <a:noAutofit/>
          </a:bodyPr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주어진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CAR_, BOX_CODE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에 대하여 가장 최근의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IO_DATE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를 찾아 그에 해당하는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STOCK_Q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를 가져오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subquery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가 독립적으로 먼저 풀려 이조건에 맞는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원하는 대로가 아닌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여러 건의 레코드가 리턴됨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: IO_DATE = ‘19980216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corelative subque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동일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table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을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번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access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하는 문제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max -&gt; sorting -&gt;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전체범위처리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main query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에서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sub query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로 넘겨주는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record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의 수만큼 일이 많아진다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sldImg"/>
          </p:nvPr>
        </p:nvSpPr>
        <p:spPr>
          <a:xfrm>
            <a:off x="781200" y="747720"/>
            <a:ext cx="5295600" cy="3592440"/>
          </a:xfrm>
          <a:prstGeom prst="rect">
            <a:avLst/>
          </a:prstGeom>
          <a:ln w="0">
            <a:noFill/>
          </a:ln>
        </p:spPr>
      </p:sp>
      <p:sp>
        <p:nvSpPr>
          <p:cNvPr id="1315" name="PlaceHolder 2"/>
          <p:cNvSpPr>
            <a:spLocks noGrp="1"/>
          </p:cNvSpPr>
          <p:nvPr>
            <p:ph type="body"/>
          </p:nvPr>
        </p:nvSpPr>
        <p:spPr>
          <a:xfrm>
            <a:off x="914400" y="4586400"/>
            <a:ext cx="5029200" cy="43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4280" bIns="44280" anchor="t">
            <a:noAutofit/>
          </a:bodyPr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hint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에 해당하는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object(index)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환경이 제대로 준비되어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max :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중복제거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가장 큰값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-&gt;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전체범위처리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PlaceHolder 1"/>
          <p:cNvSpPr>
            <a:spLocks noGrp="1"/>
          </p:cNvSpPr>
          <p:nvPr>
            <p:ph type="sldImg"/>
          </p:nvPr>
        </p:nvSpPr>
        <p:spPr>
          <a:xfrm>
            <a:off x="781200" y="747720"/>
            <a:ext cx="5295600" cy="3592440"/>
          </a:xfrm>
          <a:prstGeom prst="rect">
            <a:avLst/>
          </a:prstGeom>
          <a:ln w="0">
            <a:noFill/>
          </a:ln>
        </p:spPr>
      </p:sp>
      <p:sp>
        <p:nvSpPr>
          <p:cNvPr id="1317" name="PlaceHolder 2"/>
          <p:cNvSpPr>
            <a:spLocks noGrp="1"/>
          </p:cNvSpPr>
          <p:nvPr>
            <p:ph type="body"/>
          </p:nvPr>
        </p:nvSpPr>
        <p:spPr>
          <a:xfrm>
            <a:off x="914400" y="4586400"/>
            <a:ext cx="5029200" cy="43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4280" bIns="44280" anchor="t">
            <a:noAutofit/>
          </a:bodyPr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효율적인 처리를 위해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문 분리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max(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전체범위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) : index_desc, rownum=1(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부분범위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min(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전체범위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) : index_asc, rownum=1(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부분범위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97 page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그림 참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sldImg"/>
          </p:nvPr>
        </p:nvSpPr>
        <p:spPr>
          <a:xfrm>
            <a:off x="781200" y="747720"/>
            <a:ext cx="5295600" cy="3592440"/>
          </a:xfrm>
          <a:prstGeom prst="rect">
            <a:avLst/>
          </a:prstGeom>
          <a:ln w="0">
            <a:noFill/>
          </a:ln>
        </p:spPr>
      </p:sp>
      <p:sp>
        <p:nvSpPr>
          <p:cNvPr id="1319" name="PlaceHolder 2"/>
          <p:cNvSpPr>
            <a:spLocks noGrp="1"/>
          </p:cNvSpPr>
          <p:nvPr>
            <p:ph type="body"/>
          </p:nvPr>
        </p:nvSpPr>
        <p:spPr>
          <a:xfrm>
            <a:off x="914400" y="4586400"/>
            <a:ext cx="5029200" cy="43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4280" bIns="44280" anchor="t">
            <a:noAutofit/>
          </a:bodyPr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biz rule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이 적용된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B_TAB : 2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번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full sc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sldImg"/>
          </p:nvPr>
        </p:nvSpPr>
        <p:spPr>
          <a:xfrm>
            <a:off x="781200" y="747720"/>
            <a:ext cx="5295600" cy="3592440"/>
          </a:xfrm>
          <a:prstGeom prst="rect">
            <a:avLst/>
          </a:prstGeom>
          <a:ln w="0">
            <a:noFill/>
          </a:ln>
        </p:spPr>
      </p:sp>
      <p:sp>
        <p:nvSpPr>
          <p:cNvPr id="1321" name="PlaceHolder 2"/>
          <p:cNvSpPr>
            <a:spLocks noGrp="1"/>
          </p:cNvSpPr>
          <p:nvPr>
            <p:ph type="body"/>
          </p:nvPr>
        </p:nvSpPr>
        <p:spPr>
          <a:xfrm>
            <a:off x="914400" y="4586400"/>
            <a:ext cx="5029200" cy="43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4280" bIns="44280" anchor="t">
            <a:noAutofit/>
          </a:bodyPr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DEPT=:B7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조건이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subquery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의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where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절에 들어가면 안되고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나중에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check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되어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sldImg"/>
          </p:nvPr>
        </p:nvSpPr>
        <p:spPr>
          <a:xfrm>
            <a:off x="781200" y="747720"/>
            <a:ext cx="5295600" cy="3592440"/>
          </a:xfrm>
          <a:prstGeom prst="rect">
            <a:avLst/>
          </a:prstGeom>
          <a:ln w="0">
            <a:noFill/>
          </a:ln>
        </p:spPr>
      </p:sp>
      <p:sp>
        <p:nvSpPr>
          <p:cNvPr id="1301" name="PlaceHolder 2"/>
          <p:cNvSpPr>
            <a:spLocks noGrp="1"/>
          </p:cNvSpPr>
          <p:nvPr>
            <p:ph type="body"/>
          </p:nvPr>
        </p:nvSpPr>
        <p:spPr>
          <a:xfrm>
            <a:off x="914400" y="4586400"/>
            <a:ext cx="5029200" cy="43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4280" bIns="44280" anchor="t">
            <a:noAutofit/>
          </a:bodyPr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일자 정보가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YY, MM, DD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로 나뉘어져 있으나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조건 검색시 합쳐서 잘못 사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index column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변형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, index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사용불가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, full sc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사고방식 전환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: any idea 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기간을 연별로 나누고 월별로 나눠서 검색 조건을 주면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2" name="PlaceHolder 1"/>
          <p:cNvSpPr>
            <a:spLocks noGrp="1"/>
          </p:cNvSpPr>
          <p:nvPr>
            <p:ph type="sldImg"/>
          </p:nvPr>
        </p:nvSpPr>
        <p:spPr>
          <a:xfrm>
            <a:off x="781200" y="747720"/>
            <a:ext cx="5295600" cy="3592440"/>
          </a:xfrm>
          <a:prstGeom prst="rect">
            <a:avLst/>
          </a:prstGeom>
          <a:ln w="0">
            <a:noFill/>
          </a:ln>
        </p:spPr>
      </p:sp>
      <p:sp>
        <p:nvSpPr>
          <p:cNvPr id="1323" name="PlaceHolder 2"/>
          <p:cNvSpPr>
            <a:spLocks noGrp="1"/>
          </p:cNvSpPr>
          <p:nvPr>
            <p:ph type="body"/>
          </p:nvPr>
        </p:nvSpPr>
        <p:spPr>
          <a:xfrm>
            <a:off x="914400" y="4586400"/>
            <a:ext cx="5029200" cy="43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4280" bIns="44280" anchor="t">
            <a:noAutofit/>
          </a:bodyPr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B_TAB : 1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번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a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sldImg"/>
          </p:nvPr>
        </p:nvSpPr>
        <p:spPr>
          <a:xfrm>
            <a:off x="781200" y="747720"/>
            <a:ext cx="5295600" cy="3592440"/>
          </a:xfrm>
          <a:prstGeom prst="rect">
            <a:avLst/>
          </a:prstGeom>
          <a:ln w="0">
            <a:noFill/>
          </a:ln>
        </p:spPr>
      </p:sp>
      <p:sp>
        <p:nvSpPr>
          <p:cNvPr id="1325" name="PlaceHolder 2"/>
          <p:cNvSpPr>
            <a:spLocks noGrp="1"/>
          </p:cNvSpPr>
          <p:nvPr>
            <p:ph type="body"/>
          </p:nvPr>
        </p:nvSpPr>
        <p:spPr>
          <a:xfrm>
            <a:off x="914400" y="4586400"/>
            <a:ext cx="5029200" cy="43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4280" bIns="44280" anchor="t">
            <a:noAutofit/>
          </a:bodyPr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where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에 사용하여 복잡한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문 구성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입력변수는 하나의 값이므로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dual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에서 가져올 필요없다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:B21=‘Y’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는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:B21 is not null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의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sub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dual table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의 남발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781200" y="747720"/>
            <a:ext cx="5295600" cy="359244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914400" y="4586400"/>
            <a:ext cx="5029200" cy="43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4280" bIns="44280" anchor="t">
            <a:noAutofit/>
          </a:bodyPr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union : sorting (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중복 제거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union all : no sorting (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중복이 없으리라 예상되는 경우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PlaceHolder 1"/>
          <p:cNvSpPr>
            <a:spLocks noGrp="1"/>
          </p:cNvSpPr>
          <p:nvPr>
            <p:ph type="sldImg"/>
          </p:nvPr>
        </p:nvSpPr>
        <p:spPr>
          <a:xfrm>
            <a:off x="781200" y="747720"/>
            <a:ext cx="5295600" cy="3592440"/>
          </a:xfrm>
          <a:prstGeom prst="rect">
            <a:avLst/>
          </a:prstGeom>
          <a:ln w="0">
            <a:noFill/>
          </a:ln>
        </p:spPr>
      </p:sp>
      <p:sp>
        <p:nvSpPr>
          <p:cNvPr id="1329" name="PlaceHolder 2"/>
          <p:cNvSpPr>
            <a:spLocks noGrp="1"/>
          </p:cNvSpPr>
          <p:nvPr>
            <p:ph type="body"/>
          </p:nvPr>
        </p:nvSpPr>
        <p:spPr>
          <a:xfrm>
            <a:off x="914400" y="4586400"/>
            <a:ext cx="5029200" cy="43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4280" bIns="44280" anchor="t">
            <a:noAutofit/>
          </a:bodyPr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오늘 날짜를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where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절의 조건에 넣어 처리하고자 할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절뿐만아니라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, where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절에서도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sysdate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사용 가능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많은 사용자일때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, table contention(sys.du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불필요한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dual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사용 제한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위의 경우는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DAT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가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character type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일 경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like, between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사용 가능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date type : DAT = sysdate :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시분초까지 비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DAT between trunc(sysdate) and trunc(sysdate) + </a:t>
            </a:r>
            <a:r>
              <a:rPr b="1" lang="ko-KR" sz="1000" spc="-1" strike="noStrike">
                <a:solidFill>
                  <a:srgbClr val="000000"/>
                </a:solidFill>
                <a:latin typeface="Arial"/>
              </a:rPr>
              <a:t>0.9999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to_char(DAT, ‘yyyymmdd’) = to_char(sysdate, ‘yyyymmdd’) : no ind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시간계산이 필요없고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단순히 날짜만 저장하는 경우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, .character type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이 유리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sldImg"/>
          </p:nvPr>
        </p:nvSpPr>
        <p:spPr>
          <a:xfrm>
            <a:off x="781200" y="747720"/>
            <a:ext cx="5295600" cy="3592440"/>
          </a:xfrm>
          <a:prstGeom prst="rect">
            <a:avLst/>
          </a:prstGeom>
          <a:ln w="0">
            <a:noFill/>
          </a:ln>
        </p:spPr>
      </p:sp>
      <p:sp>
        <p:nvSpPr>
          <p:cNvPr id="1331" name="PlaceHolder 2"/>
          <p:cNvSpPr>
            <a:spLocks noGrp="1"/>
          </p:cNvSpPr>
          <p:nvPr>
            <p:ph type="body"/>
          </p:nvPr>
        </p:nvSpPr>
        <p:spPr>
          <a:xfrm>
            <a:off x="914400" y="4586400"/>
            <a:ext cx="5029200" cy="43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4280" bIns="44280" anchor="t">
            <a:noAutofit/>
          </a:bodyPr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where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절에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를 사용하면 의도하지 않는 방향으로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execution plan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수립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의도는 비상하나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ko-KR" sz="1000" spc="-1" strike="noStrike" u="sng">
                <a:solidFill>
                  <a:srgbClr val="000000"/>
                </a:solidFill>
                <a:uFillTx/>
                <a:latin typeface="Arial"/>
              </a:rPr>
              <a:t>OR</a:t>
            </a:r>
            <a:r>
              <a:rPr b="1" lang="ko-KR" sz="1000" spc="-1" strike="noStrike" u="sng">
                <a:solidFill>
                  <a:srgbClr val="000000"/>
                </a:solidFill>
                <a:uFillTx/>
                <a:latin typeface="Arial"/>
              </a:rPr>
              <a:t>의 특성상 나쁜쪽으로 통합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풀다가 안되면 </a:t>
            </a:r>
            <a:r>
              <a:rPr b="1" lang="ko-KR" sz="1000" spc="-1" strike="noStrike" u="sng">
                <a:solidFill>
                  <a:srgbClr val="000000"/>
                </a:solidFill>
                <a:uFillTx/>
                <a:latin typeface="Arial"/>
              </a:rPr>
              <a:t>full scan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는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union all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로 변환 가능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117 page sql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문 잘못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sldImg"/>
          </p:nvPr>
        </p:nvSpPr>
        <p:spPr>
          <a:xfrm>
            <a:off x="781200" y="747720"/>
            <a:ext cx="5295600" cy="3592440"/>
          </a:xfrm>
          <a:prstGeom prst="rect">
            <a:avLst/>
          </a:prstGeom>
          <a:ln w="0">
            <a:noFill/>
          </a:ln>
        </p:spPr>
      </p:sp>
      <p:sp>
        <p:nvSpPr>
          <p:cNvPr id="1333" name="PlaceHolder 2"/>
          <p:cNvSpPr>
            <a:spLocks noGrp="1"/>
          </p:cNvSpPr>
          <p:nvPr>
            <p:ph type="body"/>
          </p:nvPr>
        </p:nvSpPr>
        <p:spPr>
          <a:xfrm>
            <a:off x="914400" y="4586400"/>
            <a:ext cx="5029200" cy="43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4280" bIns="44280" anchor="t">
            <a:noAutofit/>
          </a:bodyPr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미지수와 상수의 비교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: full sc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117 page sql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문 잘못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sldImg"/>
          </p:nvPr>
        </p:nvSpPr>
        <p:spPr>
          <a:xfrm>
            <a:off x="781200" y="747720"/>
            <a:ext cx="5295600" cy="3592440"/>
          </a:xfrm>
          <a:prstGeom prst="rect">
            <a:avLst/>
          </a:prstGeom>
          <a:ln w="0">
            <a:noFill/>
          </a:ln>
        </p:spPr>
      </p:sp>
      <p:sp>
        <p:nvSpPr>
          <p:cNvPr id="1335" name="PlaceHolder 2"/>
          <p:cNvSpPr>
            <a:spLocks noGrp="1"/>
          </p:cNvSpPr>
          <p:nvPr>
            <p:ph type="body"/>
          </p:nvPr>
        </p:nvSpPr>
        <p:spPr>
          <a:xfrm>
            <a:off x="914400" y="4586400"/>
            <a:ext cx="5029200" cy="43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4280" bIns="44280" anchor="t">
            <a:noAutofit/>
          </a:bodyPr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안에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OR : full sc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개선된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query 2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는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index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사용 가능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부분범위처리 가능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PlaceHolder 1"/>
          <p:cNvSpPr>
            <a:spLocks noGrp="1"/>
          </p:cNvSpPr>
          <p:nvPr>
            <p:ph type="sldImg"/>
          </p:nvPr>
        </p:nvSpPr>
        <p:spPr>
          <a:xfrm>
            <a:off x="781200" y="747720"/>
            <a:ext cx="5295600" cy="3592440"/>
          </a:xfrm>
          <a:prstGeom prst="rect">
            <a:avLst/>
          </a:prstGeom>
          <a:ln w="0">
            <a:noFill/>
          </a:ln>
        </p:spPr>
      </p:sp>
      <p:sp>
        <p:nvSpPr>
          <p:cNvPr id="1337" name="PlaceHolder 2"/>
          <p:cNvSpPr>
            <a:spLocks noGrp="1"/>
          </p:cNvSpPr>
          <p:nvPr>
            <p:ph type="body"/>
          </p:nvPr>
        </p:nvSpPr>
        <p:spPr>
          <a:xfrm>
            <a:off x="914400" y="4586400"/>
            <a:ext cx="5029200" cy="43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4280" bIns="44280" anchor="t">
            <a:noAutofit/>
          </a:bodyPr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로 인하여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concatenation -&gt;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같은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index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를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번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re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OR, IN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이 들어가는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조건은 가능하면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union all, decode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등을 사용하게 변환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sldImg"/>
          </p:nvPr>
        </p:nvSpPr>
        <p:spPr>
          <a:xfrm>
            <a:off x="781200" y="747720"/>
            <a:ext cx="5295600" cy="3592440"/>
          </a:xfrm>
          <a:prstGeom prst="rect">
            <a:avLst/>
          </a:prstGeom>
          <a:ln w="0">
            <a:noFill/>
          </a:ln>
        </p:spPr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914400" y="4586400"/>
            <a:ext cx="5029200" cy="43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4280" bIns="44280" anchor="t">
            <a:noAutofit/>
          </a:bodyPr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의 특성을 잘 활용하면 보다 효율적으로 처리 가능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dynamic sql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을 잘 모르는 경우의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program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최악의 경우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번의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문 수행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수행 속도 이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sldImg"/>
          </p:nvPr>
        </p:nvSpPr>
        <p:spPr>
          <a:xfrm>
            <a:off x="781200" y="747720"/>
            <a:ext cx="5295600" cy="3592440"/>
          </a:xfrm>
          <a:prstGeom prst="rect">
            <a:avLst/>
          </a:prstGeom>
          <a:ln w="0">
            <a:noFill/>
          </a:ln>
        </p:spPr>
      </p:sp>
      <p:sp>
        <p:nvSpPr>
          <p:cNvPr id="1341" name="PlaceHolder 2"/>
          <p:cNvSpPr>
            <a:spLocks noGrp="1"/>
          </p:cNvSpPr>
          <p:nvPr>
            <p:ph type="body"/>
          </p:nvPr>
        </p:nvSpPr>
        <p:spPr>
          <a:xfrm>
            <a:off x="914400" y="4586400"/>
            <a:ext cx="5029200" cy="43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4280" bIns="44280" anchor="t">
            <a:noAutofit/>
          </a:bodyPr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where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절에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가 여러번 나올 경우 가장 뒤의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부터 처리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확률이 가장 많은 조건을 뒷쪽에 기술한다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sldImg"/>
          </p:nvPr>
        </p:nvSpPr>
        <p:spPr>
          <a:xfrm>
            <a:off x="781200" y="747720"/>
            <a:ext cx="5295600" cy="3592440"/>
          </a:xfrm>
          <a:prstGeom prst="rect">
            <a:avLst/>
          </a:prstGeom>
          <a:ln w="0">
            <a:noFill/>
          </a:ln>
        </p:spPr>
      </p:sp>
      <p:sp>
        <p:nvSpPr>
          <p:cNvPr id="1303" name="PlaceHolder 2"/>
          <p:cNvSpPr>
            <a:spLocks noGrp="1"/>
          </p:cNvSpPr>
          <p:nvPr>
            <p:ph type="body"/>
          </p:nvPr>
        </p:nvSpPr>
        <p:spPr>
          <a:xfrm>
            <a:off x="914400" y="4586400"/>
            <a:ext cx="5029200" cy="43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4280" bIns="44280" anchor="t">
            <a:noAutofit/>
          </a:bodyPr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index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사용 가능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sldImg"/>
          </p:nvPr>
        </p:nvSpPr>
        <p:spPr>
          <a:xfrm>
            <a:off x="781200" y="747720"/>
            <a:ext cx="5295600" cy="3592440"/>
          </a:xfrm>
          <a:prstGeom prst="rect">
            <a:avLst/>
          </a:prstGeom>
          <a:ln w="0">
            <a:noFill/>
          </a:ln>
        </p:spPr>
      </p:sp>
      <p:sp>
        <p:nvSpPr>
          <p:cNvPr id="1343" name="PlaceHolder 2"/>
          <p:cNvSpPr>
            <a:spLocks noGrp="1"/>
          </p:cNvSpPr>
          <p:nvPr>
            <p:ph type="body"/>
          </p:nvPr>
        </p:nvSpPr>
        <p:spPr>
          <a:xfrm>
            <a:off x="914400" y="4586400"/>
            <a:ext cx="5029200" cy="43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4280" bIns="44280" anchor="t">
            <a:noAutofit/>
          </a:bodyPr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개의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문에서 공통점을 찾아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개의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문으로 통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개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table(BA003DM) upd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개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table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을 을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번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update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하면서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번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a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sldImg"/>
          </p:nvPr>
        </p:nvSpPr>
        <p:spPr>
          <a:xfrm>
            <a:off x="781200" y="747720"/>
            <a:ext cx="5295600" cy="3592440"/>
          </a:xfrm>
          <a:prstGeom prst="rect">
            <a:avLst/>
          </a:prstGeom>
          <a:ln w="0">
            <a:noFill/>
          </a:ln>
        </p:spPr>
      </p:sp>
      <p:sp>
        <p:nvSpPr>
          <p:cNvPr id="1345" name="PlaceHolder 2"/>
          <p:cNvSpPr>
            <a:spLocks noGrp="1"/>
          </p:cNvSpPr>
          <p:nvPr>
            <p:ph type="body"/>
          </p:nvPr>
        </p:nvSpPr>
        <p:spPr>
          <a:xfrm>
            <a:off x="914400" y="4586400"/>
            <a:ext cx="5029200" cy="43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4280" bIns="44280" anchor="t">
            <a:noAutofit/>
          </a:bodyPr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번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update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하면서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번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a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loop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내에서 반복 수행되는 형태였다면 상당한 수행 속도 개선 효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sldImg"/>
          </p:nvPr>
        </p:nvSpPr>
        <p:spPr>
          <a:xfrm>
            <a:off x="781200" y="747720"/>
            <a:ext cx="5295600" cy="3592440"/>
          </a:xfrm>
          <a:prstGeom prst="rect">
            <a:avLst/>
          </a:prstGeom>
          <a:ln w="0">
            <a:noFill/>
          </a:ln>
        </p:spPr>
      </p:sp>
      <p:sp>
        <p:nvSpPr>
          <p:cNvPr id="1347" name="PlaceHolder 2"/>
          <p:cNvSpPr>
            <a:spLocks noGrp="1"/>
          </p:cNvSpPr>
          <p:nvPr>
            <p:ph type="body"/>
          </p:nvPr>
        </p:nvSpPr>
        <p:spPr>
          <a:xfrm>
            <a:off x="914400" y="4586400"/>
            <a:ext cx="5029200" cy="43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4280" bIns="44280" anchor="t">
            <a:noAutofit/>
          </a:bodyPr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동일한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table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에 대하여 비슷한 유형의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where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절을 사용하는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문을 하나로 통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if ... then ... else : decode fun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PlaceHolder 1"/>
          <p:cNvSpPr>
            <a:spLocks noGrp="1"/>
          </p:cNvSpPr>
          <p:nvPr>
            <p:ph type="sldImg"/>
          </p:nvPr>
        </p:nvSpPr>
        <p:spPr>
          <a:xfrm>
            <a:off x="781200" y="747720"/>
            <a:ext cx="5295600" cy="3592440"/>
          </a:xfrm>
          <a:prstGeom prst="rect">
            <a:avLst/>
          </a:prstGeom>
          <a:ln w="0">
            <a:noFill/>
          </a:ln>
        </p:spPr>
      </p:sp>
      <p:sp>
        <p:nvSpPr>
          <p:cNvPr id="1349" name="PlaceHolder 2"/>
          <p:cNvSpPr>
            <a:spLocks noGrp="1"/>
          </p:cNvSpPr>
          <p:nvPr>
            <p:ph type="body"/>
          </p:nvPr>
        </p:nvSpPr>
        <p:spPr>
          <a:xfrm>
            <a:off x="914400" y="4586400"/>
            <a:ext cx="5029200" cy="43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4280" bIns="44280" anchor="t">
            <a:noAutofit/>
          </a:bodyPr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배 이상의 처리 속도 향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129 page DACT_MH, 0))), 0)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sldImg"/>
          </p:nvPr>
        </p:nvSpPr>
        <p:spPr>
          <a:xfrm>
            <a:off x="781200" y="747720"/>
            <a:ext cx="5295600" cy="3592440"/>
          </a:xfrm>
          <a:prstGeom prst="rect">
            <a:avLst/>
          </a:prstGeom>
          <a:ln w="0">
            <a:noFill/>
          </a:ln>
        </p:spPr>
      </p:sp>
      <p:sp>
        <p:nvSpPr>
          <p:cNvPr id="1351" name="PlaceHolder 2"/>
          <p:cNvSpPr>
            <a:spLocks noGrp="1"/>
          </p:cNvSpPr>
          <p:nvPr>
            <p:ph type="body"/>
          </p:nvPr>
        </p:nvSpPr>
        <p:spPr>
          <a:xfrm>
            <a:off x="914400" y="4586400"/>
            <a:ext cx="5029200" cy="43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4280" bIns="44280" anchor="t">
            <a:noAutofit/>
          </a:bodyPr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decode : data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의 조건 비교 가능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과도하게 사용시 수행 성능 저하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fetch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시에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cpu, elapsed ti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2 level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이상은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program logic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으로 해결 권장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group by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에 의해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sorting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되므로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, parallel query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사용하지 않으면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order by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불필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PlaceHolder 1"/>
          <p:cNvSpPr>
            <a:spLocks noGrp="1"/>
          </p:cNvSpPr>
          <p:nvPr>
            <p:ph type="sldImg"/>
          </p:nvPr>
        </p:nvSpPr>
        <p:spPr>
          <a:xfrm>
            <a:off x="781200" y="747720"/>
            <a:ext cx="5295600" cy="3592440"/>
          </a:xfrm>
          <a:prstGeom prst="rect">
            <a:avLst/>
          </a:prstGeom>
          <a:ln w="0">
            <a:noFill/>
          </a:ln>
        </p:spPr>
      </p:sp>
      <p:sp>
        <p:nvSpPr>
          <p:cNvPr id="1353" name="PlaceHolder 2"/>
          <p:cNvSpPr>
            <a:spLocks noGrp="1"/>
          </p:cNvSpPr>
          <p:nvPr>
            <p:ph type="body"/>
          </p:nvPr>
        </p:nvSpPr>
        <p:spPr>
          <a:xfrm>
            <a:off x="914400" y="4586400"/>
            <a:ext cx="5029200" cy="43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4280" bIns="44280" anchor="t">
            <a:noAutofit/>
          </a:bodyPr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가능한 많이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그러나 꼭 필요한 경우에만 사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sldImg"/>
          </p:nvPr>
        </p:nvSpPr>
        <p:spPr>
          <a:xfrm>
            <a:off x="781200" y="747720"/>
            <a:ext cx="5295600" cy="3592440"/>
          </a:xfrm>
          <a:prstGeom prst="rect">
            <a:avLst/>
          </a:prstGeom>
          <a:ln w="0">
            <a:noFill/>
          </a:ln>
        </p:spPr>
      </p:sp>
      <p:sp>
        <p:nvSpPr>
          <p:cNvPr id="1305" name="PlaceHolder 2"/>
          <p:cNvSpPr>
            <a:spLocks noGrp="1"/>
          </p:cNvSpPr>
          <p:nvPr>
            <p:ph type="body"/>
          </p:nvPr>
        </p:nvSpPr>
        <p:spPr>
          <a:xfrm>
            <a:off x="914400" y="4586400"/>
            <a:ext cx="5029200" cy="43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4280" bIns="44280" anchor="t">
            <a:noAutofit/>
          </a:bodyPr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binding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변수의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data type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과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column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의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data type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이 일치하지 않으면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, index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사용불가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execution plan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생성시에는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binding variable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의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data type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이 무엇인지 모르기 때문에 정상적인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execution plan(index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사용 가능한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이 생성되나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, binding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후에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data type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이 일치하지 않아 내부 변형이 일어나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index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를 사용하지 못함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.(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실제로는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full scan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to_number(EMPNO) = :B2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형태로 내부변형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EMPNO = to_char(:B2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trace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정보가 충분하지 않을 수도 있다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data modelling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잘못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: number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로 바꾸면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like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사용시 불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empno like ‘1%’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가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to_char(empno) like  ‘1%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appl.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의 성향을 반영하여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data modelling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해야하며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그렇지 않으면 반드시 대가를 치른다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char, varchar2 &lt; number, date &lt; like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연산자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&lt; char, varchar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자리의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data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는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char(1byte)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를 사용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.(varchar2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는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2by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sldImg"/>
          </p:nvPr>
        </p:nvSpPr>
        <p:spPr>
          <a:xfrm>
            <a:off x="781200" y="747720"/>
            <a:ext cx="5295600" cy="3592440"/>
          </a:xfrm>
          <a:prstGeom prst="rect">
            <a:avLst/>
          </a:prstGeom>
          <a:ln w="0">
            <a:noFill/>
          </a:ln>
        </p:spPr>
      </p:sp>
      <p:sp>
        <p:nvSpPr>
          <p:cNvPr id="1307" name="PlaceHolder 2"/>
          <p:cNvSpPr>
            <a:spLocks noGrp="1"/>
          </p:cNvSpPr>
          <p:nvPr>
            <p:ph type="body"/>
          </p:nvPr>
        </p:nvSpPr>
        <p:spPr>
          <a:xfrm>
            <a:off x="914400" y="4586400"/>
            <a:ext cx="5029200" cy="43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4280" bIns="44280" anchor="t">
            <a:noAutofit/>
          </a:bodyPr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설계단계에서 원자화하지 않은 컬럼이 코딩단계에서 어떤 문제로 나타나며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수행 속도에 어떠한 영향을 주는지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사용 가능한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index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후보는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THISCODE_PK1, THISINPT_IDX1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이지만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PK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가 우선이므로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A, C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의 순서로 되리라 예상되나 이때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join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되는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column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에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index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가 존재하지 않는 연결고리 이상 발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이러한 경우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상대방이 먼저 풀리게 되므로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C, A, B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의 순서로 처리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이때 연결고리가되는 부분에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substr()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을 사용하였기 때문에 변형이 일어나 적절한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index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인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THISCODE_PK1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를 충분히 활용하지 못함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data modelling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에서 물리적 설계로 옮겨갈때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이러한 원자화 부분을 어떻게 할지를 충분히 고려하지 않고 개발하였기 때문에 이러한 문제 발생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D3F0AA-637C-4EBC-A449-FFE016309A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17560" y="228600"/>
            <a:ext cx="81820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28680" y="1142640"/>
            <a:ext cx="971208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28680" y="3928680"/>
            <a:ext cx="971208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F80B33-3B96-48CC-93DA-67C7C45688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17560" y="228600"/>
            <a:ext cx="81820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28680" y="1142640"/>
            <a:ext cx="473940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05320" y="1142640"/>
            <a:ext cx="473940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28680" y="3928680"/>
            <a:ext cx="473940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305320" y="3928680"/>
            <a:ext cx="473940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1A5E0E-EC1E-4FBE-8066-BC63F79D3E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17560" y="228600"/>
            <a:ext cx="81820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28680" y="1142640"/>
            <a:ext cx="312696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12240" y="1142640"/>
            <a:ext cx="312696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96160" y="1142640"/>
            <a:ext cx="312696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28680" y="3928680"/>
            <a:ext cx="312696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12240" y="3928680"/>
            <a:ext cx="312696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896160" y="3928680"/>
            <a:ext cx="312696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70E4C9-0E8A-4F5D-801F-8C63EDFC51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717560" y="228600"/>
            <a:ext cx="81820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328680" y="1142640"/>
            <a:ext cx="971208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17560" y="228600"/>
            <a:ext cx="81820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28680" y="1142640"/>
            <a:ext cx="971208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7560" y="228600"/>
            <a:ext cx="81820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28680" y="1142640"/>
            <a:ext cx="47394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305320" y="1142640"/>
            <a:ext cx="47394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17560" y="228600"/>
            <a:ext cx="81820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1717560" y="228600"/>
            <a:ext cx="8182080" cy="240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17560" y="228600"/>
            <a:ext cx="81820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28680" y="1142640"/>
            <a:ext cx="473940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305320" y="1142640"/>
            <a:ext cx="47394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328680" y="3928680"/>
            <a:ext cx="473940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17560" y="228600"/>
            <a:ext cx="81820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28680" y="1142640"/>
            <a:ext cx="971208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027651-B59D-4994-A4E0-B5805D852B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17560" y="228600"/>
            <a:ext cx="81820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28680" y="1142640"/>
            <a:ext cx="47394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305320" y="1142640"/>
            <a:ext cx="473940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305320" y="3928680"/>
            <a:ext cx="473940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17560" y="228600"/>
            <a:ext cx="81820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28680" y="1142640"/>
            <a:ext cx="473940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05320" y="1142640"/>
            <a:ext cx="473940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28680" y="3928680"/>
            <a:ext cx="971208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17560" y="228600"/>
            <a:ext cx="81820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28680" y="1142640"/>
            <a:ext cx="971208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28680" y="3928680"/>
            <a:ext cx="971208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17560" y="228600"/>
            <a:ext cx="81820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28680" y="1142640"/>
            <a:ext cx="473940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305320" y="1142640"/>
            <a:ext cx="473940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28680" y="3928680"/>
            <a:ext cx="473940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5305320" y="3928680"/>
            <a:ext cx="473940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17560" y="228600"/>
            <a:ext cx="81820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28680" y="1142640"/>
            <a:ext cx="312696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612240" y="1142640"/>
            <a:ext cx="312696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96160" y="1142640"/>
            <a:ext cx="312696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328680" y="3928680"/>
            <a:ext cx="312696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612240" y="3928680"/>
            <a:ext cx="312696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896160" y="3928680"/>
            <a:ext cx="312696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17560" y="228600"/>
            <a:ext cx="81820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28680" y="1142640"/>
            <a:ext cx="971208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7E0302-BA0E-48E0-993B-BC185D7112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17560" y="228600"/>
            <a:ext cx="81820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28680" y="1142640"/>
            <a:ext cx="47394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305320" y="1142640"/>
            <a:ext cx="47394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B58665-4B7C-4B64-82CA-8CDEF127B5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17560" y="228600"/>
            <a:ext cx="81820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8174AB-7E59-49E9-8308-7F205A0142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17560" y="228600"/>
            <a:ext cx="8182080" cy="240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B4A07C-DD4E-4768-A755-F4F89AA989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17560" y="228600"/>
            <a:ext cx="81820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28680" y="1142640"/>
            <a:ext cx="473940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305320" y="1142640"/>
            <a:ext cx="47394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28680" y="3928680"/>
            <a:ext cx="473940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3A041D-3C60-44F5-850D-3B148CF698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17560" y="228600"/>
            <a:ext cx="81820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28680" y="1142640"/>
            <a:ext cx="47394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305320" y="1142640"/>
            <a:ext cx="473940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305320" y="3928680"/>
            <a:ext cx="473940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08868A-4CF8-4559-8629-07DA4D84D0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17560" y="228600"/>
            <a:ext cx="81820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28680" y="1142640"/>
            <a:ext cx="473940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305320" y="1142640"/>
            <a:ext cx="473940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28680" y="3928680"/>
            <a:ext cx="971208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6DAE6C-EFEB-4F2C-B8F2-3BD5172CBA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17560" y="228600"/>
            <a:ext cx="81820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239400" y="6585120"/>
            <a:ext cx="3281400" cy="2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10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&lt;footer&gt;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대전지원팀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9272520" y="6552720"/>
            <a:ext cx="758880" cy="303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1200" spc="-1" strike="noStrike">
                <a:solidFill>
                  <a:srgbClr val="000000"/>
                </a:solidFill>
                <a:latin typeface="Arial"/>
                <a:ea typeface="돋움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865D7-0C12-412E-8F8B-6DD5C72D0F33}" type="slidenum">
              <a:rPr b="1" lang="ko-KR" sz="1200" spc="-1" strike="noStrike">
                <a:solidFill>
                  <a:srgbClr val="000000"/>
                </a:solidFill>
                <a:latin typeface="Arial"/>
                <a:ea typeface="돋움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346040" y="838080"/>
            <a:ext cx="8666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52800" y="75600"/>
            <a:ext cx="1032480" cy="83916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114480" bIns="1144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Arial"/>
                <a:ea typeface="돋움"/>
              </a:rPr>
              <a:t>SQ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Arial"/>
                <a:ea typeface="돋움"/>
              </a:rPr>
              <a:t>Tu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body"/>
          </p:nvPr>
        </p:nvSpPr>
        <p:spPr>
          <a:xfrm>
            <a:off x="328680" y="1142640"/>
            <a:ext cx="971208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451"/>
              </a:spcBef>
              <a:buClr>
                <a:srgbClr val="000000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체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  <a:p>
            <a:pPr lvl="1" marL="666720" indent="-285840">
              <a:spcBef>
                <a:spcPts val="451"/>
              </a:spcBef>
              <a:buClr>
                <a:srgbClr val="000000"/>
              </a:buClr>
              <a:buFont typeface="굴림체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체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  <a:p>
            <a:pPr lvl="2" marL="1085760" indent="-228600">
              <a:spcBef>
                <a:spcPts val="451"/>
              </a:spcBef>
              <a:buClr>
                <a:srgbClr val="000000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체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  <a:p>
            <a:pPr lvl="3" marL="1504800" indent="-228600">
              <a:spcBef>
                <a:spcPts val="451"/>
              </a:spcBef>
              <a:buClr>
                <a:srgbClr val="000000"/>
              </a:buClr>
              <a:buFont typeface="굴림체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체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  <a:p>
            <a:pPr lvl="4" marL="1924200" indent="-228600">
              <a:spcBef>
                <a:spcPts val="451"/>
              </a:spcBef>
              <a:buClr>
                <a:srgbClr val="000000"/>
              </a:buClr>
              <a:buFont typeface="굴림체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체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  <a:p>
            <a:pPr lvl="5" marL="1924200" indent="-228600">
              <a:spcBef>
                <a:spcPts val="451"/>
              </a:spcBef>
              <a:buClr>
                <a:srgbClr val="000000"/>
              </a:buClr>
              <a:buFont typeface="굴림체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체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  <a:p>
            <a:pPr lvl="6" marL="1924200" indent="-228600">
              <a:spcBef>
                <a:spcPts val="451"/>
              </a:spcBef>
              <a:buClr>
                <a:srgbClr val="000000"/>
              </a:buClr>
              <a:buFont typeface="굴림체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체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652320" y="3389400"/>
            <a:ext cx="5305680" cy="3876120"/>
          </a:xfrm>
          <a:prstGeom prst="roundRect">
            <a:avLst>
              <a:gd name="adj" fmla="val 764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0" bIns="0" anchor="t">
            <a:spAutoFit/>
          </a:bodyPr>
          <a:p>
            <a:pPr marL="343080" indent="-34308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DISTINCT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B.CLASS, COUNT(B.CLAS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COL A,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COM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 A.YEAR = B.YE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 A.HOUSE = B.HOU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 A.SERIAL_NO = B.SERIAL_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 A.AMT &gt;= 1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B.DATE &lt; '950501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B.CLASS IN ( 'C', 'Y', 'I', 'P'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GROUP BY  B.CLASS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102040" y="243000"/>
            <a:ext cx="63511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"/>
              </a:rPr>
              <a:t>1. OPTIMIZER MODE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"/>
              </a:rPr>
              <a:t>에 따른 인덱스 사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63480" y="1127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8440" y="912960"/>
            <a:ext cx="6875640" cy="27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 algn="just">
              <a:lnSpc>
                <a:spcPct val="18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인덱스정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COL  A : COL_PK1  : YEAR  + HOUSE + SERIAL_NO + HS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COM  B : COM_IX   : YEAR  + HOUSE + SERIAL_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33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ff3300"/>
                </a:solidFill>
                <a:latin typeface="굴림체"/>
                <a:ea typeface="굴림체"/>
              </a:rPr>
              <a:t>COM  B : COM_IDX1 : CLASS + D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8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065560" y="3951360"/>
            <a:ext cx="4789800" cy="208332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90440" indent="-1904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cc0000"/>
                </a:solidFill>
                <a:latin typeface="굴림체"/>
                <a:ea typeface="굴림체"/>
              </a:rPr>
              <a:t>ROWS  EXECUTION PL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----  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0  SELECT STAT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1564   SORT (GROUP B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1564    NESTED LOO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6361     TABLE ACCESS (</a:t>
            </a:r>
            <a:r>
              <a:rPr b="1" lang="ko-KR" sz="1400" spc="-1" strike="noStrike">
                <a:solidFill>
                  <a:srgbClr val="ff3300"/>
                </a:solidFill>
                <a:latin typeface="굴림체"/>
                <a:ea typeface="굴림체"/>
              </a:rPr>
              <a:t>FULL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) OF 'COM'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2437     TABLE ACCESS (BY ROWID) OF 'COL'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4437      INDEX (RANGE SCAN) OF 'COL_PK1'(UNIQU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329600" y="3862440"/>
            <a:ext cx="2643120" cy="919080"/>
          </a:xfrm>
          <a:custGeom>
            <a:avLst/>
            <a:gdLst>
              <a:gd name="textAreaLeft" fmla="*/ 97560 w 2643120"/>
              <a:gd name="textAreaRight" fmla="*/ 2545560 w 2643120"/>
              <a:gd name="textAreaTop" fmla="*/ 33840 h 919080"/>
              <a:gd name="textAreaBottom" fmla="*/ 734040 h 91908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2861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cce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0099"/>
                </a:solidFill>
                <a:latin typeface="Arial"/>
                <a:ea typeface="굴림체"/>
              </a:rPr>
              <a:t>COM Table</a:t>
            </a:r>
            <a:r>
              <a:rPr b="1" lang="ko-KR" sz="1600" spc="-1" strike="noStrike">
                <a:solidFill>
                  <a:srgbClr val="330099"/>
                </a:solidFill>
                <a:latin typeface="Arial"/>
                <a:ea typeface="굴림체"/>
              </a:rPr>
              <a:t>의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0099"/>
                </a:solidFill>
                <a:latin typeface="Arial"/>
                <a:ea typeface="굴림체"/>
              </a:rPr>
              <a:t>Full Table Scan </a:t>
            </a:r>
            <a:r>
              <a:rPr b="1" lang="ko-KR" sz="1600" spc="-1" strike="noStrike">
                <a:solidFill>
                  <a:srgbClr val="330099"/>
                </a:solidFill>
                <a:latin typeface="Arial"/>
                <a:ea typeface="굴림체"/>
              </a:rPr>
              <a:t>이유는</a:t>
            </a:r>
            <a:r>
              <a:rPr b="1" lang="ko-KR" sz="1600" spc="-1" strike="noStrike">
                <a:solidFill>
                  <a:srgbClr val="330099"/>
                </a:solidFill>
                <a:latin typeface="Arial"/>
                <a:ea typeface="굴림체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8972280" y="4856040"/>
            <a:ext cx="677160" cy="6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20000"/>
              <a:buFont typeface="Wingdings" charset="2"/>
              <a:buChar char="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700" spc="-1" strike="noStrike">
                <a:solidFill>
                  <a:srgbClr val="3333cc"/>
                </a:solidFill>
                <a:latin typeface="굴림체"/>
                <a:ea typeface="굴림체"/>
              </a:rPr>
              <a:t> </a:t>
            </a:r>
            <a:r>
              <a:rPr b="1" lang="ko-KR" sz="1700" spc="-1" strike="noStrike">
                <a:solidFill>
                  <a:srgbClr val="3333cc"/>
                </a:solidFill>
                <a:latin typeface="굴림체"/>
                <a:ea typeface="굴림체"/>
              </a:rPr>
              <a:t>B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20000"/>
              <a:buFont typeface="Wingdings" charset="2"/>
              <a:buChar char="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700" spc="-1" strike="noStrike">
                <a:solidFill>
                  <a:srgbClr val="3333cc"/>
                </a:solidFill>
                <a:latin typeface="굴림체"/>
                <a:ea typeface="굴림체"/>
              </a:rPr>
              <a:t> </a:t>
            </a:r>
            <a:r>
              <a:rPr b="1" lang="ko-KR" sz="1700" spc="-1" strike="noStrike">
                <a:solidFill>
                  <a:srgbClr val="3333cc"/>
                </a:solidFill>
                <a:latin typeface="굴림체"/>
                <a:ea typeface="굴림체"/>
              </a:rPr>
              <a:t>A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F6A5AA-3D58-41AB-ACE5-4880BE298E0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4060800" y="1833480"/>
            <a:ext cx="541440" cy="3903840"/>
          </a:xfrm>
          <a:prstGeom prst="rect">
            <a:avLst/>
          </a:prstGeom>
          <a:gradFill rotWithShape="0">
            <a:gsLst>
              <a:gs pos="0">
                <a:srgbClr val="c5c5c5"/>
              </a:gs>
              <a:gs pos="50000">
                <a:srgbClr val="dddddd"/>
              </a:gs>
              <a:gs pos="100000">
                <a:srgbClr val="c5c5c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98480" y="1833480"/>
            <a:ext cx="411120" cy="3903840"/>
          </a:xfrm>
          <a:prstGeom prst="rect">
            <a:avLst/>
          </a:prstGeom>
          <a:gradFill rotWithShape="0">
            <a:gsLst>
              <a:gs pos="0">
                <a:srgbClr val="c5c5c5"/>
              </a:gs>
              <a:gs pos="50000">
                <a:srgbClr val="dddddd"/>
              </a:gs>
              <a:gs pos="100000">
                <a:srgbClr val="c5c5c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-5760" y="1414440"/>
            <a:ext cx="2062800" cy="3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굴림체"/>
              </a:rPr>
              <a:t>THISINPT_IDX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-6480" y="5857920"/>
            <a:ext cx="1796040" cy="3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굴림체"/>
              </a:rPr>
              <a:t>   </a:t>
            </a: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굴림체"/>
              </a:rPr>
              <a:t>INPTD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6000" y="1846440"/>
            <a:ext cx="109512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돋움"/>
              </a:rPr>
              <a:t>48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854360" y="1841400"/>
            <a:ext cx="1046160" cy="3882960"/>
          </a:xfrm>
          <a:prstGeom prst="rect">
            <a:avLst/>
          </a:prstGeom>
          <a:gradFill rotWithShape="0">
            <a:gsLst>
              <a:gs pos="0">
                <a:srgbClr val="7fb1ad"/>
              </a:gs>
              <a:gs pos="50000">
                <a:srgbClr val="b8fff9"/>
              </a:gs>
              <a:gs pos="100000">
                <a:srgbClr val="7fb1ad"/>
              </a:gs>
            </a:gsLst>
            <a:lin ang="108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627920" y="1312920"/>
            <a:ext cx="1567440" cy="54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THISIN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ctr">
              <a:lnSpc>
                <a:spcPct val="95000"/>
              </a:lnSpc>
              <a:buClr>
                <a:srgbClr val="000000"/>
              </a:buClr>
              <a:buSzPct val="120000"/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700" spc="-1" strike="noStrike">
                <a:solidFill>
                  <a:srgbClr val="3333cc"/>
                </a:solidFill>
                <a:latin typeface="굴림체"/>
                <a:ea typeface="굴림체"/>
              </a:rPr>
              <a:t>C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-5400" y="6086520"/>
            <a:ext cx="1819080" cy="3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굴림체"/>
              </a:rPr>
              <a:t>+ INPTCH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317400" y="1414440"/>
            <a:ext cx="2120760" cy="3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굴림체"/>
              </a:rPr>
              <a:t>THISCODE_PK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200560" y="1841400"/>
            <a:ext cx="1087560" cy="3882960"/>
          </a:xfrm>
          <a:prstGeom prst="rect">
            <a:avLst/>
          </a:prstGeom>
          <a:gradFill rotWithShape="0">
            <a:gsLst>
              <a:gs pos="0">
                <a:srgbClr val="7fb1ad"/>
              </a:gs>
              <a:gs pos="50000">
                <a:srgbClr val="b8fff9"/>
              </a:gs>
              <a:gs pos="100000">
                <a:srgbClr val="7fb1ad"/>
              </a:gs>
            </a:gsLst>
            <a:lin ang="108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946040" y="1312920"/>
            <a:ext cx="1675800" cy="54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THIS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ctr">
              <a:lnSpc>
                <a:spcPct val="95000"/>
              </a:lnSpc>
              <a:buClr>
                <a:srgbClr val="000000"/>
              </a:buClr>
              <a:buSzPct val="120000"/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700" spc="-1" strike="noStrike">
                <a:solidFill>
                  <a:srgbClr val="3333cc"/>
                </a:solidFill>
                <a:latin typeface="굴림체"/>
                <a:ea typeface="굴림체"/>
              </a:rPr>
              <a:t>A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96960" y="5937120"/>
            <a:ext cx="19468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굴림체"/>
              </a:rPr>
              <a:t>   </a:t>
            </a: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굴림체"/>
              </a:rPr>
              <a:t>CODEGUB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굴림체"/>
              </a:rPr>
              <a:t>+ CODENA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36920" y="2540160"/>
            <a:ext cx="1400040" cy="946080"/>
          </a:xfrm>
          <a:prstGeom prst="line">
            <a:avLst/>
          </a:prstGeom>
          <a:ln w="255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36920" y="2606760"/>
            <a:ext cx="1379520" cy="1154160"/>
          </a:xfrm>
          <a:prstGeom prst="line">
            <a:avLst/>
          </a:prstGeom>
          <a:ln w="12600">
            <a:solidFill>
              <a:srgbClr val="cc00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36920" y="4640040"/>
            <a:ext cx="1371600" cy="261720"/>
          </a:xfrm>
          <a:prstGeom prst="line">
            <a:avLst/>
          </a:prstGeom>
          <a:ln w="12600">
            <a:solidFill>
              <a:srgbClr val="cc00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356600" y="1833480"/>
            <a:ext cx="401400" cy="3903840"/>
          </a:xfrm>
          <a:prstGeom prst="rect">
            <a:avLst/>
          </a:prstGeom>
          <a:gradFill rotWithShape="0">
            <a:gsLst>
              <a:gs pos="0">
                <a:srgbClr val="c5c5c5"/>
              </a:gs>
              <a:gs pos="50000">
                <a:srgbClr val="dddddd"/>
              </a:gs>
              <a:gs pos="100000">
                <a:srgbClr val="c5c5c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8312040" y="1841400"/>
            <a:ext cx="1003320" cy="3882960"/>
          </a:xfrm>
          <a:prstGeom prst="rect">
            <a:avLst/>
          </a:prstGeom>
          <a:gradFill rotWithShape="0">
            <a:gsLst>
              <a:gs pos="0">
                <a:srgbClr val="7fb1ad"/>
              </a:gs>
              <a:gs pos="50000">
                <a:srgbClr val="b8fff9"/>
              </a:gs>
              <a:gs pos="100000">
                <a:srgbClr val="7fb1ad"/>
              </a:gs>
            </a:gsLst>
            <a:lin ang="108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985880" y="1312920"/>
            <a:ext cx="1656000" cy="54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THISPBS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ctr">
              <a:lnSpc>
                <a:spcPct val="95000"/>
              </a:lnSpc>
              <a:buClr>
                <a:srgbClr val="000000"/>
              </a:buClr>
              <a:buSzPct val="120000"/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700" spc="-1" strike="noStrike">
                <a:solidFill>
                  <a:srgbClr val="3333cc"/>
                </a:solidFill>
                <a:latin typeface="굴림체"/>
                <a:ea typeface="굴림체"/>
              </a:rPr>
              <a:t>B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80320" y="2881440"/>
            <a:ext cx="996840" cy="301320"/>
          </a:xfrm>
          <a:prstGeom prst="line">
            <a:avLst/>
          </a:prstGeom>
          <a:ln w="12600">
            <a:solidFill>
              <a:srgbClr val="cc00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7780320" y="3414600"/>
            <a:ext cx="976320" cy="424080"/>
          </a:xfrm>
          <a:prstGeom prst="line">
            <a:avLst/>
          </a:prstGeom>
          <a:ln w="255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780320" y="4772160"/>
            <a:ext cx="1006560" cy="185760"/>
          </a:xfrm>
          <a:prstGeom prst="line">
            <a:avLst/>
          </a:prstGeom>
          <a:ln w="12600">
            <a:solidFill>
              <a:srgbClr val="cc00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260320" y="1973160"/>
            <a:ext cx="9824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돋움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6045120" y="2881080"/>
            <a:ext cx="1281240" cy="90360"/>
          </a:xfrm>
          <a:prstGeom prst="line">
            <a:avLst/>
          </a:prstGeom>
          <a:ln w="12600">
            <a:solidFill>
              <a:srgbClr val="cc00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6045120" y="3832200"/>
            <a:ext cx="1298520" cy="587520"/>
          </a:xfrm>
          <a:prstGeom prst="line">
            <a:avLst/>
          </a:prstGeom>
          <a:ln w="255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6045120" y="4784760"/>
            <a:ext cx="1298520" cy="239760"/>
          </a:xfrm>
          <a:prstGeom prst="line">
            <a:avLst/>
          </a:prstGeom>
          <a:ln w="12600">
            <a:solidFill>
              <a:srgbClr val="cc00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556680" y="1414440"/>
            <a:ext cx="2100960" cy="3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굴림체"/>
              </a:rPr>
              <a:t>THISPBSC_PK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719760" y="5857920"/>
            <a:ext cx="1796040" cy="3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굴림체"/>
              </a:rPr>
              <a:t>  </a:t>
            </a: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굴림체"/>
              </a:rPr>
              <a:t>PBSCIDN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8367120" y="1971720"/>
            <a:ext cx="9824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돋움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242440" y="243000"/>
            <a:ext cx="5659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5.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인덱스 컬럼의 분리에 따른 문제 해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733920" y="1846440"/>
            <a:ext cx="120780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ff3300"/>
                </a:solidFill>
                <a:latin typeface="Arial"/>
                <a:ea typeface="돋움"/>
              </a:rPr>
              <a:t>32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825920" y="1935000"/>
            <a:ext cx="109512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돋움"/>
              </a:rPr>
              <a:t>48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071840" y="1846440"/>
            <a:ext cx="9824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ff3300"/>
                </a:solidFill>
                <a:latin typeface="Arial"/>
                <a:ea typeface="돋움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117080" y="3673440"/>
            <a:ext cx="817560" cy="6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817560" y="2887560"/>
            <a:ext cx="385920" cy="203832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563040" y="2967120"/>
            <a:ext cx="397440" cy="2035080"/>
            <a:chOff x="563040" y="2967120"/>
            <a:chExt cx="397440" cy="2035080"/>
          </a:xfrm>
        </p:grpSpPr>
        <p:sp>
          <p:nvSpPr>
            <p:cNvPr id="241" name=""/>
            <p:cNvSpPr/>
            <p:nvPr/>
          </p:nvSpPr>
          <p:spPr>
            <a:xfrm>
              <a:off x="628560" y="2967120"/>
              <a:ext cx="317520" cy="0"/>
            </a:xfrm>
            <a:prstGeom prst="line">
              <a:avLst/>
            </a:prstGeom>
            <a:ln w="25560">
              <a:solidFill>
                <a:srgbClr val="99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960480" y="2967120"/>
              <a:ext cx="0" cy="2035080"/>
            </a:xfrm>
            <a:prstGeom prst="line">
              <a:avLst/>
            </a:prstGeom>
            <a:ln w="25560">
              <a:solidFill>
                <a:srgbClr val="99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flipH="1">
              <a:off x="563040" y="5002200"/>
              <a:ext cx="382680" cy="0"/>
            </a:xfrm>
            <a:prstGeom prst="line">
              <a:avLst/>
            </a:prstGeom>
            <a:ln w="25560">
              <a:solidFill>
                <a:srgbClr val="99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4" name=""/>
          <p:cNvSpPr/>
          <p:nvPr/>
        </p:nvSpPr>
        <p:spPr>
          <a:xfrm>
            <a:off x="7365960" y="2836800"/>
            <a:ext cx="382680" cy="6516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222200" y="3198960"/>
            <a:ext cx="1038240" cy="576000"/>
          </a:xfrm>
          <a:prstGeom prst="line">
            <a:avLst/>
          </a:prstGeom>
          <a:ln w="12600">
            <a:solidFill>
              <a:srgbClr val="cc00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1222200" y="2549160"/>
            <a:ext cx="1098720" cy="412920"/>
          </a:xfrm>
          <a:prstGeom prst="line">
            <a:avLst/>
          </a:prstGeom>
          <a:ln w="255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217520" y="4822920"/>
            <a:ext cx="1103400" cy="92160"/>
          </a:xfrm>
          <a:prstGeom prst="line">
            <a:avLst/>
          </a:prstGeom>
          <a:ln w="12600">
            <a:solidFill>
              <a:srgbClr val="cc00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073400" y="2521080"/>
            <a:ext cx="522360" cy="51264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9" name=""/>
          <p:cNvGrpSpPr/>
          <p:nvPr/>
        </p:nvGrpSpPr>
        <p:grpSpPr>
          <a:xfrm>
            <a:off x="3879720" y="2600280"/>
            <a:ext cx="289080" cy="496800"/>
            <a:chOff x="3879720" y="2600280"/>
            <a:chExt cx="289080" cy="496800"/>
          </a:xfrm>
        </p:grpSpPr>
        <p:sp>
          <p:nvSpPr>
            <p:cNvPr id="250" name=""/>
            <p:cNvSpPr/>
            <p:nvPr/>
          </p:nvSpPr>
          <p:spPr>
            <a:xfrm>
              <a:off x="3924360" y="2600280"/>
              <a:ext cx="234720" cy="0"/>
            </a:xfrm>
            <a:prstGeom prst="line">
              <a:avLst/>
            </a:prstGeom>
            <a:ln w="12600">
              <a:solidFill>
                <a:srgbClr val="99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168800" y="2600280"/>
              <a:ext cx="0" cy="496800"/>
            </a:xfrm>
            <a:prstGeom prst="line">
              <a:avLst/>
            </a:prstGeom>
            <a:ln w="12600">
              <a:solidFill>
                <a:srgbClr val="99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>
              <a:off x="3879720" y="3097080"/>
              <a:ext cx="279360" cy="0"/>
            </a:xfrm>
            <a:prstGeom prst="line">
              <a:avLst/>
            </a:prstGeom>
            <a:ln w="12600">
              <a:solidFill>
                <a:srgbClr val="990066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3" name=""/>
          <p:cNvSpPr/>
          <p:nvPr/>
        </p:nvSpPr>
        <p:spPr>
          <a:xfrm>
            <a:off x="4073400" y="3409920"/>
            <a:ext cx="522360" cy="60948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3873240" y="3490920"/>
            <a:ext cx="309960" cy="630360"/>
            <a:chOff x="3873240" y="3490920"/>
            <a:chExt cx="309960" cy="630360"/>
          </a:xfrm>
        </p:grpSpPr>
        <p:sp>
          <p:nvSpPr>
            <p:cNvPr id="255" name=""/>
            <p:cNvSpPr/>
            <p:nvPr/>
          </p:nvSpPr>
          <p:spPr>
            <a:xfrm>
              <a:off x="3924360" y="3490920"/>
              <a:ext cx="247680" cy="0"/>
            </a:xfrm>
            <a:prstGeom prst="line">
              <a:avLst/>
            </a:prstGeom>
            <a:ln w="25560">
              <a:solidFill>
                <a:srgbClr val="99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183200" y="3490920"/>
              <a:ext cx="0" cy="630360"/>
            </a:xfrm>
            <a:prstGeom prst="line">
              <a:avLst/>
            </a:prstGeom>
            <a:ln w="25560">
              <a:solidFill>
                <a:srgbClr val="99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 flipH="1">
              <a:off x="3873240" y="4121280"/>
              <a:ext cx="298440" cy="0"/>
            </a:xfrm>
            <a:prstGeom prst="line">
              <a:avLst/>
            </a:prstGeom>
            <a:ln w="25560">
              <a:solidFill>
                <a:srgbClr val="99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8" name=""/>
          <p:cNvSpPr/>
          <p:nvPr/>
        </p:nvSpPr>
        <p:spPr>
          <a:xfrm>
            <a:off x="4073400" y="4576680"/>
            <a:ext cx="522360" cy="31932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3873240" y="4638600"/>
            <a:ext cx="295560" cy="346320"/>
            <a:chOff x="3873240" y="4638600"/>
            <a:chExt cx="295560" cy="346320"/>
          </a:xfrm>
        </p:grpSpPr>
        <p:sp>
          <p:nvSpPr>
            <p:cNvPr id="260" name=""/>
            <p:cNvSpPr/>
            <p:nvPr/>
          </p:nvSpPr>
          <p:spPr>
            <a:xfrm>
              <a:off x="3919680" y="4638600"/>
              <a:ext cx="237960" cy="0"/>
            </a:xfrm>
            <a:prstGeom prst="line">
              <a:avLst/>
            </a:prstGeom>
            <a:ln w="12600">
              <a:solidFill>
                <a:srgbClr val="99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168800" y="4638600"/>
              <a:ext cx="0" cy="346320"/>
            </a:xfrm>
            <a:prstGeom prst="line">
              <a:avLst/>
            </a:prstGeom>
            <a:ln w="12600">
              <a:solidFill>
                <a:srgbClr val="99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>
              <a:off x="3873240" y="4984920"/>
              <a:ext cx="284040" cy="0"/>
            </a:xfrm>
            <a:prstGeom prst="line">
              <a:avLst/>
            </a:prstGeom>
            <a:ln w="12600">
              <a:solidFill>
                <a:srgbClr val="990066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3" name=""/>
          <p:cNvSpPr/>
          <p:nvPr/>
        </p:nvSpPr>
        <p:spPr>
          <a:xfrm>
            <a:off x="4316400" y="2554200"/>
            <a:ext cx="119520" cy="1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0033"/>
                </a:solidFill>
                <a:latin typeface="Arial"/>
                <a:ea typeface="굴림체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316400" y="2892600"/>
            <a:ext cx="119520" cy="1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0033"/>
                </a:solidFill>
                <a:latin typeface="Arial"/>
                <a:ea typeface="굴림체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316400" y="3414600"/>
            <a:ext cx="119520" cy="1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0033"/>
                </a:solidFill>
                <a:latin typeface="Arial"/>
                <a:ea typeface="굴림체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316400" y="3573360"/>
            <a:ext cx="119520" cy="1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0033"/>
                </a:solidFill>
                <a:latin typeface="Arial"/>
                <a:ea typeface="굴림체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316400" y="3746520"/>
            <a:ext cx="119520" cy="1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0033"/>
                </a:solidFill>
                <a:latin typeface="Arial"/>
                <a:ea typeface="굴림체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316400" y="4611600"/>
            <a:ext cx="119520" cy="1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0033"/>
                </a:solidFill>
                <a:latin typeface="Arial"/>
                <a:ea typeface="굴림체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316040" y="2738520"/>
            <a:ext cx="139320" cy="1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6600"/>
                </a:solidFill>
                <a:latin typeface="Arial"/>
                <a:ea typeface="굴림체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316040" y="4753080"/>
            <a:ext cx="139320" cy="1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6600"/>
                </a:solidFill>
                <a:latin typeface="Arial"/>
                <a:ea typeface="굴림체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308120" y="3900600"/>
            <a:ext cx="139320" cy="1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6600"/>
                </a:solidFill>
                <a:latin typeface="Arial"/>
                <a:ea typeface="굴림체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614840" y="2793960"/>
            <a:ext cx="1060560" cy="173160"/>
          </a:xfrm>
          <a:prstGeom prst="line">
            <a:avLst/>
          </a:prstGeom>
          <a:ln w="12600">
            <a:solidFill>
              <a:srgbClr val="cc00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621320" y="4829040"/>
            <a:ext cx="1020600" cy="216000"/>
          </a:xfrm>
          <a:prstGeom prst="line">
            <a:avLst/>
          </a:prstGeom>
          <a:ln w="12600">
            <a:solidFill>
              <a:srgbClr val="cc00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611600" y="3970440"/>
            <a:ext cx="1087560" cy="439560"/>
          </a:xfrm>
          <a:prstGeom prst="line">
            <a:avLst/>
          </a:prstGeom>
          <a:ln w="255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7365960" y="3792600"/>
            <a:ext cx="382680" cy="6516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365960" y="4748040"/>
            <a:ext cx="382680" cy="6516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8942400" y="3164040"/>
            <a:ext cx="723960" cy="4680"/>
          </a:xfrm>
          <a:prstGeom prst="line">
            <a:avLst/>
          </a:prstGeom>
          <a:ln w="12600">
            <a:solidFill>
              <a:srgbClr val="cc00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8943840" y="3443400"/>
            <a:ext cx="722520" cy="0"/>
          </a:xfrm>
          <a:prstGeom prst="line">
            <a:avLst/>
          </a:prstGeom>
          <a:ln w="255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8970840" y="3630600"/>
            <a:ext cx="695520" cy="1309680"/>
          </a:xfrm>
          <a:prstGeom prst="line">
            <a:avLst/>
          </a:prstGeom>
          <a:ln w="12600">
            <a:solidFill>
              <a:srgbClr val="cc00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D924EC-394A-4837-A3FF-B7E602AB2B7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2242440" y="243000"/>
            <a:ext cx="5659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5.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인덱스 컬럼의 분리에 따른 문제 해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82600" y="1103400"/>
            <a:ext cx="9701280" cy="223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문제점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C.INPTCHRS  =  SUBSTR(A.CODENAME, 1, 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THISINPT(C) --&gt; THISCODE(A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21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해결방안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ff3300"/>
                </a:solidFill>
                <a:latin typeface="굴림체"/>
                <a:ea typeface="굴림체"/>
              </a:rPr>
              <a:t>THISCODE(A) --&gt; THISINPT(C) --&gt; THISPBSC(B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282680" y="3462480"/>
            <a:ext cx="7645320" cy="3062160"/>
          </a:xfrm>
          <a:prstGeom prst="roundRect">
            <a:avLst>
              <a:gd name="adj" fmla="val 599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 </a:t>
            </a:r>
            <a:r>
              <a:rPr b="1" lang="ko-KR" sz="1800" spc="-1" strike="noStrike">
                <a:solidFill>
                  <a:srgbClr val="ff3300"/>
                </a:solidFill>
                <a:latin typeface="굴림체"/>
                <a:ea typeface="굴림체"/>
              </a:rPr>
              <a:t>/*+ ORDERED */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INPTIDNO,INPTPKND,INPT,   ..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.........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 </a:t>
            </a:r>
            <a:r>
              <a:rPr b="1" lang="ko-KR" sz="1800" spc="-1" strike="noStrike">
                <a:solidFill>
                  <a:srgbClr val="ff3300"/>
                </a:solidFill>
                <a:latin typeface="굴림체"/>
                <a:ea typeface="굴림체"/>
              </a:rPr>
              <a:t>THISCODE  A, THISINPT  C, THISPBSC 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</a:t>
            </a:r>
            <a:r>
              <a:rPr b="1" lang="ko-KR" sz="1800" spc="-1" strike="noStrike">
                <a:solidFill>
                  <a:srgbClr val="ff33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C.INPTCHRS  =  SUBSTR(</a:t>
            </a:r>
            <a:r>
              <a:rPr b="1" lang="ko-KR" sz="1800" spc="-1" strike="noStrike">
                <a:solidFill>
                  <a:srgbClr val="00cc99"/>
                </a:solidFill>
                <a:latin typeface="굴림체"/>
                <a:ea typeface="굴림체"/>
              </a:rPr>
              <a:t>A.CODENAME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, 1, 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</a:t>
            </a:r>
            <a:r>
              <a:rPr b="1" lang="ko-KR" sz="1800" spc="-1" strike="noStrike">
                <a:solidFill>
                  <a:srgbClr val="ff33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C.INPTDATE  =  :B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  C.INPTGUBN  IN  ('A','B')  AND  C.INPTBYBY  LIKE  '1%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  C.INPTIDNO  = 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B.PBSCID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  </a:t>
            </a:r>
            <a:r>
              <a:rPr b="1" lang="ko-KR" sz="1800" spc="-1" strike="noStrike">
                <a:solidFill>
                  <a:srgbClr val="00cc99"/>
                </a:solidFill>
                <a:latin typeface="굴림체"/>
                <a:ea typeface="굴림체"/>
              </a:rPr>
              <a:t>A.CODEGUBN  =  '11'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4AEC64-12A8-4C2E-954A-E2AB803B877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-443160" y="3213000"/>
            <a:ext cx="7327440" cy="202212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NVL(CODE, ' '), NVL(EDSC, ' '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SUG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CODE  LIKE  :B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 (SERL||'' = 'CA'  OR  SERL||'' = 'DA'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 ROWNUM &lt; 21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283120" y="243000"/>
            <a:ext cx="5446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6.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의도적 인덱스 컬럼의 변형시 주의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82600" y="1103400"/>
            <a:ext cx="9567720" cy="195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인덱스정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UGA : SUGA_CODE_SE_PK : CODE + SER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UGA : SUGA_SERL_IX    : SERL + EDS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UGA : SUGA_SERL_IX2   : PART_CODE + EDSC + SERL + MODEL_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395520" y="4921200"/>
            <a:ext cx="6351840" cy="203940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600" spc="-1" strike="noStrike">
                <a:solidFill>
                  <a:srgbClr val="cc0000"/>
                </a:solidFill>
                <a:latin typeface="굴림체"/>
                <a:ea typeface="굴림체"/>
              </a:rPr>
              <a:t>ROWS  EXECUTION PL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-----  ---------------------------------------------------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0  SELECT STAT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20   COUNT (STOPKE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20    TABLE ACCESS (BY ROWID) OF 'SUGA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600" spc="-1" strike="noStrike">
                <a:solidFill>
                  <a:srgbClr val="ff0033"/>
                </a:solidFill>
                <a:latin typeface="굴림체"/>
                <a:ea typeface="굴림체"/>
              </a:rPr>
              <a:t>6581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 INDEX (RANGE SCAN) OF </a:t>
            </a:r>
            <a:r>
              <a:rPr b="1" lang="ko-KR" sz="1600" spc="-1" strike="noStrike">
                <a:solidFill>
                  <a:srgbClr val="ff0033"/>
                </a:solidFill>
                <a:latin typeface="굴림체"/>
                <a:ea typeface="굴림체"/>
              </a:rPr>
              <a:t>'SUGA_CODE_SE_PK'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(UNIQU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8C79E5-706E-4501-BB8C-7F27FA0727B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297000" y="1192320"/>
            <a:ext cx="9567720" cy="53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해결방안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 NVL(CODE, ' '), NVL(EDSC, ' '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FROM   SUG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WHERE   CODE  LIKE  :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  </a:t>
            </a:r>
            <a:r>
              <a:rPr b="1" lang="ko-KR" sz="1600" spc="-1" strike="noStrike">
                <a:solidFill>
                  <a:srgbClr val="ff3300"/>
                </a:solidFill>
                <a:latin typeface="굴림체"/>
                <a:ea typeface="굴림체"/>
              </a:rPr>
              <a:t>AND   SERL IN ('CA' , 'DA'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AND   ROWNUM &lt; 21 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33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ff3300"/>
                </a:solidFill>
                <a:latin typeface="굴림체"/>
                <a:ea typeface="굴림체"/>
              </a:rPr>
              <a:t>IN --&gt; OR --&gt; OR </a:t>
            </a:r>
            <a:r>
              <a:rPr b="1" lang="ko-KR" sz="1800" spc="-1" strike="noStrike">
                <a:solidFill>
                  <a:srgbClr val="ff3300"/>
                </a:solidFill>
                <a:latin typeface="굴림체"/>
                <a:ea typeface="굴림체"/>
              </a:rPr>
              <a:t>와 </a:t>
            </a:r>
            <a:r>
              <a:rPr b="1" lang="ko-KR" sz="1800" spc="-1" strike="noStrike">
                <a:solidFill>
                  <a:srgbClr val="ff3300"/>
                </a:solidFill>
                <a:latin typeface="굴림체"/>
                <a:ea typeface="굴림체"/>
              </a:rPr>
              <a:t>ROWNUM </a:t>
            </a:r>
            <a:r>
              <a:rPr b="1" lang="ko-KR" sz="1800" spc="-1" strike="noStrike">
                <a:solidFill>
                  <a:srgbClr val="ff3300"/>
                </a:solidFill>
                <a:latin typeface="굴림체"/>
                <a:ea typeface="굴림체"/>
              </a:rPr>
              <a:t>같이 사용 </a:t>
            </a:r>
            <a:r>
              <a:rPr b="1" lang="ko-KR" sz="1800" spc="-1" strike="noStrike">
                <a:solidFill>
                  <a:srgbClr val="ff3300"/>
                </a:solidFill>
                <a:latin typeface="굴림체"/>
                <a:ea typeface="굴림체"/>
              </a:rPr>
              <a:t>--&gt; FILTER --&gt; </a:t>
            </a:r>
            <a:r>
              <a:rPr b="1" lang="ko-KR" sz="1800" spc="-1" strike="noStrike">
                <a:solidFill>
                  <a:srgbClr val="ff3300"/>
                </a:solidFill>
                <a:latin typeface="굴림체"/>
                <a:ea typeface="굴림체"/>
              </a:rPr>
              <a:t>전체범위 처리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NVL(CODE, ' '), NVL(EDSC, ' '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FROM  (SELECT  CODE, EDS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FROM  SUG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WHERE  CODE LIKE :B1 AND SERL = 'CA'     &lt;---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첫번째 실행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</a:t>
            </a:r>
            <a:r>
              <a:rPr b="1" lang="ko-KR" sz="1600" spc="-1" strike="noStrike">
                <a:solidFill>
                  <a:srgbClr val="ff3300"/>
                </a:solidFill>
                <a:latin typeface="굴림체"/>
                <a:ea typeface="굴림체"/>
              </a:rPr>
              <a:t>UNION A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CODE, EDS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FROM  SUG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WHERE  CODE LIKE :B1 AND SERL = 'DA')   &lt;---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두 번째 실행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WHERE  ROWNUM &lt; 21 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33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ff3300"/>
                </a:solidFill>
                <a:latin typeface="굴림체"/>
                <a:ea typeface="굴림체"/>
              </a:rPr>
              <a:t>SUGA_CODE_SE_PK : SERL +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283120" y="243000"/>
            <a:ext cx="5446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6.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의도적 인덱스 컬럼의 변형시 주의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82480" y="1822320"/>
            <a:ext cx="5440320" cy="141624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82480" y="3710160"/>
            <a:ext cx="7239240" cy="238572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094FDC-C6D0-4FA6-964D-632B31E2C28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552600" y="3195720"/>
            <a:ext cx="7615080" cy="1891080"/>
          </a:xfrm>
          <a:prstGeom prst="roundRect">
            <a:avLst>
              <a:gd name="adj" fmla="val 1389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DWG_Q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DRAW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330099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330099"/>
                </a:solidFill>
                <a:latin typeface="굴림체"/>
                <a:ea typeface="굴림체"/>
              </a:rPr>
              <a:t>WHERE  DWG1  ||  DWG2 || DWG3   &gt;  :DWG1 ||  :DWG2  ||  :DWG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 ROWNUM  =  1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283840" y="243000"/>
            <a:ext cx="5446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7.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컬럼값을 연결하여 사용할 때 주의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82600" y="1103400"/>
            <a:ext cx="9567720" cy="209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인덱스정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DRAWING : DWG_X1  : DWG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DRAWING : DWG_X2  : DW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DRAWING : DWG_X3  : DWG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839160" y="4844880"/>
            <a:ext cx="7455240" cy="1708200"/>
            <a:chOff x="839160" y="4844880"/>
            <a:chExt cx="7455240" cy="1708200"/>
          </a:xfrm>
        </p:grpSpPr>
        <p:sp>
          <p:nvSpPr>
            <p:cNvPr id="295" name=""/>
            <p:cNvSpPr/>
            <p:nvPr/>
          </p:nvSpPr>
          <p:spPr>
            <a:xfrm>
              <a:off x="839880" y="5624640"/>
              <a:ext cx="7454520" cy="91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</a:t>
              </a:r>
              <a:r>
                <a:rPr b="1" lang="ko-KR" sz="18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4      3     </a:t>
              </a:r>
              <a:r>
                <a:rPr b="1" lang="ko-KR" sz="1800" spc="-1" strike="noStrike">
                  <a:solidFill>
                    <a:srgbClr val="ff0033"/>
                  </a:solidFill>
                  <a:latin typeface="굴림체"/>
                  <a:ea typeface="굴림체"/>
                </a:rPr>
                <a:t> 4</a:t>
              </a:r>
              <a:r>
                <a:rPr b="1" lang="ko-KR" sz="18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    &gt;       4       3       </a:t>
              </a:r>
              <a:r>
                <a:rPr b="1" lang="ko-KR" sz="1800" spc="-1" strike="noStrike">
                  <a:solidFill>
                    <a:srgbClr val="ff0033"/>
                  </a:solidFill>
                  <a:latin typeface="굴림체"/>
                  <a:ea typeface="굴림체"/>
                </a:rPr>
                <a:t>3</a:t>
              </a:r>
              <a:r>
                <a:rPr b="1" lang="ko-KR" sz="18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</a:t>
              </a:r>
              <a:r>
                <a:rPr b="1" lang="ko-KR" sz="18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0     </a:t>
              </a:r>
              <a:r>
                <a:rPr b="1" lang="ko-KR" sz="1800" spc="-1" strike="noStrike">
                  <a:solidFill>
                    <a:srgbClr val="ff0033"/>
                  </a:solidFill>
                  <a:latin typeface="굴림체"/>
                  <a:ea typeface="굴림체"/>
                </a:rPr>
                <a:t> 2</a:t>
              </a:r>
              <a:r>
                <a:rPr b="1" lang="ko-KR" sz="18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  35       &gt;       0       </a:t>
              </a:r>
              <a:r>
                <a:rPr b="1" lang="ko-KR" sz="1800" spc="-1" strike="noStrike">
                  <a:solidFill>
                    <a:srgbClr val="ff0033"/>
                  </a:solidFill>
                  <a:latin typeface="굴림체"/>
                  <a:ea typeface="굴림체"/>
                </a:rPr>
                <a:t>1</a:t>
              </a:r>
              <a:r>
                <a:rPr b="1" lang="ko-KR" sz="18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   6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</a:t>
              </a:r>
              <a:r>
                <a:rPr b="1" lang="ko-KR" sz="1800" spc="-1" strike="noStrike">
                  <a:solidFill>
                    <a:srgbClr val="ff0033"/>
                  </a:solidFill>
                  <a:latin typeface="굴림체"/>
                  <a:ea typeface="굴림체"/>
                </a:rPr>
                <a:t>12</a:t>
              </a:r>
              <a:r>
                <a:rPr b="1" lang="ko-KR" sz="18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   3      2       &gt;      </a:t>
              </a:r>
              <a:r>
                <a:rPr b="1" lang="ko-KR" sz="1800" spc="-1" strike="noStrike">
                  <a:solidFill>
                    <a:srgbClr val="ff0033"/>
                  </a:solidFill>
                  <a:latin typeface="굴림체"/>
                  <a:ea typeface="굴림체"/>
                </a:rPr>
                <a:t>11</a:t>
              </a:r>
              <a:r>
                <a:rPr b="1" lang="ko-KR" sz="18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    3       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39160" y="5237280"/>
              <a:ext cx="7454520" cy="366840"/>
            </a:xfrm>
            <a:prstGeom prst="rect">
              <a:avLst/>
            </a:prstGeom>
            <a:solidFill>
              <a:srgbClr val="ebebe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330099"/>
                  </a:solidFill>
                  <a:latin typeface="굴림체"/>
                  <a:ea typeface="굴림체"/>
                </a:rPr>
                <a:t> </a:t>
              </a:r>
              <a:r>
                <a:rPr b="1" lang="ko-KR" sz="1800" spc="-1" strike="noStrike">
                  <a:solidFill>
                    <a:srgbClr val="330099"/>
                  </a:solidFill>
                  <a:latin typeface="굴림체"/>
                  <a:ea typeface="굴림체"/>
                </a:rPr>
                <a:t>DWG1   DWG2   DWG3            :DWG1   :DWG2   :DWG3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1631520" y="4844880"/>
              <a:ext cx="5863320" cy="36684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0066"/>
                  </a:solidFill>
                  <a:latin typeface="굴림체"/>
                  <a:ea typeface="굴림체"/>
                </a:rPr>
                <a:t>       </a:t>
              </a:r>
              <a:r>
                <a:rPr b="1" lang="ko-KR" sz="1800" spc="-1" strike="noStrike">
                  <a:solidFill>
                    <a:srgbClr val="000066"/>
                  </a:solidFill>
                  <a:latin typeface="굴림체"/>
                  <a:ea typeface="굴림체"/>
                </a:rPr>
                <a:t>컬럼값        크기비교        입력변수값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3840120" y="4846680"/>
              <a:ext cx="0" cy="169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4937040" y="4861080"/>
              <a:ext cx="0" cy="1692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82D4EA-429A-468A-B96F-031523D5A4F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1183320" y="1214280"/>
            <a:ext cx="3953160" cy="143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3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해결방안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762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762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돋움체"/>
                <a:ea typeface="돋움체"/>
              </a:rPr>
              <a:t>컬럼값과 변수값의 길이가 동일하다는 전제조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-47520" y="2620800"/>
            <a:ext cx="9685080" cy="237780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</a:t>
            </a:r>
            <a:r>
              <a:rPr b="1" lang="ko-KR" sz="1800" spc="-1" strike="noStrike">
                <a:solidFill>
                  <a:srgbClr val="ff3300"/>
                </a:solidFill>
                <a:latin typeface="굴림체"/>
                <a:ea typeface="굴림체"/>
              </a:rPr>
              <a:t>/*+ USE_CONCAT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DWG_Q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DRAW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 (  (DWG1 = :DWG1  AND  DWG2 = :DWG2  AND  DWG3 &gt; :DWG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      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OR (DWG1 = :DWG1  AND  DWG2 &gt; :DWG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      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OR (DWG1 &gt; :DWG1)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 ROWNUM  =  1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283840" y="243000"/>
            <a:ext cx="5446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7.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컬럼값을 연결하여 사용할 때 주의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64C87F-F0BA-4407-A17B-A84DD3FD218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1901880" y="243000"/>
            <a:ext cx="6168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8. LOOP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내에 사용되는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SQL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의 주의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82600" y="1103400"/>
            <a:ext cx="9567720" cy="11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인덱스정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109 : A109_IND1 :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JHCOD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+ SE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5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-114120" y="2308320"/>
            <a:ext cx="9605520" cy="128340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 SEQ   INTO  :WWSE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 A10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  JHCOD  =  :B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 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SUBSTR (JEPUM, 1, :LEN1)  =  SUBSTR (:WWJEPUM , 1, :LEN1)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082520" y="3610080"/>
            <a:ext cx="7635960" cy="435492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CALL         COUNT      CPU     ELAPSED       DISK    QUERY     CURRENT     ROW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--------   ------- --------  ---------- ---------- -------- ----------- -----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PARSE            1     0.00        0.00          0        0           0        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400" spc="-1" strike="noStrike">
                <a:solidFill>
                  <a:srgbClr val="ff0033"/>
                </a:solidFill>
                <a:latin typeface="굴림체"/>
                <a:ea typeface="굴림체"/>
              </a:rPr>
              <a:t>EXECUTE      41722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 25.29       36.67          0        0           0        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FETCH        41722  3677.99     4516.42     255667 17066322           0    4172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--------   ------- --------  ---------- ---------- -------- ----------- -----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TOTAL        83444  3703.28     4553.09     255667 17066322           0    4172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cc0000"/>
                </a:solidFill>
                <a:latin typeface="굴림체"/>
                <a:ea typeface="굴림체"/>
              </a:rPr>
              <a:t>    </a:t>
            </a:r>
            <a:r>
              <a:rPr b="1" lang="ko-KR" sz="1400" spc="-1" strike="noStrike">
                <a:solidFill>
                  <a:srgbClr val="cc0000"/>
                </a:solidFill>
                <a:latin typeface="굴림체"/>
                <a:ea typeface="굴림체"/>
              </a:rPr>
              <a:t>ROWS   EXECUTION PL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-------   ---------------------------------------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Times New Roman"/>
                <a:ea typeface="굴림체"/>
              </a:rPr>
              <a:t>            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0   SELECT   STAT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8449717     TABLE  ACCESS  (BY  ROWID)  OF  'A109'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3300"/>
                </a:solidFill>
                <a:latin typeface="굴림체"/>
                <a:ea typeface="굴림체"/>
              </a:rPr>
              <a:t> </a:t>
            </a:r>
            <a:r>
              <a:rPr b="1" lang="ko-KR" sz="1400" spc="-1" strike="noStrike">
                <a:solidFill>
                  <a:srgbClr val="ff3300"/>
                </a:solidFill>
                <a:latin typeface="굴림체"/>
                <a:ea typeface="굴림체"/>
              </a:rPr>
              <a:t>8491439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    INDEX  (RANGE  SCAN)  OF  </a:t>
            </a:r>
            <a:r>
              <a:rPr b="1" lang="ko-KR" sz="1400" spc="-1" strike="noStrike">
                <a:solidFill>
                  <a:srgbClr val="ff0033"/>
                </a:solidFill>
                <a:latin typeface="굴림체"/>
                <a:ea typeface="굴림체"/>
              </a:rPr>
              <a:t>'A109_IND1'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( NON - UNIQUE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3A491B-66B0-4493-AA1D-44F6573591F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439640" y="228600"/>
            <a:ext cx="817884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8. LOOP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내에 사용되는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SQL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의 주의점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328680" y="1142640"/>
            <a:ext cx="9524880" cy="2894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해결방안</a:t>
            </a: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  <a:p>
            <a:pPr marL="285840" indent="0" algn="just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  <a:p>
            <a:pPr lvl="1" marL="476280" algn="just">
              <a:lnSpc>
                <a:spcPct val="130000"/>
              </a:lnSpc>
              <a:buClr>
                <a:srgbClr val="ff3300"/>
              </a:buClr>
              <a:buSzPct val="8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 </a:t>
            </a: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WHERE </a:t>
            </a: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문 수정</a:t>
            </a: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  <a:p>
            <a:pPr marL="285840" indent="0" algn="just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3333cc"/>
                </a:solidFill>
                <a:latin typeface="굴림체"/>
              </a:rPr>
              <a:t>          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</a:rPr>
              <a:t>SUBSTR(JEPUM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</a:rPr>
              <a:t>, 1, :LEN1) = SUBSTR(:WWJEPUM, 1, :LEN1) </a:t>
            </a: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  <a:p>
            <a:pPr marL="285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</a:rPr>
              <a:t>==&gt; </a:t>
            </a:r>
            <a:r>
              <a:rPr b="1" lang="ko-KR" sz="1800" spc="-1" strike="noStrike">
                <a:solidFill>
                  <a:srgbClr val="ff3300"/>
                </a:solidFill>
                <a:latin typeface="굴림체"/>
              </a:rPr>
              <a:t>JEPUM  LIKE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</a:rPr>
              <a:t>  SUBSTR(:WWJEPUM, 1, :LEN1) || '%'</a:t>
            </a: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  <a:p>
            <a:pPr marL="285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  <a:p>
            <a:pPr lvl="1" marL="476280" algn="just">
              <a:lnSpc>
                <a:spcPct val="130000"/>
              </a:lnSpc>
              <a:buClr>
                <a:srgbClr val="ff3300"/>
              </a:buClr>
              <a:buSzPct val="8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 </a:t>
            </a: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인덱스 수정</a:t>
            </a: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  <a:p>
            <a:pPr lvl="1" marL="476280" indent="0" algn="just">
              <a:lnSpc>
                <a:spcPct val="1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</a:rPr>
              <a:t>A109 : A109_IND1 : JHCOD +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</a:rPr>
              <a:t>JEPUM</a:t>
            </a: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  <p:sp>
        <p:nvSpPr>
          <p:cNvPr id="309" name=""/>
          <p:cNvSpPr/>
          <p:nvPr/>
        </p:nvSpPr>
        <p:spPr>
          <a:xfrm>
            <a:off x="-352800" y="4353480"/>
            <a:ext cx="8865720" cy="1808280"/>
          </a:xfrm>
          <a:prstGeom prst="roundRect">
            <a:avLst>
              <a:gd name="adj" fmla="val 124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4480" rIns="114480" tIns="152280" bIns="152280" anchor="ctr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 SE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INTO   :WWSE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 A10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  JHCOD  =  :B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  </a:t>
            </a:r>
            <a:r>
              <a:rPr b="1" lang="ko-KR" sz="1800" spc="-1" strike="noStrike">
                <a:solidFill>
                  <a:srgbClr val="ff3300"/>
                </a:solidFill>
                <a:latin typeface="굴림체"/>
                <a:ea typeface="굴림체"/>
              </a:rPr>
              <a:t>JEPUM  LIKE  SUBSTR(:WWJEPUM, 1, :LEN1) || '%'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96880" y="1822320"/>
            <a:ext cx="7424640" cy="228600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B255FA-B2E1-424A-8CE7-1ACCD63018E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1712880" y="2762280"/>
            <a:ext cx="2251080" cy="284040"/>
          </a:xfrm>
          <a:prstGeom prst="rect">
            <a:avLst/>
          </a:prstGeom>
          <a:solidFill>
            <a:srgbClr val="cbcbcb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A             110           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712880" y="3057480"/>
            <a:ext cx="2251080" cy="284040"/>
          </a:xfrm>
          <a:prstGeom prst="rect">
            <a:avLst/>
          </a:prstGeom>
          <a:solidFill>
            <a:srgbClr val="cbcbcb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330099"/>
                </a:solidFill>
                <a:latin typeface="Arial"/>
                <a:ea typeface="돋움"/>
              </a:rPr>
              <a:t>A             111</a:t>
            </a: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            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712880" y="3346560"/>
            <a:ext cx="2251080" cy="28404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ff3300"/>
                </a:solidFill>
                <a:latin typeface="Arial"/>
                <a:ea typeface="돋움"/>
              </a:rPr>
              <a:t>A             112</a:t>
            </a: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              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514520" y="2422440"/>
            <a:ext cx="26006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000066"/>
                </a:solidFill>
                <a:latin typeface="Arial"/>
                <a:ea typeface="돋움"/>
              </a:rPr>
              <a:t>   </a:t>
            </a:r>
            <a:r>
              <a:rPr b="1" lang="ko-KR" sz="1400" spc="-1" strike="noStrike">
                <a:solidFill>
                  <a:srgbClr val="000066"/>
                </a:solidFill>
                <a:latin typeface="Arial"/>
                <a:ea typeface="돋움"/>
              </a:rPr>
              <a:t>COL1        COL2      ROW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72360" y="2668680"/>
            <a:ext cx="51408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20000"/>
              <a:buFont typeface="Wingdings" charset="2"/>
              <a:buChar char="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700" spc="-1" strike="noStrike">
                <a:solidFill>
                  <a:srgbClr val="000000"/>
                </a:solidFill>
                <a:latin typeface="Wingdings"/>
                <a:ea typeface="Wingdings"/>
              </a:rPr>
              <a:t>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064920" y="2422440"/>
            <a:ext cx="25502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000066"/>
                </a:solidFill>
                <a:latin typeface="Arial"/>
                <a:ea typeface="돋움"/>
              </a:rPr>
              <a:t>    </a:t>
            </a:r>
            <a:r>
              <a:rPr b="1" lang="ko-KR" sz="1400" spc="-1" strike="noStrike">
                <a:solidFill>
                  <a:srgbClr val="000066"/>
                </a:solidFill>
                <a:latin typeface="Arial"/>
                <a:ea typeface="돋움"/>
              </a:rPr>
              <a:t>COL2       COL1     ROW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965520" y="3176640"/>
            <a:ext cx="52776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20000"/>
              <a:buFont typeface="Wingdings" charset="2"/>
              <a:buChar char="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700" spc="-1" strike="noStrike">
                <a:solidFill>
                  <a:srgbClr val="3c0023"/>
                </a:solidFill>
                <a:latin typeface="Wingdings"/>
                <a:ea typeface="Wingdings"/>
              </a:rPr>
              <a:t>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227120" y="3152880"/>
            <a:ext cx="52632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20000"/>
              <a:buFont typeface="Wingdings" charset="2"/>
              <a:buChar char="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700" spc="-1" strike="noStrike">
                <a:solidFill>
                  <a:srgbClr val="3c0023"/>
                </a:solidFill>
                <a:latin typeface="Wingdings"/>
                <a:ea typeface="Wingdings"/>
              </a:rPr>
              <a:t>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492160" y="4322880"/>
            <a:ext cx="51408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20000"/>
              <a:buFont typeface="Wingdings" charset="2"/>
              <a:buChar char="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700" spc="-1" strike="noStrike">
                <a:solidFill>
                  <a:srgbClr val="3c0023"/>
                </a:solidFill>
                <a:latin typeface="Wingdings"/>
                <a:ea typeface="Wingdings"/>
              </a:rPr>
              <a:t>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8667360" y="4335480"/>
            <a:ext cx="52632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20000"/>
              <a:buFont typeface="Wingdings" charset="2"/>
              <a:buChar char="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700" spc="-1" strike="noStrike">
                <a:solidFill>
                  <a:srgbClr val="3c0023"/>
                </a:solidFill>
                <a:latin typeface="Wingdings"/>
                <a:ea typeface="Wingdings"/>
              </a:rPr>
              <a:t>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5467680" y="4997520"/>
            <a:ext cx="52776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20000"/>
              <a:buFont typeface="Wingdings" charset="2"/>
              <a:buChar char="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700" spc="-1" strike="noStrike">
                <a:solidFill>
                  <a:srgbClr val="3c0023"/>
                </a:solidFill>
                <a:latin typeface="Wingdings"/>
                <a:ea typeface="Wingdings"/>
              </a:rPr>
              <a:t>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473280" y="1130400"/>
            <a:ext cx="4408560" cy="1157040"/>
          </a:xfrm>
          <a:custGeom>
            <a:avLst/>
            <a:gdLst/>
            <a:ahLst/>
            <a:rect l="l" t="t" r="r" b="b"/>
            <a:pathLst>
              <a:path w="2777" h="729">
                <a:moveTo>
                  <a:pt x="0" y="2"/>
                </a:moveTo>
                <a:lnTo>
                  <a:pt x="0" y="567"/>
                </a:lnTo>
                <a:lnTo>
                  <a:pt x="651" y="567"/>
                </a:lnTo>
                <a:lnTo>
                  <a:pt x="496" y="703"/>
                </a:lnTo>
                <a:lnTo>
                  <a:pt x="755" y="567"/>
                </a:lnTo>
                <a:lnTo>
                  <a:pt x="1591" y="567"/>
                </a:lnTo>
                <a:lnTo>
                  <a:pt x="2776" y="728"/>
                </a:lnTo>
                <a:lnTo>
                  <a:pt x="1891" y="567"/>
                </a:lnTo>
                <a:lnTo>
                  <a:pt x="2483" y="568"/>
                </a:lnTo>
                <a:lnTo>
                  <a:pt x="2483" y="0"/>
                </a:lnTo>
                <a:lnTo>
                  <a:pt x="0" y="2"/>
                </a:lnTo>
              </a:path>
            </a:pathLst>
          </a:custGeom>
          <a:solidFill>
            <a:srgbClr val="ffff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14840" y="4659480"/>
            <a:ext cx="695520" cy="0"/>
          </a:xfrm>
          <a:prstGeom prst="line">
            <a:avLst/>
          </a:prstGeom>
          <a:ln w="255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475240" y="4925880"/>
            <a:ext cx="711360" cy="0"/>
          </a:xfrm>
          <a:prstGeom prst="line">
            <a:avLst/>
          </a:prstGeom>
          <a:ln w="25560">
            <a:solidFill>
              <a:srgbClr val="fc012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H="1">
            <a:off x="4035600" y="3478320"/>
            <a:ext cx="691920" cy="0"/>
          </a:xfrm>
          <a:prstGeom prst="line">
            <a:avLst/>
          </a:prstGeom>
          <a:ln w="25560">
            <a:solidFill>
              <a:srgbClr val="fc012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338120" y="6032520"/>
            <a:ext cx="299088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c80202"/>
                </a:solidFill>
                <a:latin typeface="Arial"/>
                <a:ea typeface="돋움"/>
              </a:rPr>
              <a:t>INDEX ( COL1 + COL2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945040" y="6032520"/>
            <a:ext cx="299088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c80202"/>
                </a:solidFill>
                <a:latin typeface="Arial"/>
                <a:ea typeface="돋움"/>
              </a:rPr>
              <a:t>INDEX ( COL2 + COL1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442880" y="243000"/>
            <a:ext cx="8339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결합 인덱스의 처리 범위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(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둘 다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'='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로 쓰인 경우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9" name=""/>
          <p:cNvGrpSpPr/>
          <p:nvPr/>
        </p:nvGrpSpPr>
        <p:grpSpPr>
          <a:xfrm>
            <a:off x="6284880" y="2762280"/>
            <a:ext cx="2249640" cy="3377520"/>
            <a:chOff x="6284880" y="2762280"/>
            <a:chExt cx="2249640" cy="3377520"/>
          </a:xfrm>
        </p:grpSpPr>
        <p:sp>
          <p:nvSpPr>
            <p:cNvPr id="330" name=""/>
            <p:cNvSpPr/>
            <p:nvPr/>
          </p:nvSpPr>
          <p:spPr>
            <a:xfrm>
              <a:off x="6284880" y="2762280"/>
              <a:ext cx="2249640" cy="284040"/>
            </a:xfrm>
            <a:prstGeom prst="rect">
              <a:avLst/>
            </a:prstGeom>
            <a:solidFill>
              <a:srgbClr val="cbcbcb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5531ae"/>
                  </a:solidFill>
                  <a:latin typeface="Arial"/>
                  <a:ea typeface="돋움"/>
                </a:rPr>
                <a:t> </a:t>
              </a:r>
              <a:r>
                <a:rPr b="1" lang="ko-KR" sz="1400" spc="-1" strike="noStrike">
                  <a:solidFill>
                    <a:srgbClr val="5531ae"/>
                  </a:solidFill>
                  <a:latin typeface="Arial"/>
                  <a:ea typeface="돋움"/>
                </a:rPr>
                <a:t>110            A              1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284880" y="3057480"/>
              <a:ext cx="2249640" cy="284040"/>
            </a:xfrm>
            <a:prstGeom prst="rect">
              <a:avLst/>
            </a:prstGeom>
            <a:solidFill>
              <a:srgbClr val="cbcbcb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5531ae"/>
                  </a:solidFill>
                  <a:latin typeface="Arial"/>
                  <a:ea typeface="돋움"/>
                </a:rPr>
                <a:t> </a:t>
              </a:r>
              <a:r>
                <a:rPr b="1" lang="ko-KR" sz="1400" spc="-1" strike="noStrike">
                  <a:solidFill>
                    <a:srgbClr val="5531ae"/>
                  </a:solidFill>
                  <a:latin typeface="Arial"/>
                  <a:ea typeface="돋움"/>
                </a:rPr>
                <a:t>110            B              4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284880" y="3346560"/>
              <a:ext cx="2249640" cy="284040"/>
            </a:xfrm>
            <a:prstGeom prst="rect">
              <a:avLst/>
            </a:prstGeom>
            <a:solidFill>
              <a:srgbClr val="cbcbcb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5531ae"/>
                  </a:solidFill>
                  <a:latin typeface="Arial"/>
                  <a:ea typeface="돋움"/>
                </a:rPr>
                <a:t> </a:t>
              </a:r>
              <a:r>
                <a:rPr b="1" lang="ko-KR" sz="1400" spc="-1" strike="noStrike">
                  <a:solidFill>
                    <a:srgbClr val="5531ae"/>
                  </a:solidFill>
                  <a:latin typeface="Arial"/>
                  <a:ea typeface="돋움"/>
                </a:rPr>
                <a:t>110            C              5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284880" y="3645000"/>
              <a:ext cx="2249640" cy="284040"/>
            </a:xfrm>
            <a:prstGeom prst="rect">
              <a:avLst/>
            </a:prstGeom>
            <a:solidFill>
              <a:srgbClr val="cbcbcb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5531ae"/>
                  </a:solidFill>
                  <a:latin typeface="Arial"/>
                  <a:ea typeface="돋움"/>
                </a:rPr>
                <a:t> </a:t>
              </a:r>
              <a:r>
                <a:rPr b="1" lang="ko-KR" sz="1400" spc="-1" strike="noStrike">
                  <a:solidFill>
                    <a:srgbClr val="5531ae"/>
                  </a:solidFill>
                  <a:latin typeface="Arial"/>
                  <a:ea typeface="돋움"/>
                </a:rPr>
                <a:t>111            A              1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284880" y="3929040"/>
              <a:ext cx="2249640" cy="284040"/>
            </a:xfrm>
            <a:prstGeom prst="rect">
              <a:avLst/>
            </a:prstGeom>
            <a:solidFill>
              <a:srgbClr val="cbcbcb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5531ae"/>
                  </a:solidFill>
                  <a:latin typeface="Arial"/>
                  <a:ea typeface="돋움"/>
                </a:rPr>
                <a:t> </a:t>
              </a:r>
              <a:r>
                <a:rPr b="1" lang="ko-KR" sz="1400" spc="-1" strike="noStrike">
                  <a:solidFill>
                    <a:srgbClr val="5531ae"/>
                  </a:solidFill>
                  <a:latin typeface="Arial"/>
                  <a:ea typeface="돋움"/>
                </a:rPr>
                <a:t>111            B              39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6284880" y="4229280"/>
              <a:ext cx="2249640" cy="284040"/>
            </a:xfrm>
            <a:prstGeom prst="rect">
              <a:avLst/>
            </a:prstGeom>
            <a:solidFill>
              <a:srgbClr val="cbcbcb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5531ae"/>
                  </a:solidFill>
                  <a:latin typeface="Arial"/>
                  <a:ea typeface="돋움"/>
                </a:rPr>
                <a:t> </a:t>
              </a:r>
              <a:r>
                <a:rPr b="1" lang="ko-KR" sz="1400" spc="-1" strike="noStrike">
                  <a:solidFill>
                    <a:srgbClr val="5531ae"/>
                  </a:solidFill>
                  <a:latin typeface="Arial"/>
                  <a:ea typeface="돋움"/>
                </a:rPr>
                <a:t>111            C              76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6284880" y="4516560"/>
              <a:ext cx="2249640" cy="284040"/>
            </a:xfrm>
            <a:prstGeom prst="rect">
              <a:avLst/>
            </a:prstGeom>
            <a:solidFill>
              <a:srgbClr val="dddddd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5531ae"/>
                  </a:solidFill>
                  <a:latin typeface="Arial"/>
                  <a:ea typeface="돋움"/>
                </a:rPr>
                <a:t> </a:t>
              </a:r>
              <a:r>
                <a:rPr b="1" lang="ko-KR" sz="1400" spc="-1" strike="noStrike">
                  <a:solidFill>
                    <a:srgbClr val="ff3300"/>
                  </a:solidFill>
                  <a:latin typeface="Arial"/>
                  <a:ea typeface="돋움"/>
                </a:rPr>
                <a:t>112            A</a:t>
              </a:r>
              <a:r>
                <a:rPr b="1" lang="ko-KR" sz="1400" spc="-1" strike="noStrike">
                  <a:solidFill>
                    <a:srgbClr val="5531ae"/>
                  </a:solidFill>
                  <a:latin typeface="Arial"/>
                  <a:ea typeface="돋움"/>
                </a:rPr>
                <a:t>                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284880" y="4815000"/>
              <a:ext cx="2249640" cy="284040"/>
            </a:xfrm>
            <a:prstGeom prst="rect">
              <a:avLst/>
            </a:prstGeom>
            <a:solidFill>
              <a:srgbClr val="cbcbcb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5531ae"/>
                  </a:solidFill>
                  <a:latin typeface="Arial"/>
                  <a:ea typeface="돋움"/>
                </a:rPr>
                <a:t> </a:t>
              </a:r>
              <a:r>
                <a:rPr b="1" lang="ko-KR" sz="1400" spc="-1" strike="noStrike">
                  <a:solidFill>
                    <a:srgbClr val="5531ae"/>
                  </a:solidFill>
                  <a:latin typeface="Arial"/>
                  <a:ea typeface="돋움"/>
                </a:rPr>
                <a:t>112            B              7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284880" y="5114880"/>
              <a:ext cx="2249640" cy="284040"/>
            </a:xfrm>
            <a:prstGeom prst="rect">
              <a:avLst/>
            </a:prstGeom>
            <a:solidFill>
              <a:srgbClr val="cbcbcb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5531ae"/>
                  </a:solidFill>
                  <a:latin typeface="Arial"/>
                  <a:ea typeface="돋움"/>
                </a:rPr>
                <a:t> </a:t>
              </a:r>
              <a:r>
                <a:rPr b="1" lang="ko-KR" sz="1400" spc="-1" strike="noStrike">
                  <a:solidFill>
                    <a:srgbClr val="5531ae"/>
                  </a:solidFill>
                  <a:latin typeface="Arial"/>
                  <a:ea typeface="돋움"/>
                </a:rPr>
                <a:t>112            C              89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84880" y="5407200"/>
              <a:ext cx="2249640" cy="475560"/>
            </a:xfrm>
            <a:prstGeom prst="rect">
              <a:avLst/>
            </a:prstGeom>
            <a:solidFill>
              <a:srgbClr val="cbcbcb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5531ae"/>
                  </a:solidFill>
                  <a:latin typeface="Arial"/>
                  <a:ea typeface="돋움"/>
                </a:rPr>
                <a:t> </a:t>
              </a:r>
              <a:r>
                <a:rPr b="1" lang="ko-KR" sz="1400" spc="-1" strike="noStrike">
                  <a:solidFill>
                    <a:srgbClr val="5531ae"/>
                  </a:solidFill>
                  <a:latin typeface="Arial"/>
                  <a:ea typeface="돋움"/>
                </a:rPr>
                <a:t>113            A             18       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6284880" y="5664240"/>
              <a:ext cx="2249640" cy="475560"/>
            </a:xfrm>
            <a:prstGeom prst="rect">
              <a:avLst/>
            </a:prstGeom>
            <a:solidFill>
              <a:srgbClr val="cbcbcb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5531ae"/>
                  </a:solidFill>
                  <a:latin typeface="Arial"/>
                  <a:ea typeface="돋움"/>
                </a:rPr>
                <a:t> </a:t>
              </a:r>
              <a:r>
                <a:rPr b="1" lang="ko-KR" sz="1400" spc="-1" strike="noStrike">
                  <a:solidFill>
                    <a:srgbClr val="5531ae"/>
                  </a:solidFill>
                  <a:latin typeface="Arial"/>
                  <a:ea typeface="돋움"/>
                </a:rPr>
                <a:t>114            A             22       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1" name=""/>
          <p:cNvSpPr/>
          <p:nvPr/>
        </p:nvSpPr>
        <p:spPr>
          <a:xfrm>
            <a:off x="1712880" y="4229280"/>
            <a:ext cx="2251080" cy="284040"/>
          </a:xfrm>
          <a:prstGeom prst="rect">
            <a:avLst/>
          </a:prstGeom>
          <a:solidFill>
            <a:srgbClr val="cbcbcb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A             115            2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712880" y="3645000"/>
            <a:ext cx="2251080" cy="284040"/>
          </a:xfrm>
          <a:prstGeom prst="rect">
            <a:avLst/>
          </a:prstGeom>
          <a:solidFill>
            <a:srgbClr val="cbcbcb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A             113            18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1712880" y="3929040"/>
            <a:ext cx="2251080" cy="284040"/>
          </a:xfrm>
          <a:prstGeom prst="rect">
            <a:avLst/>
          </a:prstGeom>
          <a:solidFill>
            <a:srgbClr val="cbcbcb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A             114            2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712880" y="4516560"/>
            <a:ext cx="2247840" cy="284040"/>
          </a:xfrm>
          <a:prstGeom prst="rect">
            <a:avLst/>
          </a:prstGeom>
          <a:solidFill>
            <a:srgbClr val="cbcbcb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A             116            2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712880" y="4815000"/>
            <a:ext cx="2251080" cy="284040"/>
          </a:xfrm>
          <a:prstGeom prst="rect">
            <a:avLst/>
          </a:prstGeom>
          <a:solidFill>
            <a:srgbClr val="cbcbcb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A             117            2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712880" y="5114880"/>
            <a:ext cx="2251080" cy="284040"/>
          </a:xfrm>
          <a:prstGeom prst="rect">
            <a:avLst/>
          </a:prstGeom>
          <a:solidFill>
            <a:srgbClr val="cbcbcb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A             118            2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712880" y="5407200"/>
            <a:ext cx="2251080" cy="284040"/>
          </a:xfrm>
          <a:prstGeom prst="rect">
            <a:avLst/>
          </a:prstGeom>
          <a:solidFill>
            <a:srgbClr val="cbcbcb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B             110            4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712880" y="5686560"/>
            <a:ext cx="2251080" cy="284040"/>
          </a:xfrm>
          <a:prstGeom prst="rect">
            <a:avLst/>
          </a:prstGeom>
          <a:solidFill>
            <a:srgbClr val="cbcbcb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B             111            3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950760" y="3506760"/>
            <a:ext cx="711360" cy="0"/>
          </a:xfrm>
          <a:prstGeom prst="line">
            <a:avLst/>
          </a:prstGeom>
          <a:ln w="25560">
            <a:solidFill>
              <a:srgbClr val="fc012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574800" y="1166760"/>
            <a:ext cx="3849120" cy="8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5531ae"/>
                </a:solidFill>
                <a:latin typeface="굴림체"/>
                <a:ea typeface="굴림체"/>
              </a:rPr>
              <a:t>SELECT *  FROM  TAB1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5531ae"/>
                </a:solidFill>
                <a:latin typeface="굴림체"/>
                <a:ea typeface="굴림체"/>
              </a:rPr>
              <a:t>WHERE  COL1 </a:t>
            </a:r>
            <a:r>
              <a:rPr b="1" lang="ko-KR" sz="1600" spc="-1" strike="noStrike">
                <a:solidFill>
                  <a:srgbClr val="ff3300"/>
                </a:solidFill>
                <a:latin typeface="굴림체"/>
                <a:ea typeface="굴림체"/>
              </a:rPr>
              <a:t>=</a:t>
            </a:r>
            <a:r>
              <a:rPr b="1" lang="ko-KR" sz="1600" spc="-1" strike="noStrike">
                <a:solidFill>
                  <a:srgbClr val="5531ae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'</a:t>
            </a:r>
            <a:r>
              <a:rPr b="1" lang="ko-KR" sz="1600" spc="-1" strike="noStrike">
                <a:solidFill>
                  <a:srgbClr val="5531ae"/>
                </a:solidFill>
                <a:latin typeface="굴림체"/>
                <a:ea typeface="굴림체"/>
              </a:rPr>
              <a:t>A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'</a:t>
            </a:r>
            <a:r>
              <a:rPr b="1" lang="ko-KR" sz="1600" spc="-1" strike="noStrike">
                <a:solidFill>
                  <a:srgbClr val="5531ae"/>
                </a:solidFill>
                <a:latin typeface="굴림체"/>
                <a:ea typeface="굴림체"/>
              </a:rPr>
              <a:t>   (</a:t>
            </a:r>
            <a:r>
              <a:rPr b="1" lang="ko-KR" sz="1600" spc="-1" strike="noStrike">
                <a:solidFill>
                  <a:srgbClr val="5531ae"/>
                </a:solidFill>
                <a:latin typeface="굴림체"/>
                <a:ea typeface="굴림체"/>
              </a:rPr>
              <a:t>분포도가 넓다</a:t>
            </a:r>
            <a:r>
              <a:rPr b="1" lang="ko-KR" sz="1600" spc="-1" strike="noStrike">
                <a:solidFill>
                  <a:srgbClr val="5531ae"/>
                </a:solidFill>
                <a:latin typeface="굴림체"/>
                <a:ea typeface="굴림체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5531ae"/>
                </a:solidFill>
                <a:latin typeface="굴림체"/>
                <a:ea typeface="굴림체"/>
              </a:rPr>
              <a:t>  </a:t>
            </a:r>
            <a:r>
              <a:rPr b="1" lang="ko-KR" sz="1600" spc="-1" strike="noStrike">
                <a:solidFill>
                  <a:srgbClr val="5531ae"/>
                </a:solidFill>
                <a:latin typeface="굴림체"/>
                <a:ea typeface="굴림체"/>
              </a:rPr>
              <a:t>AND  COL2 </a:t>
            </a:r>
            <a:r>
              <a:rPr b="1" lang="ko-KR" sz="1600" spc="-1" strike="noStrike">
                <a:solidFill>
                  <a:srgbClr val="ff3300"/>
                </a:solidFill>
                <a:latin typeface="굴림체"/>
                <a:ea typeface="굴림체"/>
              </a:rPr>
              <a:t>=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'</a:t>
            </a:r>
            <a:r>
              <a:rPr b="1" lang="ko-KR" sz="1600" spc="-1" strike="noStrike">
                <a:solidFill>
                  <a:srgbClr val="5531ae"/>
                </a:solidFill>
                <a:latin typeface="굴림체"/>
                <a:ea typeface="굴림체"/>
              </a:rPr>
              <a:t>112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'</a:t>
            </a:r>
            <a:r>
              <a:rPr b="1" lang="ko-KR" sz="1600" spc="-1" strike="noStrike">
                <a:solidFill>
                  <a:srgbClr val="5531ae"/>
                </a:solidFill>
                <a:latin typeface="굴림체"/>
                <a:ea typeface="굴림체"/>
              </a:rPr>
              <a:t> (</a:t>
            </a:r>
            <a:r>
              <a:rPr b="1" lang="ko-KR" sz="1600" spc="-1" strike="noStrike">
                <a:solidFill>
                  <a:srgbClr val="5531ae"/>
                </a:solidFill>
                <a:latin typeface="굴림체"/>
                <a:ea typeface="굴림체"/>
              </a:rPr>
              <a:t>분포도가 좁다</a:t>
            </a:r>
            <a:r>
              <a:rPr b="1" lang="ko-KR" sz="1600" spc="-1" strike="noStrike">
                <a:solidFill>
                  <a:srgbClr val="5531ae"/>
                </a:solidFill>
                <a:latin typeface="굴림체"/>
                <a:ea typeface="굴림체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flipH="1">
            <a:off x="8598960" y="4675320"/>
            <a:ext cx="692280" cy="0"/>
          </a:xfrm>
          <a:prstGeom prst="line">
            <a:avLst/>
          </a:prstGeom>
          <a:ln w="25560">
            <a:solidFill>
              <a:srgbClr val="fc012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023840" y="3011400"/>
            <a:ext cx="1148040" cy="0"/>
          </a:xfrm>
          <a:prstGeom prst="line">
            <a:avLst/>
          </a:prstGeom>
          <a:ln w="255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76560" y="3005280"/>
            <a:ext cx="468360" cy="423720"/>
          </a:xfrm>
          <a:prstGeom prst="line">
            <a:avLst/>
          </a:prstGeom>
          <a:ln w="255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9DEF0A-9BAF-4C68-9489-ABFF60CFFE6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1824120" y="2739960"/>
            <a:ext cx="2266920" cy="284040"/>
          </a:xfrm>
          <a:prstGeom prst="rect">
            <a:avLst/>
          </a:prstGeom>
          <a:solidFill>
            <a:srgbClr val="cbcbcb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A             110           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1824120" y="3029040"/>
            <a:ext cx="2266920" cy="28404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ff3300"/>
                </a:solidFill>
                <a:latin typeface="Arial"/>
                <a:ea typeface="돋움"/>
              </a:rPr>
              <a:t>A             111</a:t>
            </a:r>
            <a:r>
              <a:rPr b="1" lang="ko-KR" sz="1400" spc="-1" strike="noStrike">
                <a:solidFill>
                  <a:srgbClr val="ff3300"/>
                </a:solidFill>
                <a:latin typeface="Arial"/>
                <a:ea typeface="돋움"/>
              </a:rPr>
              <a:t>            </a:t>
            </a:r>
            <a:r>
              <a:rPr b="1" lang="ko-KR" sz="1400" spc="-1" strike="noStrike">
                <a:solidFill>
                  <a:srgbClr val="3333cc"/>
                </a:solidFill>
                <a:latin typeface="Arial"/>
                <a:ea typeface="돋움"/>
              </a:rPr>
              <a:t>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824120" y="3346560"/>
            <a:ext cx="2266920" cy="28404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ff3300"/>
                </a:solidFill>
                <a:latin typeface="Arial"/>
                <a:ea typeface="돋움"/>
              </a:rPr>
              <a:t>A             112</a:t>
            </a: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              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824120" y="4229280"/>
            <a:ext cx="2266920" cy="284040"/>
          </a:xfrm>
          <a:prstGeom prst="rect">
            <a:avLst/>
          </a:prstGeom>
          <a:solidFill>
            <a:srgbClr val="cbcbcb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A             115            2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824120" y="3645000"/>
            <a:ext cx="2266920" cy="28404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ff3300"/>
                </a:solidFill>
                <a:latin typeface="Arial"/>
                <a:ea typeface="돋움"/>
              </a:rPr>
              <a:t>A             113</a:t>
            </a:r>
            <a:r>
              <a:rPr b="1" lang="ko-KR" sz="1400" spc="-1" strike="noStrike">
                <a:solidFill>
                  <a:srgbClr val="ff3300"/>
                </a:solidFill>
                <a:latin typeface="Arial"/>
                <a:ea typeface="돋움"/>
              </a:rPr>
              <a:t>            </a:t>
            </a:r>
            <a:r>
              <a:rPr b="1" lang="ko-KR" sz="1400" spc="-1" strike="noStrike">
                <a:solidFill>
                  <a:srgbClr val="3333cc"/>
                </a:solidFill>
                <a:latin typeface="Arial"/>
                <a:ea typeface="돋움"/>
              </a:rPr>
              <a:t>18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824120" y="3929040"/>
            <a:ext cx="2266920" cy="284040"/>
          </a:xfrm>
          <a:prstGeom prst="rect">
            <a:avLst/>
          </a:prstGeom>
          <a:solidFill>
            <a:srgbClr val="cbcbcb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A             114            2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824120" y="4516560"/>
            <a:ext cx="2263680" cy="284040"/>
          </a:xfrm>
          <a:prstGeom prst="rect">
            <a:avLst/>
          </a:prstGeom>
          <a:solidFill>
            <a:srgbClr val="cbcbcb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A             116            2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1824120" y="4815000"/>
            <a:ext cx="2266920" cy="284040"/>
          </a:xfrm>
          <a:prstGeom prst="rect">
            <a:avLst/>
          </a:prstGeom>
          <a:solidFill>
            <a:srgbClr val="cbcbcb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A             117            2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824120" y="5114880"/>
            <a:ext cx="2266920" cy="284040"/>
          </a:xfrm>
          <a:prstGeom prst="rect">
            <a:avLst/>
          </a:prstGeom>
          <a:solidFill>
            <a:srgbClr val="cbcbcb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A             118            2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824120" y="5407200"/>
            <a:ext cx="2266920" cy="284040"/>
          </a:xfrm>
          <a:prstGeom prst="rect">
            <a:avLst/>
          </a:prstGeom>
          <a:solidFill>
            <a:srgbClr val="cbcbcb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B             110            4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1824120" y="5686560"/>
            <a:ext cx="2266920" cy="284040"/>
          </a:xfrm>
          <a:prstGeom prst="rect">
            <a:avLst/>
          </a:prstGeom>
          <a:solidFill>
            <a:srgbClr val="cbcbcb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B             111            3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625760" y="2343240"/>
            <a:ext cx="26006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000066"/>
                </a:solidFill>
                <a:latin typeface="Arial"/>
                <a:ea typeface="돋움"/>
              </a:rPr>
              <a:t>   </a:t>
            </a:r>
            <a:r>
              <a:rPr b="1" lang="ko-KR" sz="1400" spc="-1" strike="noStrike">
                <a:solidFill>
                  <a:srgbClr val="000066"/>
                </a:solidFill>
                <a:latin typeface="Arial"/>
                <a:ea typeface="돋움"/>
              </a:rPr>
              <a:t>COL1       COL2       ROW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210680" y="2652840"/>
            <a:ext cx="51408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20000"/>
              <a:buFont typeface="Wingdings" charset="2"/>
              <a:buChar char="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700" spc="-1" strike="noStrike">
                <a:solidFill>
                  <a:srgbClr val="000000"/>
                </a:solidFill>
                <a:latin typeface="Wingdings"/>
                <a:ea typeface="Wingdings"/>
              </a:rPr>
              <a:t>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096600" y="2343240"/>
            <a:ext cx="25502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000066"/>
                </a:solidFill>
                <a:latin typeface="Arial"/>
                <a:ea typeface="돋움"/>
              </a:rPr>
              <a:t>    </a:t>
            </a:r>
            <a:r>
              <a:rPr b="1" lang="ko-KR" sz="1400" spc="-1" strike="noStrike">
                <a:solidFill>
                  <a:srgbClr val="000066"/>
                </a:solidFill>
                <a:latin typeface="Arial"/>
                <a:ea typeface="돋움"/>
              </a:rPr>
              <a:t>COL2       COL1     ROW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184760" y="3684600"/>
            <a:ext cx="52776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20000"/>
              <a:buFont typeface="Wingdings" charset="2"/>
              <a:buChar char="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700" spc="-1" strike="noStrike">
                <a:solidFill>
                  <a:srgbClr val="3c0023"/>
                </a:solidFill>
                <a:latin typeface="Wingdings"/>
                <a:ea typeface="Wingdings"/>
              </a:rPr>
              <a:t>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399760" y="3290760"/>
            <a:ext cx="52632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20000"/>
              <a:buFont typeface="Wingdings" charset="2"/>
              <a:buChar char="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700" spc="-1" strike="noStrike">
                <a:solidFill>
                  <a:srgbClr val="3c0023"/>
                </a:solidFill>
                <a:latin typeface="Wingdings"/>
                <a:ea typeface="Wingdings"/>
              </a:rPr>
              <a:t>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5492160" y="3129120"/>
            <a:ext cx="51408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20000"/>
              <a:buFont typeface="Wingdings" charset="2"/>
              <a:buChar char="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700" spc="-1" strike="noStrike">
                <a:solidFill>
                  <a:srgbClr val="3c0023"/>
                </a:solidFill>
                <a:latin typeface="Wingdings"/>
                <a:ea typeface="Wingdings"/>
              </a:rPr>
              <a:t>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466240" y="5402160"/>
            <a:ext cx="52776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20000"/>
              <a:buFont typeface="Wingdings" charset="2"/>
              <a:buChar char="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700" spc="-1" strike="noStrike">
                <a:solidFill>
                  <a:srgbClr val="3c0023"/>
                </a:solidFill>
                <a:latin typeface="Wingdings"/>
                <a:ea typeface="Wingdings"/>
              </a:rPr>
              <a:t>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222200" y="4041720"/>
            <a:ext cx="573120" cy="0"/>
          </a:xfrm>
          <a:prstGeom prst="line">
            <a:avLst/>
          </a:prstGeom>
          <a:ln w="25560">
            <a:solidFill>
              <a:srgbClr val="fc012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235160" y="2982960"/>
            <a:ext cx="982440" cy="0"/>
          </a:xfrm>
          <a:prstGeom prst="line">
            <a:avLst/>
          </a:prstGeom>
          <a:ln w="255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524400" y="1015920"/>
            <a:ext cx="4549680" cy="1154160"/>
          </a:xfrm>
          <a:custGeom>
            <a:avLst/>
            <a:gdLst/>
            <a:ahLst/>
            <a:rect l="l" t="t" r="r" b="b"/>
            <a:pathLst>
              <a:path w="2866" h="727">
                <a:moveTo>
                  <a:pt x="0" y="2"/>
                </a:moveTo>
                <a:lnTo>
                  <a:pt x="0" y="565"/>
                </a:lnTo>
                <a:lnTo>
                  <a:pt x="672" y="565"/>
                </a:lnTo>
                <a:lnTo>
                  <a:pt x="512" y="701"/>
                </a:lnTo>
                <a:lnTo>
                  <a:pt x="779" y="565"/>
                </a:lnTo>
                <a:lnTo>
                  <a:pt x="1642" y="565"/>
                </a:lnTo>
                <a:lnTo>
                  <a:pt x="2865" y="726"/>
                </a:lnTo>
                <a:lnTo>
                  <a:pt x="1952" y="565"/>
                </a:lnTo>
                <a:lnTo>
                  <a:pt x="2562" y="567"/>
                </a:lnTo>
                <a:lnTo>
                  <a:pt x="2562" y="0"/>
                </a:lnTo>
                <a:lnTo>
                  <a:pt x="0" y="2"/>
                </a:lnTo>
              </a:path>
            </a:pathLst>
          </a:custGeom>
          <a:solidFill>
            <a:srgbClr val="ffff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14840" y="3465360"/>
            <a:ext cx="695520" cy="0"/>
          </a:xfrm>
          <a:prstGeom prst="line">
            <a:avLst/>
          </a:prstGeom>
          <a:ln w="255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 flipH="1" flipV="1">
            <a:off x="8632440" y="4352400"/>
            <a:ext cx="576360" cy="1800"/>
          </a:xfrm>
          <a:prstGeom prst="line">
            <a:avLst/>
          </a:prstGeom>
          <a:ln w="25560">
            <a:solidFill>
              <a:srgbClr val="fc012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475240" y="5791320"/>
            <a:ext cx="711360" cy="0"/>
          </a:xfrm>
          <a:prstGeom prst="line">
            <a:avLst/>
          </a:prstGeom>
          <a:ln w="25560">
            <a:solidFill>
              <a:srgbClr val="fc012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405960" y="1055520"/>
            <a:ext cx="4400640" cy="8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600" spc="-1" strike="noStrike">
                <a:solidFill>
                  <a:srgbClr val="5531ae"/>
                </a:solidFill>
                <a:latin typeface="굴림체"/>
                <a:ea typeface="굴림체"/>
              </a:rPr>
              <a:t>SELECT *  FROM  TAB1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600" spc="-1" strike="noStrike">
                <a:solidFill>
                  <a:srgbClr val="5531ae"/>
                </a:solidFill>
                <a:latin typeface="굴림체"/>
                <a:ea typeface="굴림체"/>
              </a:rPr>
              <a:t>WHERE  COL1 </a:t>
            </a:r>
            <a:r>
              <a:rPr b="1" lang="ko-KR" sz="1600" spc="-1" strike="noStrike">
                <a:solidFill>
                  <a:srgbClr val="ff3300"/>
                </a:solidFill>
                <a:latin typeface="굴림체"/>
                <a:ea typeface="굴림체"/>
              </a:rPr>
              <a:t>=</a:t>
            </a:r>
            <a:r>
              <a:rPr b="1" lang="ko-KR" sz="1600" spc="-1" strike="noStrike">
                <a:solidFill>
                  <a:srgbClr val="5531ae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'</a:t>
            </a:r>
            <a:r>
              <a:rPr b="1" lang="ko-KR" sz="1600" spc="-1" strike="noStrike">
                <a:solidFill>
                  <a:srgbClr val="5531ae"/>
                </a:solidFill>
                <a:latin typeface="굴림체"/>
                <a:ea typeface="굴림체"/>
              </a:rPr>
              <a:t>A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600" spc="-1" strike="noStrike">
                <a:solidFill>
                  <a:srgbClr val="5531ae"/>
                </a:solidFill>
                <a:latin typeface="굴림체"/>
                <a:ea typeface="굴림체"/>
              </a:rPr>
              <a:t>AND    COL2 </a:t>
            </a:r>
            <a:r>
              <a:rPr b="1" lang="ko-KR" sz="1600" spc="-1" strike="noStrike">
                <a:solidFill>
                  <a:srgbClr val="ff0033"/>
                </a:solidFill>
                <a:latin typeface="굴림체"/>
                <a:ea typeface="굴림체"/>
              </a:rPr>
              <a:t>BETWEEN</a:t>
            </a:r>
            <a:r>
              <a:rPr b="1" lang="ko-KR" sz="1600" spc="-1" strike="noStrike">
                <a:solidFill>
                  <a:srgbClr val="5531ae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'</a:t>
            </a:r>
            <a:r>
              <a:rPr b="1" lang="ko-KR" sz="1600" spc="-1" strike="noStrike">
                <a:solidFill>
                  <a:srgbClr val="5531ae"/>
                </a:solidFill>
                <a:latin typeface="Arial"/>
                <a:ea typeface="굴림체"/>
              </a:rPr>
              <a:t>111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'</a:t>
            </a:r>
            <a:r>
              <a:rPr b="1" lang="ko-KR" sz="1600" spc="-1" strike="noStrike">
                <a:solidFill>
                  <a:srgbClr val="5531ae"/>
                </a:solidFill>
                <a:latin typeface="Arial"/>
                <a:ea typeface="굴림체"/>
              </a:rPr>
              <a:t> AND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'</a:t>
            </a:r>
            <a:r>
              <a:rPr b="1" lang="ko-KR" sz="1600" spc="-1" strike="noStrike">
                <a:solidFill>
                  <a:srgbClr val="5531ae"/>
                </a:solidFill>
                <a:latin typeface="Arial"/>
                <a:ea typeface="굴림체"/>
              </a:rPr>
              <a:t>113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465200" y="6016680"/>
            <a:ext cx="299088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c80202"/>
                </a:solidFill>
                <a:latin typeface="Arial"/>
                <a:ea typeface="돋움"/>
              </a:rPr>
              <a:t>INDEX ( COL1 + COL2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960880" y="5975280"/>
            <a:ext cx="299088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c80202"/>
                </a:solidFill>
                <a:latin typeface="Arial"/>
                <a:ea typeface="돋움"/>
              </a:rPr>
              <a:t>INDEX ( COL2 + COL1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442880" y="243000"/>
            <a:ext cx="8474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결합 인덱스의 처리 범위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(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둘 다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'='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로 안 쓰인  경우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2685960" y="3184560"/>
            <a:ext cx="0" cy="696960"/>
          </a:xfrm>
          <a:prstGeom prst="line">
            <a:avLst/>
          </a:prstGeom>
          <a:ln w="255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4177800" y="3503520"/>
            <a:ext cx="692280" cy="0"/>
          </a:xfrm>
          <a:prstGeom prst="line">
            <a:avLst/>
          </a:prstGeom>
          <a:ln w="25560">
            <a:solidFill>
              <a:srgbClr val="fc012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4177800" y="3798720"/>
            <a:ext cx="692280" cy="0"/>
          </a:xfrm>
          <a:prstGeom prst="line">
            <a:avLst/>
          </a:prstGeom>
          <a:ln w="25560">
            <a:solidFill>
              <a:srgbClr val="fc012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 flipH="1">
            <a:off x="4177800" y="3200400"/>
            <a:ext cx="692280" cy="0"/>
          </a:xfrm>
          <a:prstGeom prst="line">
            <a:avLst/>
          </a:prstGeom>
          <a:ln w="25560">
            <a:solidFill>
              <a:srgbClr val="fc012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6284880" y="2739960"/>
            <a:ext cx="2265480" cy="284040"/>
          </a:xfrm>
          <a:prstGeom prst="rect">
            <a:avLst/>
          </a:prstGeom>
          <a:solidFill>
            <a:srgbClr val="cbcbcb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  </a:t>
            </a: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110            B              4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6284880" y="3029040"/>
            <a:ext cx="2265480" cy="284040"/>
          </a:xfrm>
          <a:prstGeom prst="rect">
            <a:avLst/>
          </a:prstGeom>
          <a:solidFill>
            <a:srgbClr val="cbcbcb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 </a:t>
            </a: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110            C              5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284880" y="3327480"/>
            <a:ext cx="2265480" cy="28404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 </a:t>
            </a:r>
            <a:r>
              <a:rPr b="1" lang="ko-KR" sz="1400" spc="-1" strike="noStrike">
                <a:solidFill>
                  <a:srgbClr val="ff3300"/>
                </a:solidFill>
                <a:latin typeface="Arial"/>
                <a:ea typeface="돋움"/>
              </a:rPr>
              <a:t>111            A</a:t>
            </a: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              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6284880" y="3611520"/>
            <a:ext cx="2265480" cy="28404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 </a:t>
            </a:r>
            <a:r>
              <a:rPr b="1" lang="ko-KR" sz="1400" spc="-1" strike="noStrike">
                <a:solidFill>
                  <a:srgbClr val="ff3300"/>
                </a:solidFill>
                <a:latin typeface="Arial"/>
                <a:ea typeface="돋움"/>
              </a:rPr>
              <a:t>111</a:t>
            </a: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            B              3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6284880" y="3911760"/>
            <a:ext cx="2265480" cy="28404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 </a:t>
            </a:r>
            <a:r>
              <a:rPr b="1" lang="ko-KR" sz="1400" spc="-1" strike="noStrike">
                <a:solidFill>
                  <a:srgbClr val="ff3300"/>
                </a:solidFill>
                <a:latin typeface="Arial"/>
                <a:ea typeface="돋움"/>
              </a:rPr>
              <a:t>111  </a:t>
            </a: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          C              76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284880" y="4199040"/>
            <a:ext cx="2265480" cy="28404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 </a:t>
            </a:r>
            <a:r>
              <a:rPr b="1" lang="ko-KR" sz="1400" spc="-1" strike="noStrike">
                <a:solidFill>
                  <a:srgbClr val="ff3300"/>
                </a:solidFill>
                <a:latin typeface="Arial"/>
                <a:ea typeface="돋움"/>
              </a:rPr>
              <a:t>112            A</a:t>
            </a: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                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6284880" y="4497480"/>
            <a:ext cx="2265480" cy="28404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 </a:t>
            </a:r>
            <a:r>
              <a:rPr b="1" lang="ko-KR" sz="1400" spc="-1" strike="noStrike">
                <a:solidFill>
                  <a:srgbClr val="ff3300"/>
                </a:solidFill>
                <a:latin typeface="Arial"/>
                <a:ea typeface="돋움"/>
              </a:rPr>
              <a:t>112</a:t>
            </a: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            B              7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284880" y="4797360"/>
            <a:ext cx="2265480" cy="28404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 </a:t>
            </a:r>
            <a:r>
              <a:rPr b="1" lang="ko-KR" sz="1400" spc="-1" strike="noStrike">
                <a:solidFill>
                  <a:srgbClr val="ff3300"/>
                </a:solidFill>
                <a:latin typeface="Arial"/>
                <a:ea typeface="돋움"/>
              </a:rPr>
              <a:t>112  </a:t>
            </a: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          C              89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6284880" y="5089680"/>
            <a:ext cx="2265480" cy="47556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 </a:t>
            </a:r>
            <a:r>
              <a:rPr b="1" lang="ko-KR" sz="1400" spc="-1" strike="noStrike">
                <a:solidFill>
                  <a:srgbClr val="ff3300"/>
                </a:solidFill>
                <a:latin typeface="Arial"/>
                <a:ea typeface="돋움"/>
              </a:rPr>
              <a:t>113            A</a:t>
            </a: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             18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6284880" y="5369040"/>
            <a:ext cx="2265480" cy="47556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 </a:t>
            </a:r>
            <a:r>
              <a:rPr b="1" lang="ko-KR" sz="1400" spc="-1" strike="noStrike">
                <a:solidFill>
                  <a:srgbClr val="ff3300"/>
                </a:solidFill>
                <a:latin typeface="Arial"/>
                <a:ea typeface="돋움"/>
              </a:rPr>
              <a:t>113 </a:t>
            </a: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           B             44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6284880" y="5664240"/>
            <a:ext cx="2265480" cy="475560"/>
          </a:xfrm>
          <a:prstGeom prst="rect">
            <a:avLst/>
          </a:prstGeom>
          <a:solidFill>
            <a:srgbClr val="cbcbcb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 </a:t>
            </a: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114            A             22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6932160" y="3471840"/>
            <a:ext cx="52632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20000"/>
              <a:buFont typeface="Wingdings" charset="2"/>
              <a:buChar char="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700" spc="-1" strike="noStrike">
                <a:solidFill>
                  <a:srgbClr val="3c0023"/>
                </a:solidFill>
                <a:latin typeface="Wingdings"/>
                <a:ea typeface="Wingdings"/>
              </a:rPr>
              <a:t>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7218360" y="3429000"/>
            <a:ext cx="0" cy="2089080"/>
          </a:xfrm>
          <a:prstGeom prst="line">
            <a:avLst/>
          </a:prstGeom>
          <a:ln w="255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 flipH="1" flipV="1">
            <a:off x="8632440" y="3490920"/>
            <a:ext cx="576360" cy="1440"/>
          </a:xfrm>
          <a:prstGeom prst="line">
            <a:avLst/>
          </a:prstGeom>
          <a:ln w="25560">
            <a:solidFill>
              <a:srgbClr val="fc012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 flipH="1" flipV="1">
            <a:off x="8632440" y="5210280"/>
            <a:ext cx="576360" cy="1440"/>
          </a:xfrm>
          <a:prstGeom prst="line">
            <a:avLst/>
          </a:prstGeom>
          <a:ln w="25560">
            <a:solidFill>
              <a:srgbClr val="fc012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220840" y="2976480"/>
            <a:ext cx="438120" cy="227160"/>
          </a:xfrm>
          <a:prstGeom prst="line">
            <a:avLst/>
          </a:prstGeom>
          <a:ln w="255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B4B65D-0901-48EF-AEF7-2C58F557887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449000" y="241200"/>
            <a:ext cx="81802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</a:rPr>
              <a:t>1. OPTIMIZER MODE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</a:rPr>
              <a:t>에 따른 인덱스 사용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8320" y="1143000"/>
            <a:ext cx="9526680" cy="163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</a:rPr>
              <a:t>DISTINCT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</a:rPr>
              <a:t>불필요</a:t>
            </a: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  <a:p>
            <a:pPr marL="343080" indent="-343080">
              <a:spcBef>
                <a:spcPts val="451"/>
              </a:spcBef>
              <a:buClr>
                <a:srgbClr val="ff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</a:rPr>
              <a:t>OPTIMIZER MODE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</a:rPr>
              <a:t>선택</a:t>
            </a: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굴림체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</a:rPr>
              <a:t>INIT.ORA        :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</a:rPr>
              <a:t>OPTIMIZED_MODE = FIRST_ROWS</a:t>
            </a: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굴림체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</a:rPr>
              <a:t>SQL*PLUS, PRO*C :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</a:rPr>
              <a:t>SQL&gt;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</a:rPr>
              <a:t> ALTER SESSION SET OPTIMIZER_GOAL = FIRST_ROWS;</a:t>
            </a: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  <p:sp>
        <p:nvSpPr>
          <p:cNvPr id="94" name=""/>
          <p:cNvSpPr/>
          <p:nvPr/>
        </p:nvSpPr>
        <p:spPr>
          <a:xfrm>
            <a:off x="1165320" y="2741760"/>
            <a:ext cx="5176800" cy="3825360"/>
          </a:xfrm>
          <a:prstGeom prst="roundRect">
            <a:avLst>
              <a:gd name="adj" fmla="val 894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</a:t>
            </a:r>
            <a:r>
              <a:rPr b="1" lang="ko-KR" sz="1800" spc="-1" strike="noStrike">
                <a:solidFill>
                  <a:srgbClr val="ff0033"/>
                </a:solidFill>
                <a:latin typeface="Modern"/>
                <a:ea typeface="바탕체"/>
              </a:rPr>
              <a:t>--+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 FIRST_ROWS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B.CLASS, COUNT(B.CLAS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COL A, COM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 A.YEAR = B.YE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 A.HOUSE = B.HOU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 A.SERIAL_NO = B.SERIAL_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 A.AMT &gt;= 1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 B.DATE &lt; '950501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 B.CLASS IN ('Y', 'P', 'I', 'C'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GROUP BY  B.CLASS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0A9382-D3EE-442D-B7AA-328454F6971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/>
          <p:nvPr/>
        </p:nvSpPr>
        <p:spPr>
          <a:xfrm>
            <a:off x="654120" y="2724120"/>
            <a:ext cx="8580240" cy="2952360"/>
          </a:xfrm>
          <a:prstGeom prst="roundRect">
            <a:avLst>
              <a:gd name="adj" fmla="val 674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ACT_CODE, PART_MODEL_CODE, PART_CHAR_CODE, PART_SPEC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PART_ROUT_CODE, ORDERNO, ITEMNO, DIN_ACT_MH, WORK_ORDER_NO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_MODEL_NO, DRAW_NO, MATR_STATUS, WORK_ORDER_DATE, ROW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 S_WORKPL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WORK_ORDER_DATE LIKE :B1 || '%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AND  DEPT_CODE  = :B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AND  GROUP_CODE = :B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ORDER BY  ACT_CODE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442880" y="243000"/>
            <a:ext cx="7469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9. 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결합 인덱스의 컬럼 순서에 따른 차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66760" y="1103400"/>
            <a:ext cx="9567720" cy="19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인덱스정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_WORKPLAN : S_WORKPLAN_IDX : WORK_ORDER_DATE + DEPT_CODE + GROUP_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279360" y="5979960"/>
            <a:ext cx="9028080" cy="573120"/>
          </a:xfrm>
          <a:prstGeom prst="roundRect">
            <a:avLst>
              <a:gd name="adj" fmla="val 12495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60000"/>
              </a:lnSpc>
              <a:buClr>
                <a:srgbClr val="ff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해결방안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인덱스 칼럼 순서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: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DEPT_CODE + GROUP_CODE + WORK_ORDER_D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887640" y="4540320"/>
            <a:ext cx="6073920" cy="179748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cc0000"/>
                </a:solidFill>
                <a:latin typeface="굴림체"/>
                <a:ea typeface="굴림체"/>
              </a:rPr>
              <a:t>ROWS    EXECUTION PL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------  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0  SELECT STAT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2220    SORT (ORDER BY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2220      TABLE ACCESS (BY ROWID) OF 'S_WORKPLAN'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400" spc="-1" strike="noStrike">
                <a:solidFill>
                  <a:srgbClr val="ff0033"/>
                </a:solidFill>
                <a:latin typeface="굴림체"/>
                <a:ea typeface="굴림체"/>
              </a:rPr>
              <a:t>46026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INDEX (RANGE SCAN) OF 'S_WORKPLAN_IDX' (NON-UNIQU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2E461B-DE18-431A-A392-7D813343765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/>
          <p:nvPr/>
        </p:nvSpPr>
        <p:spPr>
          <a:xfrm>
            <a:off x="1506600" y="243000"/>
            <a:ext cx="8488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9. 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결합 인덱스의 컬럼 순서에 따른 차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218520" y="1344600"/>
            <a:ext cx="5109480" cy="657720"/>
          </a:xfrm>
          <a:prstGeom prst="roundRect">
            <a:avLst>
              <a:gd name="adj" fmla="val 12495"/>
            </a:avLst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WORK_ORDER_DATE + DEPT_CODE + GROUP_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LIKE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'1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%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'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= </a:t>
            </a:r>
            <a:r>
              <a:rPr b="1" lang="ko-KR" sz="1600" spc="-1" strike="noStrike">
                <a:solidFill>
                  <a:srgbClr val="3333cc"/>
                </a:solidFill>
                <a:latin typeface="Arial"/>
                <a:ea typeface="굴림체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= </a:t>
            </a:r>
            <a:r>
              <a:rPr b="1" lang="ko-KR" sz="1600" spc="-1" strike="noStrike">
                <a:solidFill>
                  <a:srgbClr val="3333cc"/>
                </a:solidFill>
                <a:latin typeface="Arial"/>
                <a:ea typeface="굴림체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54200" y="2355840"/>
            <a:ext cx="84636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WORK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690560" y="2894040"/>
            <a:ext cx="2295720" cy="30128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28600" rIns="22860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33cc"/>
                </a:solidFill>
                <a:latin typeface="Arial"/>
                <a:ea typeface="굴림체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A           10          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33cc"/>
                </a:solidFill>
                <a:latin typeface="Arial"/>
                <a:ea typeface="굴림체"/>
              </a:rPr>
              <a:t>1</a:t>
            </a:r>
            <a:r>
              <a:rPr b="1" lang="ko-KR" sz="1600" spc="-1" strike="noStrike">
                <a:solidFill>
                  <a:srgbClr val="ff0033"/>
                </a:solidFill>
                <a:latin typeface="Arial"/>
                <a:ea typeface="굴림체"/>
              </a:rPr>
              <a:t>A           10          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33cc"/>
                </a:solidFill>
                <a:latin typeface="Arial"/>
                <a:ea typeface="굴림체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A           20          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33cc"/>
                </a:solidFill>
                <a:latin typeface="Arial"/>
                <a:ea typeface="굴림체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A           30          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33cc"/>
                </a:solidFill>
                <a:latin typeface="Arial"/>
                <a:ea typeface="굴림체"/>
              </a:rPr>
              <a:t>1</a:t>
            </a:r>
            <a:r>
              <a:rPr b="1" lang="ko-KR" sz="1600" spc="-1" strike="noStrike">
                <a:solidFill>
                  <a:srgbClr val="ff0033"/>
                </a:solidFill>
                <a:latin typeface="Arial"/>
                <a:ea typeface="굴림체"/>
              </a:rPr>
              <a:t>B           10          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33cc"/>
                </a:solidFill>
                <a:latin typeface="Arial"/>
                <a:ea typeface="굴림체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B           20          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33cc"/>
                </a:solidFill>
                <a:latin typeface="Arial"/>
                <a:ea typeface="굴림체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B           30          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33cc"/>
                </a:solidFill>
                <a:latin typeface="Arial"/>
                <a:ea typeface="굴림체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B           40          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33cc"/>
                </a:solidFill>
                <a:latin typeface="Arial"/>
                <a:ea typeface="굴림체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C           10          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33cc"/>
                </a:solidFill>
                <a:latin typeface="Arial"/>
                <a:ea typeface="굴림체"/>
              </a:rPr>
              <a:t>1</a:t>
            </a:r>
            <a:r>
              <a:rPr b="1" lang="ko-KR" sz="1600" spc="-1" strike="noStrike">
                <a:solidFill>
                  <a:srgbClr val="ff0033"/>
                </a:solidFill>
                <a:latin typeface="Arial"/>
                <a:ea typeface="굴림체"/>
              </a:rPr>
              <a:t>C           10          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33cc"/>
                </a:solidFill>
                <a:latin typeface="Arial"/>
                <a:ea typeface="굴림체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C           20          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2A           10          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256080" y="2881440"/>
            <a:ext cx="2295720" cy="30128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28600" rIns="22860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10           1           1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10           1           1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10           1           2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33cc"/>
                </a:solidFill>
                <a:latin typeface="Arial"/>
                <a:ea typeface="굴림체"/>
              </a:rPr>
              <a:t>10           2           1</a:t>
            </a: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33cc"/>
                </a:solidFill>
                <a:latin typeface="Arial"/>
                <a:ea typeface="굴림체"/>
              </a:rPr>
              <a:t>10           2           1</a:t>
            </a: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33cc"/>
                </a:solidFill>
                <a:latin typeface="Arial"/>
                <a:ea typeface="굴림체"/>
              </a:rPr>
              <a:t>10           2           1</a:t>
            </a: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20           2           1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20           3           1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20           3           1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30           3           1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30           4           1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40           4           1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52600" y="1344600"/>
            <a:ext cx="5109480" cy="657720"/>
          </a:xfrm>
          <a:prstGeom prst="roundRect">
            <a:avLst>
              <a:gd name="adj" fmla="val 12495"/>
            </a:avLst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DEPT_CODE + GROUP_CODE + WORK_ORDER_D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= </a:t>
            </a:r>
            <a:r>
              <a:rPr b="1" lang="ko-KR" sz="1600" spc="-1" strike="noStrike">
                <a:solidFill>
                  <a:srgbClr val="3333cc"/>
                </a:solidFill>
                <a:latin typeface="Arial"/>
                <a:ea typeface="굴림체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= </a:t>
            </a:r>
            <a:r>
              <a:rPr b="1" lang="ko-KR" sz="1600" spc="-1" strike="noStrike">
                <a:solidFill>
                  <a:srgbClr val="3333cc"/>
                </a:solidFill>
                <a:latin typeface="Arial"/>
                <a:ea typeface="굴림체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LIKE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'1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%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226520" y="2732040"/>
            <a:ext cx="51408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20000"/>
              <a:buFont typeface="Wingdings" charset="2"/>
              <a:buChar char="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700" spc="-1" strike="noStrike">
                <a:solidFill>
                  <a:srgbClr val="000000"/>
                </a:solidFill>
                <a:latin typeface="Wingdings"/>
                <a:ea typeface="Wingdings"/>
              </a:rPr>
              <a:t>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02040" y="5359320"/>
            <a:ext cx="52776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20000"/>
              <a:buFont typeface="Wingdings" charset="2"/>
              <a:buChar char="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700" spc="-1" strike="noStrike">
                <a:solidFill>
                  <a:srgbClr val="3c0023"/>
                </a:solidFill>
                <a:latin typeface="Wingdings"/>
                <a:ea typeface="Wingdings"/>
              </a:rPr>
              <a:t>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2368080" y="3036960"/>
            <a:ext cx="52632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20000"/>
              <a:buFont typeface="Wingdings" charset="2"/>
              <a:buChar char="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700" spc="-1" strike="noStrike">
                <a:solidFill>
                  <a:srgbClr val="3c0023"/>
                </a:solidFill>
                <a:latin typeface="Wingdings"/>
                <a:ea typeface="Wingdings"/>
              </a:rPr>
              <a:t>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1224000" y="5732640"/>
            <a:ext cx="573120" cy="0"/>
          </a:xfrm>
          <a:prstGeom prst="line">
            <a:avLst/>
          </a:prstGeom>
          <a:ln w="25560">
            <a:solidFill>
              <a:srgbClr val="fc012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865840" y="3646440"/>
            <a:ext cx="1596960" cy="0"/>
          </a:xfrm>
          <a:prstGeom prst="line">
            <a:avLst/>
          </a:prstGeom>
          <a:ln w="255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2654280" y="3049560"/>
            <a:ext cx="0" cy="2495520"/>
          </a:xfrm>
          <a:prstGeom prst="line">
            <a:avLst/>
          </a:prstGeom>
          <a:ln w="255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>
            <a:off x="4017960" y="4032360"/>
            <a:ext cx="542880" cy="0"/>
          </a:xfrm>
          <a:prstGeom prst="line">
            <a:avLst/>
          </a:prstGeom>
          <a:ln w="25560">
            <a:solidFill>
              <a:srgbClr val="fc012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H="1">
            <a:off x="4006800" y="5264280"/>
            <a:ext cx="542880" cy="0"/>
          </a:xfrm>
          <a:prstGeom prst="line">
            <a:avLst/>
          </a:prstGeom>
          <a:ln w="25560">
            <a:solidFill>
              <a:srgbClr val="fc012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H="1">
            <a:off x="4019040" y="3260880"/>
            <a:ext cx="543240" cy="0"/>
          </a:xfrm>
          <a:prstGeom prst="line">
            <a:avLst/>
          </a:prstGeom>
          <a:ln w="25560">
            <a:solidFill>
              <a:srgbClr val="fc012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429680" y="3639960"/>
            <a:ext cx="515880" cy="120960"/>
          </a:xfrm>
          <a:prstGeom prst="line">
            <a:avLst/>
          </a:prstGeom>
          <a:ln w="255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255680" y="3040200"/>
            <a:ext cx="573120" cy="0"/>
          </a:xfrm>
          <a:prstGeom prst="line">
            <a:avLst/>
          </a:prstGeom>
          <a:ln w="255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7644960" y="3825720"/>
            <a:ext cx="52632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20000"/>
              <a:buFont typeface="Wingdings" charset="2"/>
              <a:buChar char="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700" spc="-1" strike="noStrike">
                <a:solidFill>
                  <a:srgbClr val="3c0023"/>
                </a:solidFill>
                <a:latin typeface="Wingdings"/>
                <a:ea typeface="Wingdings"/>
              </a:rPr>
              <a:t>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7947000" y="3790800"/>
            <a:ext cx="0" cy="500040"/>
          </a:xfrm>
          <a:prstGeom prst="line">
            <a:avLst/>
          </a:prstGeom>
          <a:ln w="255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776200" y="3355920"/>
            <a:ext cx="51408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20000"/>
              <a:buFont typeface="Wingdings" charset="2"/>
              <a:buChar char="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700" spc="-1" strike="noStrike">
                <a:solidFill>
                  <a:srgbClr val="000000"/>
                </a:solidFill>
                <a:latin typeface="Wingdings"/>
                <a:ea typeface="Wingdings"/>
              </a:rPr>
              <a:t>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582640" y="2355840"/>
            <a:ext cx="75816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DEPT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363480" y="2355840"/>
            <a:ext cx="93636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GROUP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7843680" y="2355840"/>
            <a:ext cx="84636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WORK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6211440" y="2355840"/>
            <a:ext cx="75816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DEPT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6976440" y="2355840"/>
            <a:ext cx="93636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GROUP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81960" y="4130640"/>
            <a:ext cx="52776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20000"/>
              <a:buFont typeface="Wingdings" charset="2"/>
              <a:buChar char="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700" spc="-1" strike="noStrike">
                <a:solidFill>
                  <a:srgbClr val="3c0023"/>
                </a:solidFill>
                <a:latin typeface="Wingdings"/>
                <a:ea typeface="Wingdings"/>
              </a:rPr>
              <a:t>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5803920" y="4503600"/>
            <a:ext cx="573120" cy="0"/>
          </a:xfrm>
          <a:prstGeom prst="line">
            <a:avLst/>
          </a:prstGeom>
          <a:ln w="25560">
            <a:solidFill>
              <a:srgbClr val="fc012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flipH="1">
            <a:off x="8488440" y="4289400"/>
            <a:ext cx="542880" cy="0"/>
          </a:xfrm>
          <a:prstGeom prst="line">
            <a:avLst/>
          </a:prstGeom>
          <a:ln w="25560">
            <a:solidFill>
              <a:srgbClr val="fc012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8488440" y="4040280"/>
            <a:ext cx="542880" cy="0"/>
          </a:xfrm>
          <a:prstGeom prst="line">
            <a:avLst/>
          </a:prstGeom>
          <a:ln w="25560">
            <a:solidFill>
              <a:srgbClr val="fc012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flipH="1">
            <a:off x="8488440" y="3760920"/>
            <a:ext cx="542880" cy="0"/>
          </a:xfrm>
          <a:prstGeom prst="line">
            <a:avLst/>
          </a:prstGeom>
          <a:ln w="25560">
            <a:solidFill>
              <a:srgbClr val="fc012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A39B18-50B9-4943-827D-287FB954B29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/>
          <p:nvPr/>
        </p:nvSpPr>
        <p:spPr>
          <a:xfrm>
            <a:off x="-433440" y="3098880"/>
            <a:ext cx="10760760" cy="208188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 SHIPPER, COUNT(*), SUM(AM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 EX_SHIP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SDATE  BETWEEN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'950101'  AND  '950430'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cc0000"/>
                </a:solidFill>
                <a:latin typeface="굴림체"/>
                <a:ea typeface="굴림체"/>
              </a:rPr>
              <a:t>&lt;- 4 </a:t>
            </a:r>
            <a:r>
              <a:rPr b="1" lang="ko-KR" sz="1800" spc="-1" strike="noStrike">
                <a:solidFill>
                  <a:srgbClr val="cc0000"/>
                </a:solidFill>
                <a:latin typeface="굴림체"/>
                <a:ea typeface="굴림체"/>
              </a:rPr>
              <a:t>개월 분량</a:t>
            </a:r>
            <a:r>
              <a:rPr b="1" lang="ko-KR" sz="1800" spc="-1" strike="noStrike">
                <a:solidFill>
                  <a:srgbClr val="cc0000"/>
                </a:solidFill>
                <a:latin typeface="굴림체"/>
                <a:ea typeface="굴림체"/>
              </a:rPr>
              <a:t>, </a:t>
            </a:r>
            <a:r>
              <a:rPr b="1" lang="ko-KR" sz="1800" spc="-1" strike="noStrike">
                <a:solidFill>
                  <a:srgbClr val="cc0000"/>
                </a:solidFill>
                <a:latin typeface="굴림체"/>
                <a:ea typeface="굴림체"/>
              </a:rPr>
              <a:t>약 </a:t>
            </a:r>
            <a:r>
              <a:rPr b="1" lang="ko-KR" sz="1800" spc="-1" strike="noStrike">
                <a:solidFill>
                  <a:srgbClr val="cc0000"/>
                </a:solidFill>
                <a:latin typeface="굴림체"/>
                <a:ea typeface="굴림체"/>
              </a:rPr>
              <a:t>33 </a:t>
            </a:r>
            <a:r>
              <a:rPr b="1" lang="ko-KR" sz="1800" spc="-1" strike="noStrike">
                <a:solidFill>
                  <a:srgbClr val="cc0000"/>
                </a:solidFill>
                <a:latin typeface="굴림체"/>
                <a:ea typeface="굴림체"/>
              </a:rPr>
              <a:t>만 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 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SHIPPER  IN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('A', 'B', 'C'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GROUP BY   SHIPPE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ORDER BY   SUM(AMT) DESC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1442880" y="243000"/>
            <a:ext cx="86457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10.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간단한 결합 인덱스지만  컬럼 순서 유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203040" y="1103400"/>
            <a:ext cx="980928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인덱스정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EX_SHIPPER  : SHIP_DATE_IX  :  SDATE +  SHIP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EX_SHIPPER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테이블의 분포도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:  SDATE : 1 / 365 , SHIPPER : 1 / 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430880" y="4883040"/>
            <a:ext cx="5155920" cy="228276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cc0000"/>
                </a:solidFill>
                <a:latin typeface="굴림체"/>
                <a:ea typeface="굴림체"/>
              </a:rPr>
              <a:t>EXECUTION PL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---------------------------------------------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SELECT STATEMENT  COST ESTIMATE:N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SORT ( GROUP BY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TABLE  ACCESS  BY  ROWID  EX_SHIPPER ( 1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INDEX  RANGE  SCAN  SHIP_DATE_IX ( NU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2C31D5-552E-4ECF-985D-D58C86A56FD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/>
          <p:nvPr/>
        </p:nvSpPr>
        <p:spPr>
          <a:xfrm>
            <a:off x="2241000" y="243000"/>
            <a:ext cx="62841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10.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간단한 결합 인덱스지만  컬럼 순서 유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060560" y="1909800"/>
            <a:ext cx="485640" cy="3903480"/>
          </a:xfrm>
          <a:prstGeom prst="rect">
            <a:avLst/>
          </a:prstGeom>
          <a:gradFill rotWithShape="0">
            <a:gsLst>
              <a:gs pos="0">
                <a:srgbClr val="c5c5c5"/>
              </a:gs>
              <a:gs pos="50000">
                <a:srgbClr val="dddddd"/>
              </a:gs>
              <a:gs pos="100000">
                <a:srgbClr val="c5c5c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31120" y="1434960"/>
            <a:ext cx="219996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5531ae"/>
                </a:solidFill>
                <a:latin typeface="Arial"/>
                <a:ea typeface="굴림체"/>
              </a:rPr>
              <a:t>SHIP_DATE_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501480" y="6018120"/>
            <a:ext cx="161028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ff3300"/>
                </a:solidFill>
                <a:latin typeface="굴림체"/>
                <a:ea typeface="굴림체"/>
              </a:rPr>
              <a:t>SDATE 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ff3300"/>
                </a:solidFill>
                <a:latin typeface="굴림체"/>
                <a:ea typeface="굴림체"/>
              </a:rPr>
              <a:t>SHIPP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2289240" y="1917720"/>
            <a:ext cx="1111320" cy="3882960"/>
          </a:xfrm>
          <a:prstGeom prst="rect">
            <a:avLst/>
          </a:prstGeom>
          <a:gradFill rotWithShape="0">
            <a:gsLst>
              <a:gs pos="0">
                <a:srgbClr val="7fb1ad"/>
              </a:gs>
              <a:gs pos="50000">
                <a:srgbClr val="b8fff9"/>
              </a:gs>
              <a:gs pos="100000">
                <a:srgbClr val="7fb1ad"/>
              </a:gs>
            </a:gsLst>
            <a:lin ang="108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1958760" y="1438200"/>
            <a:ext cx="203220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5531ae"/>
                </a:solidFill>
                <a:latin typeface="Arial"/>
                <a:ea typeface="굴림체"/>
              </a:rPr>
              <a:t>EX_SHIPP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 flipV="1">
            <a:off x="1555920" y="2362320"/>
            <a:ext cx="1207800" cy="519120"/>
          </a:xfrm>
          <a:prstGeom prst="line">
            <a:avLst/>
          </a:prstGeom>
          <a:ln w="255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1555920" y="3054240"/>
            <a:ext cx="1126800" cy="1670040"/>
          </a:xfrm>
          <a:prstGeom prst="line">
            <a:avLst/>
          </a:prstGeom>
          <a:ln w="255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 flipV="1">
            <a:off x="1555920" y="2971800"/>
            <a:ext cx="1207800" cy="341280"/>
          </a:xfrm>
          <a:prstGeom prst="line">
            <a:avLst/>
          </a:prstGeom>
          <a:ln w="255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1422000" y="3603600"/>
            <a:ext cx="833040" cy="10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3333cc"/>
                </a:solidFill>
                <a:latin typeface="Arial"/>
                <a:ea typeface="돋움"/>
              </a:rPr>
              <a:t>●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3333cc"/>
                </a:solidFill>
                <a:latin typeface="Arial"/>
                <a:ea typeface="돋움"/>
              </a:rPr>
              <a:t>●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3333cc"/>
                </a:solidFill>
                <a:latin typeface="Arial"/>
                <a:ea typeface="돋움"/>
              </a:rPr>
              <a:t>●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3333cc"/>
                </a:solidFill>
                <a:latin typeface="Arial"/>
                <a:ea typeface="돋움"/>
              </a:rPr>
              <a:t>●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555920" y="4741920"/>
            <a:ext cx="1126800" cy="43956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909960" y="2146320"/>
            <a:ext cx="542880" cy="1955880"/>
          </a:xfrm>
          <a:prstGeom prst="rect">
            <a:avLst/>
          </a:prstGeom>
          <a:solidFill>
            <a:srgbClr val="eaeaea"/>
          </a:solidFill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돋움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돋움"/>
              </a:rPr>
              <a:t>차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돋움"/>
              </a:rPr>
              <a:t>가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돋움"/>
              </a:rPr>
              <a:t>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 flipV="1">
            <a:off x="3071880" y="2260440"/>
            <a:ext cx="793800" cy="13032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 flipV="1">
            <a:off x="3086280" y="2881080"/>
            <a:ext cx="779400" cy="9036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 flipV="1">
            <a:off x="3013200" y="2476440"/>
            <a:ext cx="852480" cy="220824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 flipV="1">
            <a:off x="3013200" y="4021200"/>
            <a:ext cx="852480" cy="115416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4492800" y="2540160"/>
            <a:ext cx="56808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492800" y="2768760"/>
            <a:ext cx="56808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4492800" y="2997360"/>
            <a:ext cx="56808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6032520" y="1909800"/>
            <a:ext cx="488880" cy="3903480"/>
          </a:xfrm>
          <a:prstGeom prst="rect">
            <a:avLst/>
          </a:prstGeom>
          <a:gradFill rotWithShape="0">
            <a:gsLst>
              <a:gs pos="0">
                <a:srgbClr val="c5c5c5"/>
              </a:gs>
              <a:gs pos="50000">
                <a:srgbClr val="dddddd"/>
              </a:gs>
              <a:gs pos="100000">
                <a:srgbClr val="c5c5c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5071320" y="1471680"/>
            <a:ext cx="219996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5531ae"/>
                </a:solidFill>
                <a:latin typeface="Arial"/>
                <a:ea typeface="굴림체"/>
              </a:rPr>
              <a:t>SHIP_DATE_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5453280" y="6016680"/>
            <a:ext cx="18540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ff3300"/>
                </a:solidFill>
                <a:latin typeface="굴림체"/>
                <a:ea typeface="굴림체"/>
              </a:rPr>
              <a:t>SHIPPER 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ff3300"/>
                </a:solidFill>
                <a:latin typeface="굴림체"/>
                <a:ea typeface="굴림체"/>
              </a:rPr>
              <a:t>SD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262640" y="1917720"/>
            <a:ext cx="1109880" cy="3882960"/>
          </a:xfrm>
          <a:prstGeom prst="rect">
            <a:avLst/>
          </a:prstGeom>
          <a:gradFill rotWithShape="0">
            <a:gsLst>
              <a:gs pos="0">
                <a:srgbClr val="7fb1ad"/>
              </a:gs>
              <a:gs pos="50000">
                <a:srgbClr val="b8fff9"/>
              </a:gs>
              <a:gs pos="100000">
                <a:srgbClr val="7fb1ad"/>
              </a:gs>
            </a:gsLst>
            <a:lin ang="108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6994440" y="1438200"/>
            <a:ext cx="203220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5531ae"/>
                </a:solidFill>
                <a:latin typeface="Arial"/>
                <a:ea typeface="굴림체"/>
              </a:rPr>
              <a:t>EX_SHIPP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 flipV="1">
            <a:off x="6359400" y="2362320"/>
            <a:ext cx="1457280" cy="45720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359400" y="4419720"/>
            <a:ext cx="137664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 flipV="1">
            <a:off x="6548400" y="2971800"/>
            <a:ext cx="1187640" cy="15408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 flipV="1">
            <a:off x="6359400" y="2743200"/>
            <a:ext cx="1376640" cy="91440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6239880" y="2739960"/>
            <a:ext cx="8175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3333cc"/>
                </a:solidFill>
                <a:latin typeface="Arial"/>
                <a:ea typeface="돋움"/>
              </a:rPr>
              <a:t>●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3333cc"/>
                </a:solidFill>
                <a:latin typeface="Arial"/>
                <a:ea typeface="돋움"/>
              </a:rPr>
              <a:t>●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534000" y="3876840"/>
            <a:ext cx="1202040" cy="122868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8061480" y="2438280"/>
            <a:ext cx="733320" cy="30492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 flipV="1">
            <a:off x="8061480" y="2273040"/>
            <a:ext cx="745920" cy="46980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8061480" y="2971800"/>
            <a:ext cx="707760" cy="16524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 flipV="1">
            <a:off x="8061480" y="4025520"/>
            <a:ext cx="720720" cy="46980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 flipV="1">
            <a:off x="8061480" y="3403440"/>
            <a:ext cx="707760" cy="170208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9477360" y="2489040"/>
            <a:ext cx="56844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9477360" y="2717640"/>
            <a:ext cx="56844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9477360" y="2946240"/>
            <a:ext cx="56844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534000" y="4756320"/>
            <a:ext cx="1041480" cy="95868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6239880" y="3525840"/>
            <a:ext cx="8175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3333cc"/>
                </a:solidFill>
                <a:latin typeface="Arial"/>
                <a:ea typeface="돋움"/>
              </a:rPr>
              <a:t>●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3333cc"/>
                </a:solidFill>
                <a:latin typeface="Arial"/>
                <a:ea typeface="돋움"/>
              </a:rPr>
              <a:t>●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6239880" y="4421160"/>
            <a:ext cx="8175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3333cc"/>
                </a:solidFill>
                <a:latin typeface="Arial"/>
                <a:ea typeface="돋움"/>
              </a:rPr>
              <a:t>●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3333cc"/>
                </a:solidFill>
                <a:latin typeface="Arial"/>
                <a:ea typeface="돋움"/>
              </a:rPr>
              <a:t>●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8901000" y="2209680"/>
            <a:ext cx="542880" cy="1955880"/>
          </a:xfrm>
          <a:prstGeom prst="rect">
            <a:avLst/>
          </a:prstGeom>
          <a:solidFill>
            <a:srgbClr val="eaeaea"/>
          </a:solidFill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돋움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돋움"/>
              </a:rPr>
              <a:t>차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돋움"/>
              </a:rPr>
              <a:t>가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돋움"/>
              </a:rPr>
              <a:t>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1068480" y="2787480"/>
            <a:ext cx="466560" cy="203868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4" name=""/>
          <p:cNvGrpSpPr/>
          <p:nvPr/>
        </p:nvGrpSpPr>
        <p:grpSpPr>
          <a:xfrm>
            <a:off x="813960" y="2867040"/>
            <a:ext cx="397440" cy="2035080"/>
            <a:chOff x="813960" y="2867040"/>
            <a:chExt cx="397440" cy="2035080"/>
          </a:xfrm>
        </p:grpSpPr>
        <p:sp>
          <p:nvSpPr>
            <p:cNvPr id="485" name=""/>
            <p:cNvSpPr/>
            <p:nvPr/>
          </p:nvSpPr>
          <p:spPr>
            <a:xfrm>
              <a:off x="879480" y="2867040"/>
              <a:ext cx="317520" cy="0"/>
            </a:xfrm>
            <a:prstGeom prst="line">
              <a:avLst/>
            </a:prstGeom>
            <a:ln w="25560">
              <a:solidFill>
                <a:srgbClr val="99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1211400" y="2867040"/>
              <a:ext cx="0" cy="2035080"/>
            </a:xfrm>
            <a:prstGeom prst="line">
              <a:avLst/>
            </a:prstGeom>
            <a:ln w="25560">
              <a:solidFill>
                <a:srgbClr val="99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813960" y="4902120"/>
              <a:ext cx="382680" cy="0"/>
            </a:xfrm>
            <a:prstGeom prst="line">
              <a:avLst/>
            </a:prstGeom>
            <a:ln w="25560">
              <a:solidFill>
                <a:srgbClr val="990066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8" name=""/>
          <p:cNvSpPr/>
          <p:nvPr/>
        </p:nvSpPr>
        <p:spPr>
          <a:xfrm>
            <a:off x="6040440" y="2754360"/>
            <a:ext cx="466560" cy="39996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9" name=""/>
          <p:cNvGrpSpPr/>
          <p:nvPr/>
        </p:nvGrpSpPr>
        <p:grpSpPr>
          <a:xfrm>
            <a:off x="5785920" y="2833560"/>
            <a:ext cx="397440" cy="400320"/>
            <a:chOff x="5785920" y="2833560"/>
            <a:chExt cx="397440" cy="400320"/>
          </a:xfrm>
        </p:grpSpPr>
        <p:sp>
          <p:nvSpPr>
            <p:cNvPr id="490" name=""/>
            <p:cNvSpPr/>
            <p:nvPr/>
          </p:nvSpPr>
          <p:spPr>
            <a:xfrm>
              <a:off x="5851440" y="2833560"/>
              <a:ext cx="317520" cy="0"/>
            </a:xfrm>
            <a:prstGeom prst="line">
              <a:avLst/>
            </a:prstGeom>
            <a:ln w="25560">
              <a:solidFill>
                <a:srgbClr val="99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6183360" y="2833560"/>
              <a:ext cx="0" cy="400320"/>
            </a:xfrm>
            <a:prstGeom prst="line">
              <a:avLst/>
            </a:prstGeom>
            <a:ln w="25560">
              <a:solidFill>
                <a:srgbClr val="99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 flipH="1">
              <a:off x="5785920" y="3233880"/>
              <a:ext cx="382680" cy="0"/>
            </a:xfrm>
            <a:prstGeom prst="line">
              <a:avLst/>
            </a:prstGeom>
            <a:ln w="25560">
              <a:solidFill>
                <a:srgbClr val="990066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3" name=""/>
          <p:cNvSpPr/>
          <p:nvPr/>
        </p:nvSpPr>
        <p:spPr>
          <a:xfrm>
            <a:off x="6040440" y="3513240"/>
            <a:ext cx="466560" cy="39996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4" name=""/>
          <p:cNvGrpSpPr/>
          <p:nvPr/>
        </p:nvGrpSpPr>
        <p:grpSpPr>
          <a:xfrm>
            <a:off x="5785920" y="3592440"/>
            <a:ext cx="397440" cy="399960"/>
            <a:chOff x="5785920" y="3592440"/>
            <a:chExt cx="397440" cy="399960"/>
          </a:xfrm>
        </p:grpSpPr>
        <p:sp>
          <p:nvSpPr>
            <p:cNvPr id="495" name=""/>
            <p:cNvSpPr/>
            <p:nvPr/>
          </p:nvSpPr>
          <p:spPr>
            <a:xfrm>
              <a:off x="5851440" y="3592440"/>
              <a:ext cx="317520" cy="0"/>
            </a:xfrm>
            <a:prstGeom prst="line">
              <a:avLst/>
            </a:prstGeom>
            <a:ln w="25560">
              <a:solidFill>
                <a:srgbClr val="99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6183360" y="3592440"/>
              <a:ext cx="0" cy="399960"/>
            </a:xfrm>
            <a:prstGeom prst="line">
              <a:avLst/>
            </a:prstGeom>
            <a:ln w="25560">
              <a:solidFill>
                <a:srgbClr val="99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 flipH="1">
              <a:off x="5785920" y="3992400"/>
              <a:ext cx="382680" cy="0"/>
            </a:xfrm>
            <a:prstGeom prst="line">
              <a:avLst/>
            </a:prstGeom>
            <a:ln w="25560">
              <a:solidFill>
                <a:srgbClr val="990066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8" name=""/>
          <p:cNvSpPr/>
          <p:nvPr/>
        </p:nvSpPr>
        <p:spPr>
          <a:xfrm>
            <a:off x="6040440" y="4378320"/>
            <a:ext cx="466560" cy="39996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9" name=""/>
          <p:cNvGrpSpPr/>
          <p:nvPr/>
        </p:nvGrpSpPr>
        <p:grpSpPr>
          <a:xfrm>
            <a:off x="5785920" y="4457880"/>
            <a:ext cx="397440" cy="399960"/>
            <a:chOff x="5785920" y="4457880"/>
            <a:chExt cx="397440" cy="399960"/>
          </a:xfrm>
        </p:grpSpPr>
        <p:sp>
          <p:nvSpPr>
            <p:cNvPr id="500" name=""/>
            <p:cNvSpPr/>
            <p:nvPr/>
          </p:nvSpPr>
          <p:spPr>
            <a:xfrm>
              <a:off x="5851440" y="4457880"/>
              <a:ext cx="317520" cy="0"/>
            </a:xfrm>
            <a:prstGeom prst="line">
              <a:avLst/>
            </a:prstGeom>
            <a:ln w="25560">
              <a:solidFill>
                <a:srgbClr val="99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6183360" y="4457880"/>
              <a:ext cx="0" cy="399960"/>
            </a:xfrm>
            <a:prstGeom prst="line">
              <a:avLst/>
            </a:prstGeom>
            <a:ln w="25560">
              <a:solidFill>
                <a:srgbClr val="99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 flipH="1">
              <a:off x="5785920" y="4857840"/>
              <a:ext cx="382680" cy="0"/>
            </a:xfrm>
            <a:prstGeom prst="line">
              <a:avLst/>
            </a:prstGeom>
            <a:ln w="25560">
              <a:solidFill>
                <a:srgbClr val="990066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33965A-9105-4688-B789-AECB01E844C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"/>
          <p:cNvSpPr/>
          <p:nvPr/>
        </p:nvSpPr>
        <p:spPr>
          <a:xfrm>
            <a:off x="2241000" y="243000"/>
            <a:ext cx="62841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10.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간단한 결합 인덱스지만  컬럼 순서 유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289080" y="1255680"/>
            <a:ext cx="47242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3300"/>
                </a:solidFill>
                <a:latin typeface="굴림체"/>
                <a:ea typeface="굴림체"/>
              </a:rPr>
              <a:t>SHIPPER IN (</a:t>
            </a:r>
            <a:r>
              <a:rPr b="1" lang="ko-KR" sz="1800" spc="-1" strike="noStrike">
                <a:solidFill>
                  <a:srgbClr val="ff3300"/>
                </a:solidFill>
                <a:latin typeface="Arial"/>
                <a:ea typeface="굴림체"/>
              </a:rPr>
              <a:t>‘</a:t>
            </a:r>
            <a:r>
              <a:rPr b="1" lang="ko-KR" sz="1800" spc="-1" strike="noStrike">
                <a:solidFill>
                  <a:srgbClr val="ff3300"/>
                </a:solidFill>
                <a:latin typeface="굴림체"/>
                <a:ea typeface="굴림체"/>
              </a:rPr>
              <a:t>C</a:t>
            </a:r>
            <a:r>
              <a:rPr b="1" lang="ko-KR" sz="1800" spc="-1" strike="noStrike">
                <a:solidFill>
                  <a:srgbClr val="ff3300"/>
                </a:solidFill>
                <a:latin typeface="Arial"/>
                <a:ea typeface="굴림체"/>
              </a:rPr>
              <a:t>’</a:t>
            </a:r>
            <a:r>
              <a:rPr b="1" lang="ko-KR" sz="1800" spc="-1" strike="noStrike">
                <a:solidFill>
                  <a:srgbClr val="ff3300"/>
                </a:solidFill>
                <a:latin typeface="굴림체"/>
                <a:ea typeface="굴림체"/>
              </a:rPr>
              <a:t>, </a:t>
            </a:r>
            <a:r>
              <a:rPr b="1" lang="ko-KR" sz="1800" spc="-1" strike="noStrike">
                <a:solidFill>
                  <a:srgbClr val="ff3300"/>
                </a:solidFill>
                <a:latin typeface="Arial"/>
                <a:ea typeface="굴림체"/>
              </a:rPr>
              <a:t>‘</a:t>
            </a:r>
            <a:r>
              <a:rPr b="1" lang="ko-KR" sz="1800" spc="-1" strike="noStrike">
                <a:solidFill>
                  <a:srgbClr val="ff3300"/>
                </a:solidFill>
                <a:latin typeface="굴림체"/>
                <a:ea typeface="굴림체"/>
              </a:rPr>
              <a:t>B</a:t>
            </a:r>
            <a:r>
              <a:rPr b="1" lang="ko-KR" sz="1800" spc="-1" strike="noStrike">
                <a:solidFill>
                  <a:srgbClr val="ff3300"/>
                </a:solidFill>
                <a:latin typeface="Arial"/>
                <a:ea typeface="굴림체"/>
              </a:rPr>
              <a:t>’</a:t>
            </a:r>
            <a:r>
              <a:rPr b="1" lang="ko-KR" sz="1800" spc="-1" strike="noStrike">
                <a:solidFill>
                  <a:srgbClr val="ff3300"/>
                </a:solidFill>
                <a:latin typeface="굴림체"/>
                <a:ea typeface="굴림체"/>
              </a:rPr>
              <a:t>, </a:t>
            </a:r>
            <a:r>
              <a:rPr b="1" lang="ko-KR" sz="1800" spc="-1" strike="noStrike">
                <a:solidFill>
                  <a:srgbClr val="ff3300"/>
                </a:solidFill>
                <a:latin typeface="Arial"/>
                <a:ea typeface="굴림체"/>
              </a:rPr>
              <a:t>‘</a:t>
            </a:r>
            <a:r>
              <a:rPr b="1" lang="ko-KR" sz="1800" spc="-1" strike="noStrike">
                <a:solidFill>
                  <a:srgbClr val="ff3300"/>
                </a:solidFill>
                <a:latin typeface="굴림체"/>
                <a:ea typeface="굴림체"/>
              </a:rPr>
              <a:t>A</a:t>
            </a:r>
            <a:r>
              <a:rPr b="1" lang="ko-KR" sz="1800" spc="-1" strike="noStrike">
                <a:solidFill>
                  <a:srgbClr val="ff3300"/>
                </a:solidFill>
                <a:latin typeface="Arial"/>
                <a:ea typeface="굴림체"/>
              </a:rPr>
              <a:t>’</a:t>
            </a:r>
            <a:r>
              <a:rPr b="1" lang="ko-KR" sz="1800" spc="-1" strike="noStrike">
                <a:solidFill>
                  <a:srgbClr val="ff3300"/>
                </a:solidFill>
                <a:latin typeface="굴림체"/>
                <a:ea typeface="굴림체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3300"/>
                </a:solidFill>
                <a:latin typeface="굴림체"/>
                <a:ea typeface="굴림체"/>
              </a:rPr>
              <a:t>SHIP_DATE_IX1 : SHIPPER + SDATE + AM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218120" y="3406680"/>
            <a:ext cx="444240" cy="2622600"/>
          </a:xfrm>
          <a:prstGeom prst="rect">
            <a:avLst/>
          </a:prstGeom>
          <a:gradFill rotWithShape="0">
            <a:gsLst>
              <a:gs pos="0">
                <a:srgbClr val="c5c5c5"/>
              </a:gs>
              <a:gs pos="50000">
                <a:srgbClr val="dddddd"/>
              </a:gs>
              <a:gs pos="100000">
                <a:srgbClr val="c5c5c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3220920" y="3043080"/>
            <a:ext cx="2151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SHIP_DATE_I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078680" y="3770280"/>
            <a:ext cx="504720" cy="1986120"/>
          </a:xfrm>
          <a:prstGeom prst="rect">
            <a:avLst/>
          </a:prstGeom>
          <a:solidFill>
            <a:srgbClr val="dddddd"/>
          </a:solidFill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6785280" y="3987720"/>
            <a:ext cx="1020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Arial"/>
                <a:ea typeface="굴림체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Arial"/>
                <a:ea typeface="굴림체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6778800" y="3981600"/>
            <a:ext cx="1020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 </a:t>
            </a: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6821640" y="4352760"/>
            <a:ext cx="977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돋움"/>
                <a:ea typeface="돋움"/>
              </a:rPr>
              <a:t>차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815160" y="4344840"/>
            <a:ext cx="977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돋움"/>
                <a:ea typeface="돋움"/>
              </a:rPr>
              <a:t>차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6821640" y="4716360"/>
            <a:ext cx="977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돋움"/>
                <a:ea typeface="돋움"/>
              </a:rPr>
              <a:t>가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6815160" y="4708440"/>
            <a:ext cx="977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돋움"/>
                <a:ea typeface="돋움"/>
              </a:rPr>
              <a:t>가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6821640" y="5079960"/>
            <a:ext cx="977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돋움"/>
                <a:ea typeface="돋움"/>
              </a:rPr>
              <a:t>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6815160" y="5072040"/>
            <a:ext cx="977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돋움"/>
                <a:ea typeface="돋움"/>
              </a:rPr>
              <a:t>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615080" y="4121280"/>
            <a:ext cx="35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908840" y="4048200"/>
            <a:ext cx="228600" cy="147600"/>
          </a:xfrm>
          <a:custGeom>
            <a:avLst/>
            <a:gdLst/>
            <a:ahLst/>
            <a:rect l="l" t="t" r="r" b="b"/>
            <a:pathLst>
              <a:path w="144" h="93">
                <a:moveTo>
                  <a:pt x="0" y="92"/>
                </a:moveTo>
                <a:lnTo>
                  <a:pt x="17" y="46"/>
                </a:lnTo>
                <a:lnTo>
                  <a:pt x="0" y="0"/>
                </a:lnTo>
                <a:lnTo>
                  <a:pt x="143" y="46"/>
                </a:lnTo>
                <a:lnTo>
                  <a:pt x="0" y="92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615080" y="4349880"/>
            <a:ext cx="35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908840" y="4276800"/>
            <a:ext cx="228600" cy="147600"/>
          </a:xfrm>
          <a:custGeom>
            <a:avLst/>
            <a:gdLst/>
            <a:ahLst/>
            <a:rect l="l" t="t" r="r" b="b"/>
            <a:pathLst>
              <a:path w="144" h="93">
                <a:moveTo>
                  <a:pt x="0" y="92"/>
                </a:moveTo>
                <a:lnTo>
                  <a:pt x="17" y="46"/>
                </a:lnTo>
                <a:lnTo>
                  <a:pt x="0" y="0"/>
                </a:lnTo>
                <a:lnTo>
                  <a:pt x="143" y="46"/>
                </a:lnTo>
                <a:lnTo>
                  <a:pt x="0" y="92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7615080" y="4581360"/>
            <a:ext cx="35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7908840" y="4508640"/>
            <a:ext cx="228600" cy="147600"/>
          </a:xfrm>
          <a:custGeom>
            <a:avLst/>
            <a:gdLst/>
            <a:ahLst/>
            <a:rect l="l" t="t" r="r" b="b"/>
            <a:pathLst>
              <a:path w="144" h="93">
                <a:moveTo>
                  <a:pt x="0" y="92"/>
                </a:moveTo>
                <a:lnTo>
                  <a:pt x="17" y="46"/>
                </a:lnTo>
                <a:lnTo>
                  <a:pt x="0" y="0"/>
                </a:lnTo>
                <a:lnTo>
                  <a:pt x="143" y="46"/>
                </a:lnTo>
                <a:lnTo>
                  <a:pt x="0" y="92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2694960" y="6087960"/>
            <a:ext cx="3111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3300"/>
                </a:solidFill>
                <a:latin typeface="굴림체"/>
                <a:ea typeface="굴림체"/>
              </a:rPr>
              <a:t>SHIPPER + SDATE + AM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3993840" y="3687840"/>
            <a:ext cx="405000" cy="415800"/>
            <a:chOff x="3993840" y="3687840"/>
            <a:chExt cx="405000" cy="415800"/>
          </a:xfrm>
        </p:grpSpPr>
        <p:sp>
          <p:nvSpPr>
            <p:cNvPr id="524" name=""/>
            <p:cNvSpPr/>
            <p:nvPr/>
          </p:nvSpPr>
          <p:spPr>
            <a:xfrm>
              <a:off x="4016520" y="3687840"/>
              <a:ext cx="38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4394160" y="3695760"/>
              <a:ext cx="0" cy="398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 flipH="1">
              <a:off x="3993840" y="4103640"/>
              <a:ext cx="390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7" name=""/>
          <p:cNvSpPr/>
          <p:nvPr/>
        </p:nvSpPr>
        <p:spPr>
          <a:xfrm>
            <a:off x="4498920" y="3675240"/>
            <a:ext cx="2311560" cy="234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6742080" y="3830760"/>
            <a:ext cx="235080" cy="145800"/>
          </a:xfrm>
          <a:custGeom>
            <a:avLst/>
            <a:gdLst/>
            <a:ahLst/>
            <a:rect l="l" t="t" r="r" b="b"/>
            <a:pathLst>
              <a:path w="148" h="92">
                <a:moveTo>
                  <a:pt x="0" y="91"/>
                </a:moveTo>
                <a:lnTo>
                  <a:pt x="22" y="48"/>
                </a:lnTo>
                <a:lnTo>
                  <a:pt x="11" y="0"/>
                </a:lnTo>
                <a:lnTo>
                  <a:pt x="147" y="63"/>
                </a:lnTo>
                <a:lnTo>
                  <a:pt x="0" y="9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 flipV="1">
            <a:off x="4538520" y="5079600"/>
            <a:ext cx="2200320" cy="17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6672240" y="5014800"/>
            <a:ext cx="233280" cy="146160"/>
          </a:xfrm>
          <a:custGeom>
            <a:avLst/>
            <a:gdLst/>
            <a:ahLst/>
            <a:rect l="l" t="t" r="r" b="b"/>
            <a:pathLst>
              <a:path w="147" h="92">
                <a:moveTo>
                  <a:pt x="7" y="91"/>
                </a:moveTo>
                <a:lnTo>
                  <a:pt x="20" y="43"/>
                </a:lnTo>
                <a:lnTo>
                  <a:pt x="0" y="0"/>
                </a:lnTo>
                <a:lnTo>
                  <a:pt x="146" y="35"/>
                </a:lnTo>
                <a:lnTo>
                  <a:pt x="7" y="9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4535640" y="4110120"/>
            <a:ext cx="2261880" cy="83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6730920" y="4121280"/>
            <a:ext cx="233280" cy="147600"/>
          </a:xfrm>
          <a:custGeom>
            <a:avLst/>
            <a:gdLst/>
            <a:ahLst/>
            <a:rect l="l" t="t" r="r" b="b"/>
            <a:pathLst>
              <a:path w="147" h="93">
                <a:moveTo>
                  <a:pt x="0" y="92"/>
                </a:moveTo>
                <a:lnTo>
                  <a:pt x="20" y="46"/>
                </a:lnTo>
                <a:lnTo>
                  <a:pt x="5" y="0"/>
                </a:lnTo>
                <a:lnTo>
                  <a:pt x="146" y="50"/>
                </a:lnTo>
                <a:lnTo>
                  <a:pt x="0" y="92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 flipV="1">
            <a:off x="4538520" y="4470120"/>
            <a:ext cx="2271960" cy="14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6748560" y="4397400"/>
            <a:ext cx="228600" cy="147600"/>
          </a:xfrm>
          <a:custGeom>
            <a:avLst/>
            <a:gdLst/>
            <a:ahLst/>
            <a:rect l="l" t="t" r="r" b="b"/>
            <a:pathLst>
              <a:path w="144" h="93">
                <a:moveTo>
                  <a:pt x="0" y="92"/>
                </a:moveTo>
                <a:lnTo>
                  <a:pt x="18" y="46"/>
                </a:lnTo>
                <a:lnTo>
                  <a:pt x="0" y="0"/>
                </a:lnTo>
                <a:lnTo>
                  <a:pt x="143" y="46"/>
                </a:lnTo>
                <a:lnTo>
                  <a:pt x="0" y="92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4378320" y="3687840"/>
            <a:ext cx="9810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4378320" y="3840120"/>
            <a:ext cx="9810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 flipV="1">
            <a:off x="4552920" y="4765680"/>
            <a:ext cx="2212920" cy="179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6703920" y="4699080"/>
            <a:ext cx="231840" cy="147600"/>
          </a:xfrm>
          <a:custGeom>
            <a:avLst/>
            <a:gdLst/>
            <a:ahLst/>
            <a:rect l="l" t="t" r="r" b="b"/>
            <a:pathLst>
              <a:path w="146" h="93">
                <a:moveTo>
                  <a:pt x="6" y="92"/>
                </a:moveTo>
                <a:lnTo>
                  <a:pt x="19" y="44"/>
                </a:lnTo>
                <a:lnTo>
                  <a:pt x="0" y="0"/>
                </a:lnTo>
                <a:lnTo>
                  <a:pt x="145" y="35"/>
                </a:lnTo>
                <a:lnTo>
                  <a:pt x="6" y="92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 flipV="1">
            <a:off x="4514760" y="5401800"/>
            <a:ext cx="2254320" cy="28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6700680" y="5337000"/>
            <a:ext cx="235080" cy="146160"/>
          </a:xfrm>
          <a:custGeom>
            <a:avLst/>
            <a:gdLst/>
            <a:ahLst/>
            <a:rect l="l" t="t" r="r" b="b"/>
            <a:pathLst>
              <a:path w="148" h="92">
                <a:moveTo>
                  <a:pt x="11" y="91"/>
                </a:moveTo>
                <a:lnTo>
                  <a:pt x="21" y="43"/>
                </a:lnTo>
                <a:lnTo>
                  <a:pt x="0" y="0"/>
                </a:lnTo>
                <a:lnTo>
                  <a:pt x="147" y="28"/>
                </a:lnTo>
                <a:lnTo>
                  <a:pt x="11" y="9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4346640" y="4491000"/>
            <a:ext cx="9810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4346640" y="4643280"/>
            <a:ext cx="9810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4367520" y="5208480"/>
            <a:ext cx="9810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4367520" y="5364000"/>
            <a:ext cx="9810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5073480" y="1152360"/>
            <a:ext cx="4872240" cy="193392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cc0000"/>
                </a:solidFill>
                <a:latin typeface="굴림체"/>
                <a:ea typeface="굴림체"/>
              </a:rPr>
              <a:t>EXECUTION PL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SELECT STATEMEN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SORT  ( GROUP BY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 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CONCATEN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INDEX  RANGE  SCAN  : SHIP_DATE_IX1 ( NU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INDEX  RANGE  SCAN  : SHIP_DATE_IX1 ( NU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INDEX  RANGE  SCAN  : SHIP_DATE_IX1 ( NU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322920" y="3952800"/>
            <a:ext cx="3477240" cy="13615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처리범위는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'SHIPPER ='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와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'SDATE BETWEEN ...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에 의해서 결정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7" name=""/>
          <p:cNvGrpSpPr/>
          <p:nvPr/>
        </p:nvGrpSpPr>
        <p:grpSpPr>
          <a:xfrm>
            <a:off x="3993840" y="4518000"/>
            <a:ext cx="405000" cy="415800"/>
            <a:chOff x="3993840" y="4518000"/>
            <a:chExt cx="405000" cy="415800"/>
          </a:xfrm>
        </p:grpSpPr>
        <p:sp>
          <p:nvSpPr>
            <p:cNvPr id="548" name=""/>
            <p:cNvSpPr/>
            <p:nvPr/>
          </p:nvSpPr>
          <p:spPr>
            <a:xfrm>
              <a:off x="4016520" y="4518000"/>
              <a:ext cx="38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394160" y="4525920"/>
              <a:ext cx="0" cy="398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 flipH="1">
              <a:off x="3993840" y="4933800"/>
              <a:ext cx="390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1" name=""/>
          <p:cNvGrpSpPr/>
          <p:nvPr/>
        </p:nvGrpSpPr>
        <p:grpSpPr>
          <a:xfrm>
            <a:off x="3993840" y="5262480"/>
            <a:ext cx="405000" cy="416160"/>
            <a:chOff x="3993840" y="5262480"/>
            <a:chExt cx="405000" cy="416160"/>
          </a:xfrm>
        </p:grpSpPr>
        <p:sp>
          <p:nvSpPr>
            <p:cNvPr id="552" name=""/>
            <p:cNvSpPr/>
            <p:nvPr/>
          </p:nvSpPr>
          <p:spPr>
            <a:xfrm>
              <a:off x="4016520" y="5262480"/>
              <a:ext cx="38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4394160" y="5270400"/>
              <a:ext cx="0" cy="398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 flipH="1">
              <a:off x="3993840" y="5678640"/>
              <a:ext cx="390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5" name=""/>
          <p:cNvSpPr/>
          <p:nvPr/>
        </p:nvSpPr>
        <p:spPr>
          <a:xfrm>
            <a:off x="3284640" y="4633920"/>
            <a:ext cx="59508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 flipV="1">
            <a:off x="3284640" y="3890880"/>
            <a:ext cx="609480" cy="72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3271680" y="4651200"/>
            <a:ext cx="622440" cy="696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AEA0AB-AAB0-4686-9EEB-31271521EA4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"/>
          <p:cNvSpPr/>
          <p:nvPr/>
        </p:nvSpPr>
        <p:spPr>
          <a:xfrm>
            <a:off x="3943440" y="2295360"/>
            <a:ext cx="799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3921120" y="2201760"/>
            <a:ext cx="128520" cy="201600"/>
          </a:xfrm>
          <a:custGeom>
            <a:avLst/>
            <a:gdLst/>
            <a:ahLst/>
            <a:rect l="l" t="t" r="r" b="b"/>
            <a:pathLst>
              <a:path w="81" h="127">
                <a:moveTo>
                  <a:pt x="0" y="0"/>
                </a:moveTo>
                <a:lnTo>
                  <a:pt x="80" y="60"/>
                </a:lnTo>
                <a:lnTo>
                  <a:pt x="0" y="126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2344680" y="1416240"/>
            <a:ext cx="1570320" cy="22903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76320" bIns="7632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Arial"/>
                <a:ea typeface="돋움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Arial"/>
                <a:ea typeface="돋움"/>
              </a:rPr>
              <a:t>GFLT9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# * PART_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# * CAR_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# * D_D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# * TEAM_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     </a:t>
            </a: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SPUM_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     </a:t>
            </a: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ORDER_P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     </a:t>
            </a: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F_HP_Q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298600" y="243000"/>
            <a:ext cx="60706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11.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조인시 사용된 결합 인덱스의 컬럼 순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4826160" y="2297160"/>
            <a:ext cx="9871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5563080" y="1396800"/>
            <a:ext cx="1681560" cy="21621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76320" bIns="7632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Arial"/>
                <a:ea typeface="돋움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Arial"/>
                <a:ea typeface="돋움"/>
              </a:rPr>
              <a:t>GFXC13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# * PART_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# * D_D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# * TEAM_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      </a:t>
            </a: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B_F_Q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      </a:t>
            </a: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UPPER_D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      </a:t>
            </a: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2347920" y="1897200"/>
            <a:ext cx="155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5564160" y="1892160"/>
            <a:ext cx="1679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430200" y="4325760"/>
            <a:ext cx="8745480" cy="17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인덱스정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GFLT950  A : GFLT950_X1 : CAR_CODE + D_DAY +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PART_CODE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+ TEAM_CODE (PK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GFLT950  A : GFLT950_X2 : TEAM_CODE + SPUM_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GFXC130  B : GFXC130_X1 : D_DAY + PART_CODE + TEAM_CODE (PK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99A5CC-18AE-4791-8BF9-F622F9F67A8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"/>
          <p:cNvSpPr/>
          <p:nvPr/>
        </p:nvSpPr>
        <p:spPr>
          <a:xfrm>
            <a:off x="282600" y="947880"/>
            <a:ext cx="9664560" cy="12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인덱스정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GFLT950  A : GFLT950_X1 : CAR_CODE + D_DAY + </a:t>
            </a:r>
            <a:r>
              <a:rPr b="1" lang="ko-KR" sz="1400" spc="-1" strike="noStrike">
                <a:solidFill>
                  <a:srgbClr val="ff0033"/>
                </a:solidFill>
                <a:latin typeface="굴림체"/>
                <a:ea typeface="굴림체"/>
              </a:rPr>
              <a:t>PART_CODE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+ TEAM_CODE (PK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GFLT950  A : GFLT950_X2 : TEAM_CODE + SPUM_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GFXC130  B : GFXC130_X1 : D_DAY + PART_CODE + TEAM_CODE (PK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584280" y="2732040"/>
            <a:ext cx="6548400" cy="3822840"/>
          </a:xfrm>
          <a:prstGeom prst="roundRect">
            <a:avLst>
              <a:gd name="adj" fmla="val 90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8160" rIns="38160" tIns="0" bIns="0" anchor="t">
            <a:sp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A.CAR_CODE, A.D_DAY, A.PART_CODE, A.SPUM_CODE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.ORDER_PRT, A.HP_Q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B.TEAM_CDOE, B.UPFR_D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GFLT950 A,  GFXC130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WHERE  A.PART_CODE = B.PART_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 A.ORDER_PRT = 100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 B.D_DAY = :VALUE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 B.TEAM_CODE = :VALUE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 B.PART_CODE BETWEEN :VALUE3 AND :VALUE4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2298600" y="243000"/>
            <a:ext cx="60706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11.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조인시 사용된 결합 인덱스의 컬럼 순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282600" y="2246400"/>
            <a:ext cx="8343720" cy="44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1" name=""/>
          <p:cNvGrpSpPr/>
          <p:nvPr/>
        </p:nvGrpSpPr>
        <p:grpSpPr>
          <a:xfrm>
            <a:off x="4722840" y="3363840"/>
            <a:ext cx="5300640" cy="2010600"/>
            <a:chOff x="4722840" y="3363840"/>
            <a:chExt cx="5300640" cy="2010600"/>
          </a:xfrm>
        </p:grpSpPr>
        <p:sp>
          <p:nvSpPr>
            <p:cNvPr id="572" name=""/>
            <p:cNvSpPr/>
            <p:nvPr/>
          </p:nvSpPr>
          <p:spPr>
            <a:xfrm>
              <a:off x="4722840" y="3363840"/>
              <a:ext cx="5300640" cy="2010600"/>
            </a:xfrm>
            <a:prstGeom prst="rect">
              <a:avLst/>
            </a:prstGeom>
            <a:solidFill>
              <a:srgbClr val="eaeae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cc0000"/>
                  </a:solidFill>
                  <a:latin typeface="굴림체"/>
                  <a:ea typeface="굴림체"/>
                </a:rPr>
                <a:t> </a:t>
              </a:r>
              <a:r>
                <a:rPr b="1" lang="ko-KR" sz="1400" spc="-1" strike="noStrike">
                  <a:solidFill>
                    <a:srgbClr val="cc0000"/>
                  </a:solidFill>
                  <a:latin typeface="굴림체"/>
                  <a:ea typeface="굴림체"/>
                </a:rPr>
                <a:t>ROWS  EXECUTION PLA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-----  --------------------------------------------------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 </a:t>
              </a: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0  SELECT  STATEM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</a:t>
              </a: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184    NESTED LOO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3300"/>
                  </a:solidFill>
                  <a:latin typeface="굴림체"/>
                  <a:ea typeface="굴림체"/>
                </a:rPr>
                <a:t>17718</a:t>
              </a: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   TABLE ACCESS (FULL) OF 'GFLT950'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</a:t>
              </a: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184      TABLE ACCESS (BY ROWID) OF 'GFXC130'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</a:t>
              </a: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184        INDEX (UNIQUE SCAN) OF 'GFXC130_X1' (UNIQUE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9104040" y="4149720"/>
              <a:ext cx="677160" cy="61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SzPct val="120000"/>
                <a:buFont typeface="Wingdings" charset="2"/>
                <a:buChar char="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7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 </a:t>
              </a:r>
              <a:r>
                <a:rPr b="1" lang="ko-KR" sz="17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A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SzPct val="120000"/>
                <a:buFont typeface="Wingdings" charset="2"/>
                <a:buChar char="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7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 </a:t>
              </a:r>
              <a:r>
                <a:rPr b="1" lang="ko-KR" sz="17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B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"/>
          <p:cNvSpPr/>
          <p:nvPr/>
        </p:nvSpPr>
        <p:spPr>
          <a:xfrm>
            <a:off x="282600" y="5935680"/>
            <a:ext cx="9421920" cy="44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해결 방안 </a:t>
            </a: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: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GFLT950_X1</a:t>
            </a:r>
            <a:r>
              <a:rPr b="1" lang="ko-KR" sz="1800" spc="-1" strike="noStrike">
                <a:solidFill>
                  <a:srgbClr val="ff33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:</a:t>
            </a:r>
            <a:r>
              <a:rPr b="1" lang="ko-KR" sz="1800" spc="-1" strike="noStrike">
                <a:solidFill>
                  <a:srgbClr val="ff3300"/>
                </a:solidFill>
                <a:latin typeface="굴림체"/>
                <a:ea typeface="굴림체"/>
              </a:rPr>
              <a:t> PART_CODE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+ CAR_CODE + D_DAY + TEAM_CODE</a:t>
            </a: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20A341-040F-488B-ABDD-852108FFFE25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"/>
          <p:cNvSpPr/>
          <p:nvPr/>
        </p:nvSpPr>
        <p:spPr>
          <a:xfrm>
            <a:off x="-477360" y="2863800"/>
            <a:ext cx="8436960" cy="218988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t">
            <a:spAutoFit/>
          </a:bodyPr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A.CAR_CODE, A.D_DAY, A.PART_CODE, A.SPUM_CODE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.ORDER.PRT, A.F_HP_Q, B.TEAM_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GFLT920 A,  GFXC130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 A.PART_CODE = B.PART_COD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AND  A.D_DAY = :VALUE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B.PART_CODE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BETWEEN  :VALUE3  AND  :VALUE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 B.TEAM_CODE = :VALUE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2213280" y="243000"/>
            <a:ext cx="55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12. 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결합 인덱스를 구성하는 컬럼 선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266760" y="1103400"/>
            <a:ext cx="9736200" cy="22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인덱스정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GFLT920  A : GFLT920_X1 : CAR_CODE + D_DAY + PART_CODE + TEAM_CODE (PK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GFLT920  A : GFLT920_X2 : PART_CODE + SPUM_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GFXC130  B : GFXC130_X1 : PART_CODE + TEAM_CODE (PRIMARY KE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6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4392720" y="4816440"/>
            <a:ext cx="5148000" cy="205308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cc0000"/>
                </a:solidFill>
                <a:latin typeface="굴림체"/>
                <a:ea typeface="굴림체"/>
              </a:rPr>
              <a:t>ROWS  EXECUTION PL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----  ------------------------------------------------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0  SELECT  STATEMENT      HINT : CHOO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23    NESTED LOO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12      TABLE ACCESS (BY ROWID) OF 'GFXC130'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13        INDEX (RANGE SCAN) OF 'GFXC130_X1' (UNIQU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6389      TABLE ACCESS (BY ROWID) OF 'GFLT920'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6390        INDEX (RANGE SCAN) OF 'GFLT920_X2'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8770680" y="5562720"/>
            <a:ext cx="677160" cy="81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20000"/>
              <a:buFont typeface="Wingdings" charset="2"/>
              <a:buChar char="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700" spc="-1" strike="noStrike">
                <a:solidFill>
                  <a:srgbClr val="3333cc"/>
                </a:solidFill>
                <a:latin typeface="굴림체"/>
                <a:ea typeface="굴림체"/>
              </a:rPr>
              <a:t> </a:t>
            </a:r>
            <a:r>
              <a:rPr b="1" lang="ko-KR" sz="1700" spc="-1" strike="noStrike">
                <a:solidFill>
                  <a:srgbClr val="3333cc"/>
                </a:solidFill>
                <a:latin typeface="굴림체"/>
                <a:ea typeface="굴림체"/>
              </a:rPr>
              <a:t>B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SzPct val="120000"/>
              <a:buFont typeface="Wingdings" charset="2"/>
              <a:buChar char="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700" spc="-1" strike="noStrike">
                <a:solidFill>
                  <a:srgbClr val="3333cc"/>
                </a:solidFill>
                <a:latin typeface="굴림체"/>
                <a:ea typeface="굴림체"/>
              </a:rPr>
              <a:t> </a:t>
            </a:r>
            <a:r>
              <a:rPr b="1" lang="ko-KR" sz="1700" spc="-1" strike="noStrike">
                <a:solidFill>
                  <a:srgbClr val="3333cc"/>
                </a:solidFill>
                <a:latin typeface="굴림체"/>
                <a:ea typeface="굴림체"/>
              </a:rPr>
              <a:t>A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2C0758-6136-4F22-991A-568820F507ED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"/>
          <p:cNvSpPr/>
          <p:nvPr/>
        </p:nvSpPr>
        <p:spPr>
          <a:xfrm>
            <a:off x="2277000" y="243000"/>
            <a:ext cx="55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12. 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결합 인덱스를 구성하는 컬럼 선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7335720" y="1231920"/>
            <a:ext cx="1055880" cy="2986200"/>
          </a:xfrm>
          <a:prstGeom prst="rect">
            <a:avLst/>
          </a:prstGeom>
          <a:gradFill rotWithShape="0">
            <a:gsLst>
              <a:gs pos="0">
                <a:srgbClr val="7fb1ad"/>
              </a:gs>
              <a:gs pos="50000">
                <a:srgbClr val="b8fff9"/>
              </a:gs>
              <a:gs pos="100000">
                <a:srgbClr val="7fb1ad"/>
              </a:gs>
            </a:gsLst>
            <a:lin ang="108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3295800" y="1231920"/>
            <a:ext cx="1193760" cy="2940120"/>
          </a:xfrm>
          <a:prstGeom prst="rect">
            <a:avLst/>
          </a:prstGeom>
          <a:gradFill rotWithShape="0">
            <a:gsLst>
              <a:gs pos="0">
                <a:srgbClr val="7fb1ad"/>
              </a:gs>
              <a:gs pos="50000">
                <a:srgbClr val="b8fff9"/>
              </a:gs>
              <a:gs pos="100000">
                <a:srgbClr val="7fb1ad"/>
              </a:gs>
            </a:gsLst>
            <a:lin ang="108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677880" y="2417760"/>
            <a:ext cx="8780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642960" y="2898720"/>
            <a:ext cx="912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1682640" y="1219320"/>
            <a:ext cx="673200" cy="2958840"/>
          </a:xfrm>
          <a:prstGeom prst="rect">
            <a:avLst/>
          </a:prstGeom>
          <a:gradFill rotWithShape="0">
            <a:gsLst>
              <a:gs pos="0">
                <a:srgbClr val="c5c5c5"/>
              </a:gs>
              <a:gs pos="50000">
                <a:srgbClr val="dddddd"/>
              </a:gs>
              <a:gs pos="100000">
                <a:srgbClr val="c5c5c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2406600" y="2800440"/>
            <a:ext cx="812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2394000" y="2417760"/>
            <a:ext cx="8506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6343560" y="3365640"/>
            <a:ext cx="84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4570560" y="2417760"/>
            <a:ext cx="757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4568760" y="2800440"/>
            <a:ext cx="746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6369120" y="1871640"/>
            <a:ext cx="7966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434440" y="2795760"/>
            <a:ext cx="8492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434440" y="2332080"/>
            <a:ext cx="853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2376000" y="1876320"/>
            <a:ext cx="5994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12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건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634680" y="1876320"/>
            <a:ext cx="5994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13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건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6303600" y="1384200"/>
            <a:ext cx="843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6389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건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8550000" y="1728720"/>
            <a:ext cx="5994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23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건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4704840" y="1876320"/>
            <a:ext cx="5994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12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건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381480" y="4424400"/>
            <a:ext cx="10386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GFXC1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테이블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369200" y="4456080"/>
            <a:ext cx="10386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GFLT9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테이블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1181520" y="4435560"/>
            <a:ext cx="14043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GFXC130_X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5115240" y="4511520"/>
            <a:ext cx="14043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GFLT920_X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352440" y="5154480"/>
            <a:ext cx="9272520" cy="9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해결방안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GFLT920  A : GFLT920_X2 : </a:t>
            </a:r>
            <a:r>
              <a:rPr b="1" lang="ko-KR" sz="1800" spc="-1" strike="noStrike">
                <a:solidFill>
                  <a:srgbClr val="ff3300"/>
                </a:solidFill>
                <a:latin typeface="굴림체"/>
                <a:ea typeface="굴림체"/>
              </a:rPr>
              <a:t>PART_CODE + D_D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5518080" y="1231920"/>
            <a:ext cx="701640" cy="2967120"/>
          </a:xfrm>
          <a:prstGeom prst="rect">
            <a:avLst/>
          </a:prstGeom>
          <a:gradFill rotWithShape="0">
            <a:gsLst>
              <a:gs pos="0">
                <a:srgbClr val="c5c5c5"/>
              </a:gs>
              <a:gs pos="50000">
                <a:srgbClr val="dddddd"/>
              </a:gs>
              <a:gs pos="100000">
                <a:srgbClr val="c5c5c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5888160" y="1871640"/>
            <a:ext cx="0" cy="15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5457600" y="3635280"/>
            <a:ext cx="843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6390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건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7536EF-2033-43C3-9FC2-17FD2115ADA0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"/>
          <p:cNvSpPr/>
          <p:nvPr/>
        </p:nvSpPr>
        <p:spPr>
          <a:xfrm>
            <a:off x="-11160" y="2800440"/>
            <a:ext cx="6949080" cy="207180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8160" rIns="3816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A.PART_CODE,A.SPUM_CODE,A.D_DAY,A.B_F_QTY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.TAG,B.ORDER_PRT,C.DC_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GFBT400  A,  GFXC440  B,  GFXC130  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.SPUM_CODE = </a:t>
            </a: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B.SPUM_CODE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A.PART_CODE = </a:t>
            </a: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C.PART_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</a:t>
            </a:r>
            <a:r>
              <a:rPr b="1" lang="ko-KR" sz="1800" spc="-1" strike="noStrike">
                <a:solidFill>
                  <a:srgbClr val="ff3300"/>
                </a:solidFill>
                <a:latin typeface="굴림체"/>
                <a:ea typeface="굴림체"/>
              </a:rPr>
              <a:t> A.D_DAY = :B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33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ff3300"/>
                </a:solidFill>
                <a:latin typeface="굴림체"/>
                <a:ea typeface="굴림체"/>
              </a:rPr>
              <a:t>AND A.TEAM_CODE = :B2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2213280" y="243000"/>
            <a:ext cx="55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13. 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결합 인덱스를 구성하는 컬럼 순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266760" y="1103400"/>
            <a:ext cx="9820080" cy="173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인덱스정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GFBT400  A :  GFBT400_X3 :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TEAM_CODE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+ SHOP_CODE +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ff3300"/>
                </a:solidFill>
                <a:latin typeface="굴림체"/>
                <a:ea typeface="굴림체"/>
              </a:rPr>
              <a:t>D_DAY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GFXC440  B :  GFXC440_X1 : SPUM_CODE  (UNIQ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GFXC130  C :  GFXC130_X1 : PART_CODE  (UNIQ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3686040" y="4356000"/>
            <a:ext cx="6086520" cy="311868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cc0000"/>
                </a:solidFill>
                <a:latin typeface="굴림체"/>
                <a:ea typeface="굴림체"/>
              </a:rPr>
              <a:t>ROWS   EXECUTION  PL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-----  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0  SELECT   STAT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391    NESTED  LOO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391      NESTED  LOO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400" spc="-1" strike="noStrike">
                <a:solidFill>
                  <a:srgbClr val="ff0033"/>
                </a:solidFill>
                <a:latin typeface="굴림체"/>
                <a:ea typeface="굴림체"/>
              </a:rPr>
              <a:t>391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TABLE  ACCESS ( BY ROWID )  OF  'GFBT400'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3300"/>
                </a:solidFill>
                <a:latin typeface="굴림체"/>
                <a:ea typeface="굴림체"/>
              </a:rPr>
              <a:t>48276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INDEX ( RANGE SCAN )  OF  'GFBT400_X3' (NON-UNIQ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391        TABLE  ACCESS ( BY ROWID )  OF  'GFXC130'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391          INDEX ( UNIQUE SCAN )  OF  'GFXC130_X1' (UNIQ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391      TABLE  ACCESS ( BY ROWID )  OF  'GFXC440'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391        INDEX  ( UNIQUE SCAN ) OF  'GFXC440_X1' (UNIQ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9190800" y="5375160"/>
            <a:ext cx="621000" cy="111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SzPct val="120000"/>
              <a:buFont typeface="Wingdings" charset="2"/>
              <a:buChar char="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500" spc="-1" strike="noStrike">
                <a:solidFill>
                  <a:srgbClr val="3333cc"/>
                </a:solidFill>
                <a:latin typeface="굴림체"/>
                <a:ea typeface="굴림체"/>
              </a:rPr>
              <a:t> </a:t>
            </a:r>
            <a:r>
              <a:rPr b="1" lang="ko-KR" sz="1500" spc="-1" strike="noStrike">
                <a:solidFill>
                  <a:srgbClr val="3333cc"/>
                </a:solidFill>
                <a:latin typeface="굴림체"/>
                <a:ea typeface="굴림체"/>
              </a:rPr>
              <a:t>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SzPct val="120000"/>
              <a:buFont typeface="Wingdings" charset="2"/>
              <a:buChar char="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500" spc="-1" strike="noStrike">
                <a:solidFill>
                  <a:srgbClr val="3333cc"/>
                </a:solidFill>
                <a:latin typeface="굴림체"/>
                <a:ea typeface="굴림체"/>
              </a:rPr>
              <a:t> </a:t>
            </a:r>
            <a:r>
              <a:rPr b="1" lang="ko-KR" sz="1500" spc="-1" strike="noStrike">
                <a:solidFill>
                  <a:srgbClr val="3333cc"/>
                </a:solidFill>
                <a:latin typeface="굴림체"/>
                <a:ea typeface="굴림체"/>
              </a:rPr>
              <a:t>C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SzPct val="120000"/>
              <a:buFont typeface="Wingdings" charset="2"/>
              <a:buChar char="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500" spc="-1" strike="noStrike">
                <a:solidFill>
                  <a:srgbClr val="3333cc"/>
                </a:solidFill>
                <a:latin typeface="굴림체"/>
                <a:ea typeface="굴림체"/>
              </a:rPr>
              <a:t> </a:t>
            </a:r>
            <a:r>
              <a:rPr b="1" lang="ko-KR" sz="1500" spc="-1" strike="noStrike">
                <a:solidFill>
                  <a:srgbClr val="3333cc"/>
                </a:solidFill>
                <a:latin typeface="굴림체"/>
                <a:ea typeface="굴림체"/>
              </a:rPr>
              <a:t>B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AC0B76-FC70-4A7E-B78C-4421910CC1DF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-499320" y="2849400"/>
            <a:ext cx="8688960" cy="187452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H14_ACNT_CODE, H14_GWANLI_CODE, H14_MAGAM_YY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H14_MAGAM_MM,  H14_GUBUN, H14_C_AMT, H14_D_AMT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FH1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H14_MAGAM_YY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= :B0  AND 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H14_GUBUN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= :B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ff3300"/>
                </a:solidFill>
                <a:latin typeface="굴림체"/>
                <a:ea typeface="굴림체"/>
              </a:rPr>
              <a:t>ORDER BY  H14_ACNT_CODE, H14_GWANLI_CODE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989720" y="243000"/>
            <a:ext cx="5709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2. ORDER BY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절에서도 인덱스 사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66760" y="1103400"/>
            <a:ext cx="9745560" cy="19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인덱스정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H14 : IFH14_KEY1 : </a:t>
            </a:r>
            <a:r>
              <a:rPr b="1" lang="ko-KR" sz="1400" spc="-1" strike="noStrike">
                <a:solidFill>
                  <a:srgbClr val="ff3300"/>
                </a:solidFill>
                <a:latin typeface="굴림체"/>
                <a:ea typeface="굴림체"/>
              </a:rPr>
              <a:t>H14_ACNT_CODE + H14_GWANLI_CODE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+ </a:t>
            </a:r>
            <a:r>
              <a:rPr b="1" lang="ko-KR" sz="1400" spc="-1" strike="noStrike">
                <a:solidFill>
                  <a:srgbClr val="3333cc"/>
                </a:solidFill>
                <a:latin typeface="굴림체"/>
                <a:ea typeface="굴림체"/>
              </a:rPr>
              <a:t>H14_MAGAM_YY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+ H14_MAGAM_MM + </a:t>
            </a:r>
            <a:r>
              <a:rPr b="1" lang="ko-KR" sz="1400" spc="-1" strike="noStrike">
                <a:solidFill>
                  <a:srgbClr val="3333cc"/>
                </a:solidFill>
                <a:latin typeface="굴림체"/>
                <a:ea typeface="굴림체"/>
              </a:rPr>
              <a:t>H14_GUBU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440160" y="5200560"/>
            <a:ext cx="6265800" cy="177156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90440" indent="-1904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600" spc="-1" strike="noStrike">
                <a:solidFill>
                  <a:srgbClr val="cc0000"/>
                </a:solidFill>
                <a:latin typeface="굴림체"/>
                <a:ea typeface="굴림체"/>
              </a:rPr>
              <a:t>ROWS    EXECUTION PL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----    ----------------------------------------------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0    SELECT STATEMENT   HINT: CHOO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5743      TABLE ACCESS (BY ROWID) OF 'FH14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168188        INDEX (RANGE SCAN) OF 'IFH14_KEY1' (UNIQU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053120" y="4334040"/>
            <a:ext cx="2578320" cy="911160"/>
          </a:xfrm>
          <a:custGeom>
            <a:avLst/>
            <a:gdLst>
              <a:gd name="textAreaLeft" fmla="*/ 95400 w 2578320"/>
              <a:gd name="textAreaRight" fmla="*/ 2482920 w 2578320"/>
              <a:gd name="textAreaTop" fmla="*/ 33480 h 911160"/>
              <a:gd name="textAreaBottom" fmla="*/ 727920 h 91116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3698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cce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0099"/>
                </a:solidFill>
                <a:latin typeface="Arial"/>
                <a:ea typeface="굴림체"/>
              </a:rPr>
              <a:t>Order By</a:t>
            </a:r>
            <a:r>
              <a:rPr b="1" lang="ko-KR" sz="1600" spc="-1" strike="noStrike">
                <a:solidFill>
                  <a:srgbClr val="330099"/>
                </a:solidFill>
                <a:latin typeface="Arial"/>
                <a:ea typeface="굴림체"/>
              </a:rPr>
              <a:t>에 의한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0099"/>
                </a:solidFill>
                <a:latin typeface="Arial"/>
                <a:ea typeface="굴림체"/>
              </a:rPr>
              <a:t>SORT Plan</a:t>
            </a:r>
            <a:r>
              <a:rPr b="1" lang="ko-KR" sz="1600" spc="-1" strike="noStrike">
                <a:solidFill>
                  <a:srgbClr val="330099"/>
                </a:solidFill>
                <a:latin typeface="Arial"/>
                <a:ea typeface="굴림체"/>
              </a:rPr>
              <a:t>이 없는 이유</a:t>
            </a:r>
            <a:r>
              <a:rPr b="1" lang="ko-KR" sz="1600" spc="-1" strike="noStrike">
                <a:solidFill>
                  <a:srgbClr val="330099"/>
                </a:solidFill>
                <a:latin typeface="Arial"/>
                <a:ea typeface="굴림체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95440" y="5218200"/>
            <a:ext cx="2211120" cy="69156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Arial"/>
                <a:ea typeface="굴림체"/>
              </a:rPr>
              <a:t>적어도 하나 이상의 컬럼이 </a:t>
            </a:r>
            <a:r>
              <a:rPr b="1" lang="ko-KR" sz="1800" spc="-1" strike="noStrike">
                <a:solidFill>
                  <a:srgbClr val="000000"/>
                </a:solidFill>
                <a:latin typeface="Arial"/>
                <a:ea typeface="굴림체"/>
              </a:rPr>
              <a:t>NOT NU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CC7FFC-EA90-40E2-8380-2A9CE71600B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"/>
          <p:cNvSpPr/>
          <p:nvPr/>
        </p:nvSpPr>
        <p:spPr>
          <a:xfrm>
            <a:off x="2213280" y="243000"/>
            <a:ext cx="55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13. 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결합 인덱스를 구성하는 컬럼 순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936720" y="1833480"/>
            <a:ext cx="485640" cy="3881520"/>
          </a:xfrm>
          <a:prstGeom prst="rect">
            <a:avLst/>
          </a:prstGeom>
          <a:gradFill rotWithShape="0">
            <a:gsLst>
              <a:gs pos="0">
                <a:srgbClr val="c5c5c5"/>
              </a:gs>
              <a:gs pos="50000">
                <a:srgbClr val="dddddd"/>
              </a:gs>
              <a:gs pos="100000">
                <a:srgbClr val="c5c5c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147240" y="1285920"/>
            <a:ext cx="1854000" cy="3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굴림체"/>
              </a:rPr>
              <a:t>GFBT400_X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108360" y="5881680"/>
            <a:ext cx="2027880" cy="63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   </a:t>
            </a: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TEAM_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+ SHOP_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+ D_D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92280" y="2362320"/>
            <a:ext cx="40788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100160" y="2362320"/>
            <a:ext cx="0" cy="289548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 flipH="1">
            <a:off x="614160" y="5257800"/>
            <a:ext cx="48564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162000" y="3213000"/>
            <a:ext cx="88740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돋움"/>
              </a:rPr>
              <a:t>4827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165400" y="1841400"/>
            <a:ext cx="1270080" cy="3882960"/>
          </a:xfrm>
          <a:prstGeom prst="rect">
            <a:avLst/>
          </a:prstGeom>
          <a:gradFill rotWithShape="0">
            <a:gsLst>
              <a:gs pos="0">
                <a:srgbClr val="7fb1ad"/>
              </a:gs>
              <a:gs pos="50000">
                <a:srgbClr val="b8fff9"/>
              </a:gs>
              <a:gs pos="100000">
                <a:srgbClr val="7fb1ad"/>
              </a:gs>
            </a:gsLst>
            <a:lin ang="108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1930320" y="1285920"/>
            <a:ext cx="1536840" cy="3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굴림체"/>
              </a:rPr>
              <a:t>GFBT4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 flipV="1">
            <a:off x="1258920" y="2286000"/>
            <a:ext cx="1297080" cy="53352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1258920" y="2895480"/>
            <a:ext cx="1297080" cy="182880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 flipV="1">
            <a:off x="1258920" y="2819520"/>
            <a:ext cx="1297080" cy="30456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 flipV="1">
            <a:off x="1258920" y="4191120"/>
            <a:ext cx="1297080" cy="76176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1459080" y="3068640"/>
            <a:ext cx="403200" cy="10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1258920" y="4038480"/>
            <a:ext cx="1297080" cy="99072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4278240" y="1833480"/>
            <a:ext cx="538200" cy="3903840"/>
          </a:xfrm>
          <a:prstGeom prst="rect">
            <a:avLst/>
          </a:prstGeom>
          <a:gradFill rotWithShape="0">
            <a:gsLst>
              <a:gs pos="0">
                <a:srgbClr val="c5c5c5"/>
              </a:gs>
              <a:gs pos="50000">
                <a:srgbClr val="dddddd"/>
              </a:gs>
              <a:gs pos="100000">
                <a:srgbClr val="c5c5c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3711960" y="1285920"/>
            <a:ext cx="1864800" cy="3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굴림체"/>
              </a:rPr>
              <a:t>GFXC130_X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3162960" y="2222640"/>
            <a:ext cx="126576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돋움"/>
              </a:rPr>
              <a:t>391</a:t>
            </a: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돋움"/>
              </a:rPr>
              <a:t>회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5581800" y="1841400"/>
            <a:ext cx="1171440" cy="3882960"/>
          </a:xfrm>
          <a:prstGeom prst="rect">
            <a:avLst/>
          </a:prstGeom>
          <a:gradFill rotWithShape="0">
            <a:gsLst>
              <a:gs pos="0">
                <a:srgbClr val="7fb1ad"/>
              </a:gs>
              <a:gs pos="50000">
                <a:srgbClr val="b8fff9"/>
              </a:gs>
              <a:gs pos="100000">
                <a:srgbClr val="7fb1ad"/>
              </a:gs>
            </a:gsLst>
            <a:lin ang="108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5346000" y="1285920"/>
            <a:ext cx="1547640" cy="3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굴림체"/>
              </a:rPr>
              <a:t>GFXC1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4678200" y="2666880"/>
            <a:ext cx="1295640" cy="60984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4678200" y="2819520"/>
            <a:ext cx="1295640" cy="167616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4777920" y="3754440"/>
            <a:ext cx="833040" cy="10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4761000" y="4800600"/>
            <a:ext cx="1212840" cy="15228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3548160" y="5781600"/>
            <a:ext cx="2003400" cy="3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   </a:t>
            </a: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PART_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2878200" y="2286000"/>
            <a:ext cx="1542960" cy="91440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2878200" y="2666880"/>
            <a:ext cx="1542960" cy="114300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 flipV="1">
            <a:off x="2962440" y="2742840"/>
            <a:ext cx="1458720" cy="30492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2575800" y="3220920"/>
            <a:ext cx="833040" cy="10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 flipV="1">
            <a:off x="2878200" y="3885840"/>
            <a:ext cx="1542960" cy="76212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 flipV="1">
            <a:off x="2878200" y="4800240"/>
            <a:ext cx="1542960" cy="22860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432560" y="1833480"/>
            <a:ext cx="487440" cy="3903840"/>
          </a:xfrm>
          <a:prstGeom prst="rect">
            <a:avLst/>
          </a:prstGeom>
          <a:gradFill rotWithShape="0">
            <a:gsLst>
              <a:gs pos="0">
                <a:srgbClr val="c5c5c5"/>
              </a:gs>
              <a:gs pos="50000">
                <a:srgbClr val="dddddd"/>
              </a:gs>
              <a:gs pos="100000">
                <a:srgbClr val="c5c5c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8580600" y="1841400"/>
            <a:ext cx="1117440" cy="3882960"/>
          </a:xfrm>
          <a:prstGeom prst="rect">
            <a:avLst/>
          </a:prstGeom>
          <a:gradFill rotWithShape="0">
            <a:gsLst>
              <a:gs pos="0">
                <a:srgbClr val="7fb1ad"/>
              </a:gs>
              <a:gs pos="50000">
                <a:srgbClr val="b8fff9"/>
              </a:gs>
              <a:gs pos="100000">
                <a:srgbClr val="7fb1ad"/>
              </a:gs>
            </a:gsLst>
            <a:lin ang="108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8344800" y="1285920"/>
            <a:ext cx="1547640" cy="3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굴림체"/>
              </a:rPr>
              <a:t>GFXC4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7756560" y="2895480"/>
            <a:ext cx="1297080" cy="182880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 flipV="1">
            <a:off x="7756560" y="2666880"/>
            <a:ext cx="1297080" cy="60984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7613280" y="3449520"/>
            <a:ext cx="833040" cy="10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7756560" y="4800600"/>
            <a:ext cx="1297080" cy="22860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6461280" y="2971800"/>
            <a:ext cx="1054080" cy="190512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4639320" y="2222640"/>
            <a:ext cx="126576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돋움"/>
              </a:rPr>
              <a:t>391</a:t>
            </a: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돋움"/>
              </a:rPr>
              <a:t>회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 flipV="1">
            <a:off x="6539040" y="2819520"/>
            <a:ext cx="1054080" cy="175248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6076440" y="3297240"/>
            <a:ext cx="833040" cy="10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 flipV="1">
            <a:off x="6539040" y="3200400"/>
            <a:ext cx="1054080" cy="175248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6725160" y="1285920"/>
            <a:ext cx="1864800" cy="3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굴림체"/>
              </a:rPr>
              <a:t>GFXC440_X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6642720" y="5857920"/>
            <a:ext cx="1983240" cy="3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  </a:t>
            </a: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SPUM_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6452280" y="2222640"/>
            <a:ext cx="126576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돋움"/>
              </a:rPr>
              <a:t>391</a:t>
            </a: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돋움"/>
              </a:rPr>
              <a:t>회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7604640" y="2222640"/>
            <a:ext cx="126576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돋움"/>
              </a:rPr>
              <a:t>391</a:t>
            </a: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돋움"/>
              </a:rPr>
              <a:t>회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 flipV="1">
            <a:off x="1258920" y="3504960"/>
            <a:ext cx="1297080" cy="114300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1258920" y="2514600"/>
            <a:ext cx="1297080" cy="83808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378080" y="2222640"/>
            <a:ext cx="85860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ff3300"/>
                </a:solidFill>
                <a:latin typeface="Arial"/>
                <a:ea typeface="돋움"/>
              </a:rPr>
              <a:t>391</a:t>
            </a:r>
            <a:r>
              <a:rPr b="1" lang="ko-KR" sz="1600" spc="-1" strike="noStrike">
                <a:solidFill>
                  <a:srgbClr val="ff3300"/>
                </a:solidFill>
                <a:latin typeface="Arial"/>
                <a:ea typeface="돋움"/>
              </a:rPr>
              <a:t>회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505360" y="3144960"/>
            <a:ext cx="833040" cy="10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2570040" y="6229440"/>
            <a:ext cx="4730760" cy="495360"/>
          </a:xfrm>
          <a:prstGeom prst="roundRect">
            <a:avLst>
              <a:gd name="adj" fmla="val 124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3300"/>
                </a:solidFill>
                <a:latin typeface="Arial"/>
                <a:ea typeface="굴림체"/>
              </a:rPr>
              <a:t>TEAM_CODE + D_DAY </a:t>
            </a:r>
            <a:r>
              <a:rPr b="1" lang="ko-KR" sz="1800" spc="-1" strike="noStrike">
                <a:solidFill>
                  <a:srgbClr val="000000"/>
                </a:solidFill>
                <a:latin typeface="Arial"/>
                <a:ea typeface="굴림체"/>
              </a:rPr>
              <a:t>+ SHOP_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5E01C5-4231-49EE-95CA-359816A5F01C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"/>
          <p:cNvSpPr/>
          <p:nvPr/>
        </p:nvSpPr>
        <p:spPr>
          <a:xfrm>
            <a:off x="-509760" y="3005280"/>
            <a:ext cx="9251280" cy="207036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t">
            <a:spAutoFit/>
          </a:bodyPr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 D_DAY,  TEAM_CODE,  SPUM_CODE,  B_F_QTY,  ORDER_P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 GFBT3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ff3300"/>
                </a:solidFill>
                <a:latin typeface="굴림체"/>
                <a:ea typeface="굴림체"/>
              </a:rPr>
              <a:t>D_DAY  BETWEEN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:VALUE1 AND :VALUE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ff3300"/>
                </a:solidFill>
                <a:latin typeface="굴림체"/>
                <a:ea typeface="굴림체"/>
              </a:rPr>
              <a:t>TEAM_CODE =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:VALUE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ORDER BY  ORDER_PRT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2212560" y="243000"/>
            <a:ext cx="55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14. 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결합 인덱스의 사용을 정확히 확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314280" y="1103400"/>
            <a:ext cx="9409320" cy="234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인덱스정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GFBT300 : GFBT300_X1 : </a:t>
            </a:r>
            <a:r>
              <a:rPr b="1" lang="ko-KR" sz="1800" spc="-1" strike="noStrike">
                <a:solidFill>
                  <a:srgbClr val="ff3300"/>
                </a:solidFill>
                <a:latin typeface="굴림체"/>
                <a:ea typeface="굴림체"/>
              </a:rPr>
              <a:t>D_DAY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+ SPUM_CODE + SERIAL_NO (PRIMARY KE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GFBT300 : GFBT300_X2 : SPUM_CODE + D_DAY + ORDER_PR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4121280" y="4460760"/>
            <a:ext cx="5848200" cy="179748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3300"/>
                </a:solidFill>
                <a:latin typeface="굴림체"/>
                <a:ea typeface="굴림체"/>
              </a:rPr>
              <a:t>  </a:t>
            </a:r>
            <a:r>
              <a:rPr b="1" lang="ko-KR" sz="1400" spc="-1" strike="noStrike">
                <a:solidFill>
                  <a:srgbClr val="cc0000"/>
                </a:solidFill>
                <a:latin typeface="굴림체"/>
                <a:ea typeface="굴림체"/>
              </a:rPr>
              <a:t>ROWS  EXECUTION PL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------  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0  SELECT  STATEMENT          HINT  :  CHOO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9064    SORT (ORDER B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29728      TABLE  ACCESS  (BY  ROWID)  OF  GFBT300'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400" spc="-1" strike="noStrike">
                <a:solidFill>
                  <a:srgbClr val="ff3300"/>
                </a:solidFill>
                <a:latin typeface="굴림체"/>
                <a:ea typeface="굴림체"/>
              </a:rPr>
              <a:t>29729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    INDEX  (RANGE  SCAN)  OF  GFBT300_X1'   (UNIQU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314280" y="6041880"/>
            <a:ext cx="6094440" cy="508320"/>
          </a:xfrm>
          <a:prstGeom prst="roundRect">
            <a:avLst>
              <a:gd name="adj" fmla="val 1249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buClr>
                <a:srgbClr val="ff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해결 방안</a:t>
            </a:r>
            <a:r>
              <a:rPr b="1" lang="ko-KR" sz="1800" spc="-1" strike="noStrike">
                <a:solidFill>
                  <a:srgbClr val="ff3300"/>
                </a:solidFill>
                <a:latin typeface="Arial"/>
                <a:ea typeface="굴림체"/>
              </a:rPr>
              <a:t> </a:t>
            </a:r>
            <a:r>
              <a:rPr b="1" lang="ko-KR" sz="1800" spc="-1" strike="noStrike">
                <a:solidFill>
                  <a:srgbClr val="ff3300"/>
                </a:solidFill>
                <a:latin typeface="Arial"/>
                <a:ea typeface="굴림체"/>
              </a:rPr>
              <a:t>: TEAM_CODE  +  D_DAY  </a:t>
            </a:r>
            <a:r>
              <a:rPr b="1" lang="ko-KR" sz="1800" spc="-1" strike="noStrike">
                <a:solidFill>
                  <a:srgbClr val="000000"/>
                </a:solidFill>
                <a:latin typeface="Arial"/>
                <a:ea typeface="굴림체"/>
              </a:rPr>
              <a:t>INDEX </a:t>
            </a:r>
            <a:r>
              <a:rPr b="1" lang="ko-KR" sz="1800" spc="-1" strike="noStrike">
                <a:solidFill>
                  <a:srgbClr val="000000"/>
                </a:solidFill>
                <a:latin typeface="Arial"/>
                <a:ea typeface="굴림체"/>
              </a:rPr>
              <a:t>추가 생성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DB03C6-3588-4A91-BFF6-BA06086AA9F2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"/>
          <p:cNvSpPr/>
          <p:nvPr/>
        </p:nvSpPr>
        <p:spPr>
          <a:xfrm>
            <a:off x="-733320" y="2882880"/>
            <a:ext cx="11084040" cy="3691080"/>
          </a:xfrm>
          <a:prstGeom prst="roundRect">
            <a:avLst>
              <a:gd name="adj" fmla="val 544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0" bIns="0" anchor="t">
            <a:spAutoFit/>
          </a:bodyPr>
          <a:p>
            <a:pPr marL="343080" indent="-3430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DT.D_DAY, DT.YT_CODE, DT.SHOP_CODE, DT.SLIP_NO1, DT.SLIP_NO2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DT.TAX_GUBUN, SUM(DT.BP_AMOUNT1 + DT.HP_AOUNT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FROM  GFST300  DT,  GFST100  HD,  GFXC250  C,  GFXC310  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WHERE  </a:t>
            </a:r>
            <a:r>
              <a:rPr b="1" lang="ko-KR" sz="1600" spc="-1" strike="noStrike">
                <a:solidFill>
                  <a:srgbClr val="ff00cc"/>
                </a:solidFill>
                <a:latin typeface="굴림체"/>
                <a:ea typeface="굴림체"/>
              </a:rPr>
              <a:t>C.TEAM_CODE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=  :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AND  :B2  BETWEEN  C.NEW_FR_DATE  AND  C.NEW_TO_D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AND  D.SUSU_CHK  =  'Y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AND</a:t>
            </a: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  HD.D_DAY  =  :B3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800000"/>
                </a:solidFill>
                <a:latin typeface="굴림체"/>
                <a:ea typeface="굴림체"/>
              </a:rPr>
              <a:t>&lt;--- </a:t>
            </a:r>
            <a:r>
              <a:rPr b="1" lang="ko-KR" sz="1600" spc="-1" strike="noStrike">
                <a:solidFill>
                  <a:srgbClr val="800000"/>
                </a:solidFill>
                <a:latin typeface="굴림체"/>
                <a:ea typeface="굴림체"/>
              </a:rPr>
              <a:t>상수 값이므로 최초로 풀리는 부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AND  </a:t>
            </a: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HD.PART_CODE  BETWEEN  :B4  AND :B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AND</a:t>
            </a: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HD.YT_CODE</a:t>
            </a: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=</a:t>
            </a: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  </a:t>
            </a:r>
            <a:r>
              <a:rPr b="1" lang="ko-KR" sz="1600" spc="-1" strike="noStrike">
                <a:solidFill>
                  <a:srgbClr val="800000"/>
                </a:solidFill>
                <a:latin typeface="굴림체"/>
                <a:ea typeface="굴림체"/>
              </a:rPr>
              <a:t>DT.YT_CODE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AND  HD.YT_CODE   =  </a:t>
            </a:r>
            <a:r>
              <a:rPr b="1" lang="ko-KR" sz="1600" spc="-1" strike="noStrike">
                <a:solidFill>
                  <a:srgbClr val="ff00cc"/>
                </a:solidFill>
                <a:latin typeface="굴림체"/>
                <a:ea typeface="굴림체"/>
              </a:rPr>
              <a:t>C.YT_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800000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AND</a:t>
            </a: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HD.SHOP_CODE</a:t>
            </a: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=</a:t>
            </a: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  </a:t>
            </a:r>
            <a:r>
              <a:rPr b="1" lang="ko-KR" sz="1600" spc="-1" strike="noStrike">
                <a:solidFill>
                  <a:srgbClr val="800000"/>
                </a:solidFill>
                <a:latin typeface="굴림체"/>
                <a:ea typeface="굴림체"/>
              </a:rPr>
              <a:t>DT.SHOP_CODE</a:t>
            </a:r>
            <a:r>
              <a:rPr b="1" lang="ko-KR" sz="1600" spc="-1" strike="noStrike">
                <a:solidFill>
                  <a:srgbClr val="009900"/>
                </a:solidFill>
                <a:latin typeface="굴림체"/>
                <a:ea typeface="굴림체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AND  HD.SHOP_CODE =  </a:t>
            </a:r>
            <a:r>
              <a:rPr b="1" lang="ko-KR" sz="1600" spc="-1" strike="noStrike">
                <a:solidFill>
                  <a:srgbClr val="ff00cc"/>
                </a:solidFill>
                <a:latin typeface="굴림체"/>
                <a:ea typeface="굴림체"/>
              </a:rPr>
              <a:t>C.SHOP_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AND</a:t>
            </a: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HD.D_DAY     =</a:t>
            </a: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DT.D_DAY      AND  HD.YT_CODE   =  </a:t>
            </a:r>
            <a:r>
              <a:rPr b="1" lang="ko-KR" sz="1600" spc="-1" strike="noStrike">
                <a:solidFill>
                  <a:srgbClr val="009900"/>
                </a:solidFill>
                <a:latin typeface="굴림체"/>
                <a:ea typeface="굴림체"/>
              </a:rPr>
              <a:t>D.YT_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AND  HD.SLIP_NO1  =  DT.SLIP_NO1   AND  HD.SHOP_CODE =  </a:t>
            </a:r>
            <a:r>
              <a:rPr b="1" lang="ko-KR" sz="1600" spc="-1" strike="noStrike">
                <a:solidFill>
                  <a:srgbClr val="009900"/>
                </a:solidFill>
                <a:latin typeface="굴림체"/>
                <a:ea typeface="굴림체"/>
              </a:rPr>
              <a:t>D.SHOP_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AND  HD.SLIP_NO2  =  DT.SLIP_NO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GROUP BY</a:t>
            </a:r>
            <a:r>
              <a:rPr b="1" lang="ko-KR" sz="1500" spc="-1" strike="noStrike">
                <a:solidFill>
                  <a:srgbClr val="000000"/>
                </a:solidFill>
                <a:latin typeface="굴림체"/>
                <a:ea typeface="굴림체"/>
              </a:rPr>
              <a:t>   DT.D_DAY, DT.YT_CODE, DT.SHOP_CODE, DT.SLIP_NO1, DT.SLIP_NO2, DT.TAX_GUBUN 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2284560" y="243000"/>
            <a:ext cx="5743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15. 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결합 인덱스를 구성하는 컬럼의 선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266760" y="1028880"/>
            <a:ext cx="8231040" cy="188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인덱스정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5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GFST300  DT :  GFST300_X2 : </a:t>
            </a:r>
            <a:r>
              <a:rPr b="1" lang="ko-KR" sz="1400" spc="-1" strike="noStrike">
                <a:solidFill>
                  <a:srgbClr val="800000"/>
                </a:solidFill>
                <a:latin typeface="굴림체"/>
                <a:ea typeface="굴림체"/>
              </a:rPr>
              <a:t>YT_CODE + SHOP_CODE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+ SPUM_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1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GFST100  HD :  GFST100_X1 : </a:t>
            </a:r>
            <a:r>
              <a:rPr b="1" lang="ko-KR" sz="1400" spc="-1" strike="noStrike">
                <a:solidFill>
                  <a:srgbClr val="3333cc"/>
                </a:solidFill>
                <a:latin typeface="굴림체"/>
                <a:ea typeface="굴림체"/>
              </a:rPr>
              <a:t>D_DAY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+ YT_CODE + SHOP_CODE  ( UNIQUE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1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GFXC440  C  :  GFXC250_X3 : </a:t>
            </a:r>
            <a:r>
              <a:rPr b="1" lang="ko-KR" sz="1400" spc="-1" strike="noStrike">
                <a:solidFill>
                  <a:srgbClr val="ff00cc"/>
                </a:solidFill>
                <a:latin typeface="굴림체"/>
                <a:ea typeface="굴림체"/>
              </a:rPr>
              <a:t>YT_CODE + SHOP_CODE + TEAM_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1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GFXC310  D  :  GFXC310_X1 : </a:t>
            </a:r>
            <a:r>
              <a:rPr b="1" lang="ko-KR" sz="1400" spc="-1" strike="noStrike">
                <a:solidFill>
                  <a:srgbClr val="009900"/>
                </a:solidFill>
                <a:latin typeface="굴림체"/>
                <a:ea typeface="굴림체"/>
              </a:rPr>
              <a:t>YT_CODE + SHOP_CODE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( UNIQUE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6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7251840" y="3625920"/>
            <a:ext cx="2771280" cy="361800"/>
          </a:xfrm>
          <a:prstGeom prst="roundRect">
            <a:avLst>
              <a:gd name="adj" fmla="val 12495"/>
            </a:avLst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6600cc"/>
                </a:solidFill>
                <a:latin typeface="굴림체"/>
                <a:ea typeface="굴림체"/>
              </a:rPr>
              <a:t>HD --&gt; D --&gt; C --&gt; D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68EFF2-DB3E-453C-B1D0-6BAECABCBC4D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"/>
          <p:cNvSpPr/>
          <p:nvPr/>
        </p:nvSpPr>
        <p:spPr>
          <a:xfrm>
            <a:off x="2284560" y="243000"/>
            <a:ext cx="5743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15. 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결합 인덱스를 구성하는 컬럼의 선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5" name=""/>
          <p:cNvGrpSpPr/>
          <p:nvPr/>
        </p:nvGrpSpPr>
        <p:grpSpPr>
          <a:xfrm>
            <a:off x="606600" y="1312920"/>
            <a:ext cx="8220600" cy="6877800"/>
            <a:chOff x="606600" y="1312920"/>
            <a:chExt cx="8220600" cy="6877800"/>
          </a:xfrm>
        </p:grpSpPr>
        <p:sp>
          <p:nvSpPr>
            <p:cNvPr id="676" name=""/>
            <p:cNvSpPr/>
            <p:nvPr/>
          </p:nvSpPr>
          <p:spPr>
            <a:xfrm>
              <a:off x="606600" y="1312920"/>
              <a:ext cx="8216640" cy="6877800"/>
            </a:xfrm>
            <a:prstGeom prst="rect">
              <a:avLst/>
            </a:prstGeom>
            <a:solidFill>
              <a:srgbClr val="eaeae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just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CALL         COUNT     CPU      ELAPSED     DISK    QUERY    CURRENT     ROW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--------   ------- --------  ---------- -------- -------- ---------- -------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PARSE            1     0.06       0.06         0        0          0       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EXECUTE         14     0.04       0.04         0        0          0       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FETCH           61    10.60      11.35        38    58338          0       4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ff3300"/>
                  </a:solidFill>
                  <a:latin typeface="굴림체"/>
                  <a:ea typeface="굴림체"/>
                </a:rPr>
                <a:t>   </a:t>
              </a:r>
              <a:r>
                <a:rPr b="1" lang="ko-KR" sz="1600" spc="-1" strike="noStrike">
                  <a:solidFill>
                    <a:srgbClr val="cc0000"/>
                  </a:solidFill>
                  <a:latin typeface="굴림체"/>
                  <a:ea typeface="굴림체"/>
                </a:rPr>
                <a:t>ROWS   EXECUTION  PLA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-------   ------------------------------------------------------------------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   </a:t>
              </a:r>
              <a:r>
                <a:rPr b="1" lang="ko-KR" sz="16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0   SELECT   STATEM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 </a:t>
              </a:r>
              <a:r>
                <a:rPr b="1" lang="ko-KR" sz="16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138    SORT ( GROUP BY 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 </a:t>
              </a:r>
              <a:r>
                <a:rPr b="1" lang="ko-KR" sz="16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138     NESTED  LOOP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 </a:t>
              </a:r>
              <a:r>
                <a:rPr b="1" lang="ko-KR" sz="16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138       NESTED  LOOP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 </a:t>
              </a:r>
              <a:r>
                <a:rPr b="1" lang="ko-KR" sz="16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315         NESTED  LOOP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</a:t>
              </a:r>
              <a:r>
                <a:rPr b="1" lang="ko-KR" sz="16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20494           TABLE  ACCESS  ( BY  ROWID )  OF  'GFST100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</a:t>
              </a:r>
              <a:r>
                <a:rPr b="1" lang="ko-KR" sz="1600" spc="-1" strike="noStrike">
                  <a:solidFill>
                    <a:srgbClr val="ff0033"/>
                  </a:solidFill>
                  <a:latin typeface="굴림체"/>
                  <a:ea typeface="굴림체"/>
                </a:rPr>
                <a:t>20495</a:t>
              </a:r>
              <a:r>
                <a:rPr b="1" lang="ko-KR" sz="16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          INDEX  ( RANGE  SCAN )  OF  'GFST100_X1' ( UNIQUE 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 </a:t>
              </a:r>
              <a:r>
                <a:rPr b="1" lang="ko-KR" sz="16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627           TABLE  ACCESS  ( BY  ROWID )  OF  'GFXC310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 </a:t>
              </a:r>
              <a:r>
                <a:rPr b="1" lang="ko-KR" sz="16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627             INDEX  ( UNIQUE  SCAN )  OF  'GFXC310_X1' ( UNIQUE 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</a:t>
              </a:r>
              <a:r>
                <a:rPr b="1" lang="ko-KR" sz="16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1075         TABLE  ACCESS  ( BY  ROWID )  OF  'GFXC250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</a:t>
              </a:r>
              <a:r>
                <a:rPr b="1" lang="ko-KR" sz="16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1390           INDEX  ( RANGE  SCAN )  OF  'GFXC250_X3' ( NON-UNIQUE 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</a:t>
              </a:r>
              <a:r>
                <a:rPr b="1" lang="ko-KR" sz="16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407607       TABLE  ACCESS  ( BY  ROWID )  OF  'GFST300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</a:t>
              </a:r>
              <a:r>
                <a:rPr b="1" lang="ko-KR" sz="1600" spc="-1" strike="noStrike">
                  <a:solidFill>
                    <a:srgbClr val="ff0033"/>
                  </a:solidFill>
                  <a:latin typeface="굴림체"/>
                  <a:ea typeface="굴림체"/>
                </a:rPr>
                <a:t>407745</a:t>
              </a:r>
              <a:r>
                <a:rPr b="1" lang="ko-KR" sz="16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      INDEX  ( RANGE  SCAN )  OF  'GFST300_X2' ( NON-UNIQUE 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8022240" y="4202280"/>
              <a:ext cx="804960" cy="167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SzPct val="120000"/>
                <a:buFont typeface="Wingdings" charset="2"/>
                <a:buChar char="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7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 </a:t>
              </a:r>
              <a:r>
                <a:rPr b="1" lang="ko-KR" sz="17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HD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buClr>
                  <a:srgbClr val="000000"/>
                </a:buClr>
                <a:buSzPct val="120000"/>
                <a:buFont typeface="Wingdings" charset="2"/>
                <a:buChar char="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7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 </a:t>
              </a:r>
              <a:r>
                <a:rPr b="1" lang="ko-KR" sz="17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D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buClr>
                  <a:srgbClr val="000000"/>
                </a:buClr>
                <a:buSzPct val="120000"/>
                <a:buFont typeface="Wingdings" charset="2"/>
                <a:buChar char="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7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 </a:t>
              </a:r>
              <a:r>
                <a:rPr b="1" lang="ko-KR" sz="17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C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buClr>
                  <a:srgbClr val="000000"/>
                </a:buClr>
                <a:buSzPct val="120000"/>
                <a:buFont typeface="Wingdings" charset="2"/>
                <a:buChar char="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7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 </a:t>
              </a:r>
              <a:r>
                <a:rPr b="1" lang="ko-KR" sz="17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D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54D38E-2BAE-4775-B993-7B692261CBD8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"/>
          <p:cNvSpPr/>
          <p:nvPr/>
        </p:nvSpPr>
        <p:spPr>
          <a:xfrm>
            <a:off x="2348280" y="243000"/>
            <a:ext cx="5743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15. 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결합 인덱스를 구성하는 컬럼의 선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500040" y="1719360"/>
            <a:ext cx="406440" cy="3082680"/>
          </a:xfrm>
          <a:prstGeom prst="rect">
            <a:avLst/>
          </a:prstGeom>
          <a:gradFill rotWithShape="0">
            <a:gsLst>
              <a:gs pos="0">
                <a:srgbClr val="c5c5c5"/>
              </a:gs>
              <a:gs pos="50000">
                <a:srgbClr val="dddddd"/>
              </a:gs>
              <a:gs pos="100000">
                <a:srgbClr val="c5c5c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-160560" y="1200240"/>
            <a:ext cx="1823400" cy="3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GFST100_X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-225360" y="4873680"/>
            <a:ext cx="19303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D_D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+ YT_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+ SHOP_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514440" y="2276640"/>
            <a:ext cx="385560" cy="216360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259920" y="2332080"/>
            <a:ext cx="397440" cy="2173320"/>
            <a:chOff x="259920" y="2332080"/>
            <a:chExt cx="397440" cy="2173320"/>
          </a:xfrm>
        </p:grpSpPr>
        <p:sp>
          <p:nvSpPr>
            <p:cNvPr id="684" name=""/>
            <p:cNvSpPr/>
            <p:nvPr/>
          </p:nvSpPr>
          <p:spPr>
            <a:xfrm>
              <a:off x="325440" y="2332080"/>
              <a:ext cx="317520" cy="0"/>
            </a:xfrm>
            <a:prstGeom prst="line">
              <a:avLst/>
            </a:prstGeom>
            <a:ln w="25560">
              <a:solidFill>
                <a:srgbClr val="99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57360" y="2332080"/>
              <a:ext cx="0" cy="2173320"/>
            </a:xfrm>
            <a:prstGeom prst="line">
              <a:avLst/>
            </a:prstGeom>
            <a:ln w="25560">
              <a:solidFill>
                <a:srgbClr val="99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 flipH="1">
              <a:off x="259920" y="4505400"/>
              <a:ext cx="382680" cy="0"/>
            </a:xfrm>
            <a:prstGeom prst="line">
              <a:avLst/>
            </a:prstGeom>
            <a:ln w="25560">
              <a:solidFill>
                <a:srgbClr val="990066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7" name=""/>
          <p:cNvSpPr/>
          <p:nvPr/>
        </p:nvSpPr>
        <p:spPr>
          <a:xfrm rot="16200000">
            <a:off x="32040" y="1788480"/>
            <a:ext cx="132048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cc0000"/>
                </a:solidFill>
                <a:latin typeface="Arial"/>
                <a:ea typeface="돋움"/>
              </a:rPr>
              <a:t>204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1398600" y="1730520"/>
            <a:ext cx="843120" cy="3076560"/>
          </a:xfrm>
          <a:prstGeom prst="rect">
            <a:avLst/>
          </a:prstGeom>
          <a:gradFill rotWithShape="0">
            <a:gsLst>
              <a:gs pos="0">
                <a:srgbClr val="92cbc6"/>
              </a:gs>
              <a:gs pos="50000">
                <a:srgbClr val="b8fff9"/>
              </a:gs>
              <a:gs pos="100000">
                <a:srgbClr val="92cbc6"/>
              </a:gs>
            </a:gsLst>
            <a:lin ang="108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1029960" y="1185840"/>
            <a:ext cx="1634400" cy="5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GFXT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ctr">
              <a:lnSpc>
                <a:spcPct val="95000"/>
              </a:lnSpc>
              <a:buClr>
                <a:srgbClr val="000000"/>
              </a:buClr>
              <a:buSzPct val="120000"/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33cc"/>
                </a:solidFill>
                <a:latin typeface="Arial"/>
                <a:ea typeface="굴림체"/>
              </a:rPr>
              <a:t>H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3011400" y="1719360"/>
            <a:ext cx="398520" cy="3100320"/>
          </a:xfrm>
          <a:prstGeom prst="rect">
            <a:avLst/>
          </a:prstGeom>
          <a:gradFill rotWithShape="0">
            <a:gsLst>
              <a:gs pos="0">
                <a:srgbClr val="c5c5c5"/>
              </a:gs>
              <a:gs pos="50000">
                <a:srgbClr val="dddddd"/>
              </a:gs>
              <a:gs pos="100000">
                <a:srgbClr val="c5c5c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2260440" y="1200240"/>
            <a:ext cx="1823400" cy="3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GFXC310_X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3867120" y="1730520"/>
            <a:ext cx="841320" cy="3117600"/>
          </a:xfrm>
          <a:prstGeom prst="rect">
            <a:avLst/>
          </a:prstGeom>
          <a:gradFill rotWithShape="0">
            <a:gsLst>
              <a:gs pos="0">
                <a:srgbClr val="92cbc6"/>
              </a:gs>
              <a:gs pos="50000">
                <a:srgbClr val="b8fff9"/>
              </a:gs>
              <a:gs pos="100000">
                <a:srgbClr val="92cbc6"/>
              </a:gs>
            </a:gsLst>
            <a:lin ang="108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3496680" y="1185840"/>
            <a:ext cx="1657440" cy="5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GFXC3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ctr">
              <a:lnSpc>
                <a:spcPct val="95000"/>
              </a:lnSpc>
              <a:buClr>
                <a:srgbClr val="000000"/>
              </a:buClr>
              <a:buSzPct val="120000"/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33cc"/>
                </a:solidFill>
                <a:latin typeface="Arial"/>
                <a:ea typeface="굴림체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7807320" y="1719360"/>
            <a:ext cx="411120" cy="3100320"/>
          </a:xfrm>
          <a:prstGeom prst="rect">
            <a:avLst/>
          </a:prstGeom>
          <a:gradFill rotWithShape="0">
            <a:gsLst>
              <a:gs pos="0">
                <a:srgbClr val="c5c5c5"/>
              </a:gs>
              <a:gs pos="50000">
                <a:srgbClr val="dddddd"/>
              </a:gs>
              <a:gs pos="100000">
                <a:srgbClr val="c5c5c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8696160" y="1730520"/>
            <a:ext cx="770040" cy="3076560"/>
          </a:xfrm>
          <a:prstGeom prst="rect">
            <a:avLst/>
          </a:prstGeom>
          <a:gradFill rotWithShape="0">
            <a:gsLst>
              <a:gs pos="0">
                <a:srgbClr val="92cbc6"/>
              </a:gs>
              <a:gs pos="50000">
                <a:srgbClr val="b8fff9"/>
              </a:gs>
              <a:gs pos="100000">
                <a:srgbClr val="92cbc6"/>
              </a:gs>
            </a:gsLst>
            <a:lin ang="108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8248320" y="1185840"/>
            <a:ext cx="1634400" cy="5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GFST3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ctr">
              <a:lnSpc>
                <a:spcPct val="95000"/>
              </a:lnSpc>
              <a:buClr>
                <a:srgbClr val="000000"/>
              </a:buClr>
              <a:buSzPct val="120000"/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33cc"/>
                </a:solidFill>
                <a:latin typeface="Arial"/>
                <a:ea typeface="굴림체"/>
              </a:rPr>
              <a:t>D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3111840" y="1836720"/>
            <a:ext cx="109512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cc0000"/>
                </a:solidFill>
                <a:latin typeface="Arial"/>
                <a:ea typeface="돋움"/>
              </a:rPr>
              <a:t>62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7061040" y="1200240"/>
            <a:ext cx="1823400" cy="3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GFST300_X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 rot="16200000">
            <a:off x="7762320" y="1877040"/>
            <a:ext cx="143352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cc0000"/>
                </a:solidFill>
                <a:latin typeface="Arial"/>
                <a:ea typeface="돋움"/>
              </a:rPr>
              <a:t>40760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 rot="16200000">
            <a:off x="508320" y="1842480"/>
            <a:ext cx="132048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cc0000"/>
                </a:solidFill>
                <a:latin typeface="Arial"/>
                <a:ea typeface="돋움"/>
              </a:rPr>
              <a:t>204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5400720" y="1719360"/>
            <a:ext cx="411120" cy="3100320"/>
          </a:xfrm>
          <a:prstGeom prst="rect">
            <a:avLst/>
          </a:prstGeom>
          <a:gradFill rotWithShape="0">
            <a:gsLst>
              <a:gs pos="0">
                <a:srgbClr val="c5c5c5"/>
              </a:gs>
              <a:gs pos="50000">
                <a:srgbClr val="dddddd"/>
              </a:gs>
              <a:gs pos="100000">
                <a:srgbClr val="c5c5c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4620960" y="1200240"/>
            <a:ext cx="1823400" cy="3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GFXC250_X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6319800" y="1730520"/>
            <a:ext cx="843120" cy="3076560"/>
          </a:xfrm>
          <a:prstGeom prst="rect">
            <a:avLst/>
          </a:prstGeom>
          <a:gradFill rotWithShape="0">
            <a:gsLst>
              <a:gs pos="0">
                <a:srgbClr val="92cbc6"/>
              </a:gs>
              <a:gs pos="50000">
                <a:srgbClr val="b8fff9"/>
              </a:gs>
              <a:gs pos="100000">
                <a:srgbClr val="92cbc6"/>
              </a:gs>
            </a:gsLst>
            <a:lin ang="108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5804640" y="1185840"/>
            <a:ext cx="1657440" cy="5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GFXC25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ctr">
              <a:lnSpc>
                <a:spcPct val="95000"/>
              </a:lnSpc>
              <a:buClr>
                <a:srgbClr val="000000"/>
              </a:buClr>
              <a:buSzPct val="120000"/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33cc"/>
                </a:solidFill>
                <a:latin typeface="Arial"/>
                <a:ea typeface="굴림체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5457960" y="1893960"/>
            <a:ext cx="120780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cc0000"/>
                </a:solidFill>
                <a:latin typeface="Arial"/>
                <a:ea typeface="돋움"/>
              </a:rPr>
              <a:t>107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4489560" y="1836720"/>
            <a:ext cx="109512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cc0000"/>
                </a:solidFill>
                <a:latin typeface="Arial"/>
                <a:ea typeface="돋움"/>
              </a:rPr>
              <a:t>3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 flipV="1">
            <a:off x="9290160" y="2863800"/>
            <a:ext cx="627120" cy="6480"/>
          </a:xfrm>
          <a:prstGeom prst="line">
            <a:avLst/>
          </a:prstGeom>
          <a:ln w="25560">
            <a:solidFill>
              <a:srgbClr val="cc00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 flipV="1">
            <a:off x="9290160" y="2980800"/>
            <a:ext cx="620640" cy="72252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9172800" y="1836720"/>
            <a:ext cx="109512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cc0000"/>
                </a:solidFill>
                <a:latin typeface="Arial"/>
                <a:ea typeface="돋움"/>
              </a:rPr>
              <a:t>13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1314720" y="5922720"/>
            <a:ext cx="8591040" cy="679680"/>
          </a:xfrm>
          <a:prstGeom prst="roundRect">
            <a:avLst>
              <a:gd name="adj" fmla="val 12495"/>
            </a:avLst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GFST100 HD : GFST100_X1 : </a:t>
            </a:r>
            <a:r>
              <a:rPr b="1" lang="ko-KR" sz="1600" spc="-1" strike="noStrike">
                <a:solidFill>
                  <a:srgbClr val="330099"/>
                </a:solidFill>
                <a:latin typeface="Arial"/>
                <a:ea typeface="굴림체"/>
              </a:rPr>
              <a:t>D_DAY + </a:t>
            </a:r>
            <a:r>
              <a:rPr b="1" lang="ko-KR" sz="1600" spc="-1" strike="noStrike">
                <a:solidFill>
                  <a:srgbClr val="ff0033"/>
                </a:solidFill>
                <a:latin typeface="Arial"/>
                <a:ea typeface="굴림체"/>
              </a:rPr>
              <a:t>PART_CODE</a:t>
            </a:r>
            <a:r>
              <a:rPr b="1" lang="ko-KR" sz="1600" spc="-1" strike="noStrike">
                <a:solidFill>
                  <a:srgbClr val="330099"/>
                </a:solidFill>
                <a:latin typeface="Arial"/>
                <a:ea typeface="굴림체"/>
              </a:rPr>
              <a:t> + YT_CODE + SHOP_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GFST300 DT : GFST300_X2 : </a:t>
            </a:r>
            <a:r>
              <a:rPr b="1" lang="ko-KR" sz="1600" spc="-1" strike="noStrike">
                <a:solidFill>
                  <a:srgbClr val="330099"/>
                </a:solidFill>
                <a:latin typeface="Arial"/>
                <a:ea typeface="굴림체"/>
              </a:rPr>
              <a:t>YT_CODE + SHOP_CODE + </a:t>
            </a:r>
            <a:r>
              <a:rPr b="1" lang="ko-KR" sz="1600" spc="-1" strike="noStrike">
                <a:solidFill>
                  <a:srgbClr val="ff0033"/>
                </a:solidFill>
                <a:latin typeface="Arial"/>
                <a:ea typeface="굴림체"/>
              </a:rPr>
              <a:t>D_DAY</a:t>
            </a:r>
            <a:r>
              <a:rPr b="1" lang="ko-KR" sz="1600" spc="-1" strike="noStrike">
                <a:solidFill>
                  <a:srgbClr val="330099"/>
                </a:solidFill>
                <a:latin typeface="Arial"/>
                <a:ea typeface="굴림체"/>
              </a:rPr>
              <a:t> + SPUM_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"/>
          <p:cNvGrpSpPr/>
          <p:nvPr/>
        </p:nvGrpSpPr>
        <p:grpSpPr>
          <a:xfrm>
            <a:off x="6924600" y="2722680"/>
            <a:ext cx="749520" cy="1355760"/>
            <a:chOff x="6924600" y="2722680"/>
            <a:chExt cx="749520" cy="1355760"/>
          </a:xfrm>
        </p:grpSpPr>
        <p:sp>
          <p:nvSpPr>
            <p:cNvPr id="712" name=""/>
            <p:cNvSpPr/>
            <p:nvPr/>
          </p:nvSpPr>
          <p:spPr>
            <a:xfrm>
              <a:off x="6924600" y="3168720"/>
              <a:ext cx="749520" cy="909720"/>
            </a:xfrm>
            <a:prstGeom prst="line">
              <a:avLst/>
            </a:prstGeom>
            <a:ln w="12600">
              <a:solidFill>
                <a:srgbClr val="cc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 flipV="1">
              <a:off x="6924600" y="2722680"/>
              <a:ext cx="736560" cy="1009440"/>
            </a:xfrm>
            <a:prstGeom prst="line">
              <a:avLst/>
            </a:prstGeom>
            <a:ln w="25560">
              <a:solidFill>
                <a:srgbClr val="cc0099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4" name=""/>
          <p:cNvSpPr/>
          <p:nvPr/>
        </p:nvSpPr>
        <p:spPr>
          <a:xfrm>
            <a:off x="8234280" y="2844720"/>
            <a:ext cx="779400" cy="6480"/>
          </a:xfrm>
          <a:prstGeom prst="line">
            <a:avLst/>
          </a:prstGeom>
          <a:ln w="25560">
            <a:solidFill>
              <a:srgbClr val="cc00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8237520" y="3298680"/>
            <a:ext cx="747720" cy="40320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 flipV="1">
            <a:off x="8234280" y="3227400"/>
            <a:ext cx="739800" cy="86688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 flipV="1">
            <a:off x="8234280" y="2533680"/>
            <a:ext cx="720720" cy="20304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8234280" y="4419720"/>
            <a:ext cx="749520" cy="468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7027920" y="4933800"/>
            <a:ext cx="19303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YT_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+ SHOP_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+ SPUM_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4572000" y="4964040"/>
            <a:ext cx="19303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YT_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+ SHOP_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+ TEAM_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237040" y="4979880"/>
            <a:ext cx="193032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SHOP_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+ YT_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97000" y="5894280"/>
            <a:ext cx="186372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해결 방안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6859800" y="1836720"/>
            <a:ext cx="109512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cc0000"/>
                </a:solidFill>
                <a:latin typeface="Arial"/>
                <a:ea typeface="돋움"/>
              </a:rPr>
              <a:t>13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1773000" y="2400480"/>
            <a:ext cx="119520" cy="1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0033"/>
                </a:solidFill>
                <a:latin typeface="Arial"/>
                <a:ea typeface="굴림체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1773000" y="2989440"/>
            <a:ext cx="119520" cy="1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0033"/>
                </a:solidFill>
                <a:latin typeface="Arial"/>
                <a:ea typeface="굴림체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1773000" y="3778200"/>
            <a:ext cx="119520" cy="1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0033"/>
                </a:solidFill>
                <a:latin typeface="Arial"/>
                <a:ea typeface="굴림체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4225680" y="2801880"/>
            <a:ext cx="119520" cy="1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0033"/>
                </a:solidFill>
                <a:latin typeface="Arial"/>
                <a:ea typeface="굴림체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2073600" y="1836720"/>
            <a:ext cx="109512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cc0000"/>
                </a:solidFill>
                <a:latin typeface="Arial"/>
                <a:ea typeface="돋움"/>
              </a:rPr>
              <a:t>62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 flipV="1">
            <a:off x="2017800" y="2566800"/>
            <a:ext cx="1023840" cy="28404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 flipV="1">
            <a:off x="2017800" y="3458880"/>
            <a:ext cx="1001520" cy="5724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1946160" y="2649600"/>
            <a:ext cx="1052640" cy="317520"/>
          </a:xfrm>
          <a:prstGeom prst="line">
            <a:avLst/>
          </a:prstGeom>
          <a:ln w="25560">
            <a:solidFill>
              <a:srgbClr val="cc00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3417840" y="2592360"/>
            <a:ext cx="750960" cy="27612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3417840" y="3471840"/>
            <a:ext cx="708120" cy="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3417840" y="2938320"/>
            <a:ext cx="719280" cy="338400"/>
          </a:xfrm>
          <a:prstGeom prst="line">
            <a:avLst/>
          </a:prstGeom>
          <a:ln w="25560">
            <a:solidFill>
              <a:srgbClr val="cc00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 flipV="1">
            <a:off x="4500720" y="2895120"/>
            <a:ext cx="777600" cy="59076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4500720" y="3313080"/>
            <a:ext cx="793440" cy="433440"/>
          </a:xfrm>
          <a:prstGeom prst="line">
            <a:avLst/>
          </a:prstGeom>
          <a:ln w="25560">
            <a:solidFill>
              <a:srgbClr val="cc00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5403960" y="2890800"/>
            <a:ext cx="399960" cy="20952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5403960" y="3728880"/>
            <a:ext cx="399960" cy="35892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6697440" y="2771640"/>
            <a:ext cx="119520" cy="1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0033"/>
                </a:solidFill>
                <a:latin typeface="Arial"/>
                <a:ea typeface="굴림체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6697440" y="3913200"/>
            <a:ext cx="119520" cy="1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0033"/>
                </a:solidFill>
                <a:latin typeface="Arial"/>
                <a:ea typeface="굴림체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7818480" y="2692440"/>
            <a:ext cx="395280" cy="66204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7819920" y="4060800"/>
            <a:ext cx="390600" cy="42084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3" name=""/>
          <p:cNvGrpSpPr/>
          <p:nvPr/>
        </p:nvGrpSpPr>
        <p:grpSpPr>
          <a:xfrm>
            <a:off x="7671960" y="2757600"/>
            <a:ext cx="271800" cy="685800"/>
            <a:chOff x="7671960" y="2757600"/>
            <a:chExt cx="271800" cy="685800"/>
          </a:xfrm>
        </p:grpSpPr>
        <p:sp>
          <p:nvSpPr>
            <p:cNvPr id="744" name=""/>
            <p:cNvSpPr/>
            <p:nvPr/>
          </p:nvSpPr>
          <p:spPr>
            <a:xfrm>
              <a:off x="7715160" y="2757600"/>
              <a:ext cx="214560" cy="0"/>
            </a:xfrm>
            <a:prstGeom prst="line">
              <a:avLst/>
            </a:prstGeom>
            <a:ln w="25560">
              <a:solidFill>
                <a:srgbClr val="99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7943760" y="2757600"/>
              <a:ext cx="0" cy="685800"/>
            </a:xfrm>
            <a:prstGeom prst="line">
              <a:avLst/>
            </a:prstGeom>
            <a:ln w="25560">
              <a:solidFill>
                <a:srgbClr val="99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 flipH="1">
              <a:off x="7671960" y="3443400"/>
              <a:ext cx="257400" cy="0"/>
            </a:xfrm>
            <a:prstGeom prst="line">
              <a:avLst/>
            </a:prstGeom>
            <a:ln w="25560">
              <a:solidFill>
                <a:srgbClr val="990066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7" name=""/>
          <p:cNvGrpSpPr/>
          <p:nvPr/>
        </p:nvGrpSpPr>
        <p:grpSpPr>
          <a:xfrm>
            <a:off x="7674120" y="4110120"/>
            <a:ext cx="269640" cy="452520"/>
            <a:chOff x="7674120" y="4110120"/>
            <a:chExt cx="269640" cy="452520"/>
          </a:xfrm>
        </p:grpSpPr>
        <p:sp>
          <p:nvSpPr>
            <p:cNvPr id="748" name=""/>
            <p:cNvSpPr/>
            <p:nvPr/>
          </p:nvSpPr>
          <p:spPr>
            <a:xfrm>
              <a:off x="7716960" y="4110120"/>
              <a:ext cx="212760" cy="0"/>
            </a:xfrm>
            <a:prstGeom prst="line">
              <a:avLst/>
            </a:prstGeom>
            <a:ln w="25560">
              <a:solidFill>
                <a:srgbClr val="99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7943760" y="4110120"/>
              <a:ext cx="0" cy="452520"/>
            </a:xfrm>
            <a:prstGeom prst="line">
              <a:avLst/>
            </a:prstGeom>
            <a:ln w="25560">
              <a:solidFill>
                <a:srgbClr val="99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 flipH="1">
              <a:off x="7674120" y="4562640"/>
              <a:ext cx="255600" cy="0"/>
            </a:xfrm>
            <a:prstGeom prst="line">
              <a:avLst/>
            </a:prstGeom>
            <a:ln w="25560">
              <a:solidFill>
                <a:srgbClr val="990066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1" name=""/>
          <p:cNvGrpSpPr/>
          <p:nvPr/>
        </p:nvGrpSpPr>
        <p:grpSpPr>
          <a:xfrm>
            <a:off x="5266800" y="2938320"/>
            <a:ext cx="255960" cy="258840"/>
            <a:chOff x="5266800" y="2938320"/>
            <a:chExt cx="255960" cy="258840"/>
          </a:xfrm>
        </p:grpSpPr>
        <p:sp>
          <p:nvSpPr>
            <p:cNvPr id="752" name=""/>
            <p:cNvSpPr/>
            <p:nvPr/>
          </p:nvSpPr>
          <p:spPr>
            <a:xfrm>
              <a:off x="5308560" y="2938320"/>
              <a:ext cx="200160" cy="0"/>
            </a:xfrm>
            <a:prstGeom prst="line">
              <a:avLst/>
            </a:prstGeom>
            <a:ln w="25560">
              <a:solidFill>
                <a:srgbClr val="99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5522760" y="2938320"/>
              <a:ext cx="0" cy="258840"/>
            </a:xfrm>
            <a:prstGeom prst="line">
              <a:avLst/>
            </a:prstGeom>
            <a:ln w="25560">
              <a:solidFill>
                <a:srgbClr val="99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 flipH="1">
              <a:off x="5266800" y="3197160"/>
              <a:ext cx="241560" cy="0"/>
            </a:xfrm>
            <a:prstGeom prst="line">
              <a:avLst/>
            </a:prstGeom>
            <a:ln w="25560">
              <a:solidFill>
                <a:srgbClr val="990066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"/>
          <p:cNvGrpSpPr/>
          <p:nvPr/>
        </p:nvGrpSpPr>
        <p:grpSpPr>
          <a:xfrm>
            <a:off x="5253120" y="3776760"/>
            <a:ext cx="269640" cy="407880"/>
            <a:chOff x="5253120" y="3776760"/>
            <a:chExt cx="269640" cy="407880"/>
          </a:xfrm>
        </p:grpSpPr>
        <p:sp>
          <p:nvSpPr>
            <p:cNvPr id="756" name=""/>
            <p:cNvSpPr/>
            <p:nvPr/>
          </p:nvSpPr>
          <p:spPr>
            <a:xfrm>
              <a:off x="5297400" y="3776760"/>
              <a:ext cx="211320" cy="0"/>
            </a:xfrm>
            <a:prstGeom prst="line">
              <a:avLst/>
            </a:prstGeom>
            <a:ln w="25560">
              <a:solidFill>
                <a:srgbClr val="99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5522760" y="3776760"/>
              <a:ext cx="0" cy="407880"/>
            </a:xfrm>
            <a:prstGeom prst="line">
              <a:avLst/>
            </a:prstGeom>
            <a:ln w="25560">
              <a:solidFill>
                <a:srgbClr val="99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 flipH="1">
              <a:off x="5253120" y="4184640"/>
              <a:ext cx="255600" cy="0"/>
            </a:xfrm>
            <a:prstGeom prst="line">
              <a:avLst/>
            </a:prstGeom>
            <a:ln w="25560">
              <a:solidFill>
                <a:srgbClr val="990066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9" name=""/>
          <p:cNvSpPr/>
          <p:nvPr/>
        </p:nvSpPr>
        <p:spPr>
          <a:xfrm>
            <a:off x="9037440" y="2462040"/>
            <a:ext cx="119520" cy="1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0033"/>
                </a:solidFill>
                <a:latin typeface="Arial"/>
                <a:ea typeface="굴림체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9037440" y="3168720"/>
            <a:ext cx="119520" cy="1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0033"/>
                </a:solidFill>
                <a:latin typeface="Arial"/>
                <a:ea typeface="굴림체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9037440" y="4367160"/>
            <a:ext cx="119520" cy="1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0033"/>
                </a:solidFill>
                <a:latin typeface="Arial"/>
                <a:ea typeface="굴림체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1772640" y="2556000"/>
            <a:ext cx="139320" cy="1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6600"/>
                </a:solidFill>
                <a:latin typeface="Arial"/>
                <a:ea typeface="굴림체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1772640" y="2813040"/>
            <a:ext cx="139320" cy="1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6600"/>
                </a:solidFill>
                <a:latin typeface="Arial"/>
                <a:ea typeface="굴림체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1772640" y="3478320"/>
            <a:ext cx="139320" cy="1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6600"/>
                </a:solidFill>
                <a:latin typeface="Arial"/>
                <a:ea typeface="굴림체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4225320" y="3247920"/>
            <a:ext cx="139320" cy="1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6600"/>
                </a:solidFill>
                <a:latin typeface="Arial"/>
                <a:ea typeface="굴림체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4225320" y="3448080"/>
            <a:ext cx="139320" cy="1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6600"/>
                </a:solidFill>
                <a:latin typeface="Arial"/>
                <a:ea typeface="굴림체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6697080" y="3691080"/>
            <a:ext cx="139320" cy="1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6600"/>
                </a:solidFill>
                <a:latin typeface="Arial"/>
                <a:ea typeface="굴림체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6697080" y="3081240"/>
            <a:ext cx="139320" cy="1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6600"/>
                </a:solidFill>
                <a:latin typeface="Arial"/>
                <a:ea typeface="굴림체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9037080" y="2803680"/>
            <a:ext cx="139320" cy="1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6600"/>
                </a:solidFill>
                <a:latin typeface="Arial"/>
                <a:ea typeface="굴림체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9037080" y="3662280"/>
            <a:ext cx="139320" cy="1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6600"/>
                </a:solidFill>
                <a:latin typeface="Arial"/>
                <a:ea typeface="굴림체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8059680" y="2855880"/>
            <a:ext cx="81000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2" name=""/>
          <p:cNvGrpSpPr/>
          <p:nvPr/>
        </p:nvGrpSpPr>
        <p:grpSpPr>
          <a:xfrm>
            <a:off x="5827680" y="2804760"/>
            <a:ext cx="793800" cy="1440360"/>
            <a:chOff x="5827680" y="2804760"/>
            <a:chExt cx="793800" cy="1440360"/>
          </a:xfrm>
        </p:grpSpPr>
        <p:sp>
          <p:nvSpPr>
            <p:cNvPr id="773" name=""/>
            <p:cNvSpPr/>
            <p:nvPr/>
          </p:nvSpPr>
          <p:spPr>
            <a:xfrm flipV="1">
              <a:off x="5827680" y="2804760"/>
              <a:ext cx="719280" cy="104760"/>
            </a:xfrm>
            <a:prstGeom prst="line">
              <a:avLst/>
            </a:prstGeom>
            <a:ln w="12600">
              <a:solidFill>
                <a:srgbClr val="cc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5827680" y="3897360"/>
              <a:ext cx="782640" cy="79200"/>
            </a:xfrm>
            <a:prstGeom prst="line">
              <a:avLst/>
            </a:prstGeom>
            <a:ln w="12600">
              <a:solidFill>
                <a:srgbClr val="cc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5827680" y="3068640"/>
              <a:ext cx="719280" cy="38160"/>
            </a:xfrm>
            <a:prstGeom prst="line">
              <a:avLst/>
            </a:prstGeom>
            <a:ln w="12600">
              <a:solidFill>
                <a:srgbClr val="cc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5827680" y="3745080"/>
              <a:ext cx="793800" cy="1440"/>
            </a:xfrm>
            <a:prstGeom prst="line">
              <a:avLst/>
            </a:prstGeom>
            <a:ln w="25560">
              <a:solidFill>
                <a:srgbClr val="cc0099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5827680" y="4064040"/>
              <a:ext cx="773280" cy="181080"/>
            </a:xfrm>
            <a:prstGeom prst="line">
              <a:avLst/>
            </a:prstGeom>
            <a:ln w="12600">
              <a:solidFill>
                <a:srgbClr val="cc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8" name=""/>
          <p:cNvSpPr/>
          <p:nvPr/>
        </p:nvSpPr>
        <p:spPr>
          <a:xfrm>
            <a:off x="6692760" y="4165560"/>
            <a:ext cx="119520" cy="1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0033"/>
                </a:solidFill>
                <a:latin typeface="Arial"/>
                <a:ea typeface="굴림체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1766880" y="4452840"/>
            <a:ext cx="119520" cy="1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0033"/>
                </a:solidFill>
                <a:latin typeface="Arial"/>
                <a:ea typeface="굴림체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743760" y="3075120"/>
            <a:ext cx="817560" cy="52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 flipV="1">
            <a:off x="920880" y="2446200"/>
            <a:ext cx="819000" cy="648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 flipV="1">
            <a:off x="920880" y="3816360"/>
            <a:ext cx="807840" cy="56664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 flipV="1">
            <a:off x="920880" y="3543480"/>
            <a:ext cx="807840" cy="67752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920880" y="2297160"/>
            <a:ext cx="777600" cy="53820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920880" y="2608200"/>
            <a:ext cx="779400" cy="41436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 flipV="1">
            <a:off x="920880" y="2606760"/>
            <a:ext cx="765000" cy="217440"/>
          </a:xfrm>
          <a:prstGeom prst="line">
            <a:avLst/>
          </a:prstGeom>
          <a:ln w="25560">
            <a:solidFill>
              <a:srgbClr val="cc00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914400" y="4062240"/>
            <a:ext cx="814320" cy="44784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3021120" y="2552760"/>
            <a:ext cx="382320" cy="6516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3021120" y="2919240"/>
            <a:ext cx="382320" cy="6516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3021120" y="3433680"/>
            <a:ext cx="382320" cy="6516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 rot="16200000">
            <a:off x="7306560" y="1905120"/>
            <a:ext cx="143352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ff3300"/>
                </a:solidFill>
                <a:latin typeface="Arial"/>
                <a:ea typeface="돋움"/>
              </a:rPr>
              <a:t>40774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5005800" y="1736640"/>
            <a:ext cx="120780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ff3300"/>
                </a:solidFill>
                <a:latin typeface="Arial"/>
                <a:ea typeface="돋움"/>
              </a:rPr>
              <a:t>13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8067600" y="3946680"/>
            <a:ext cx="81000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490393-988A-4A56-A6D4-45747835A900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"/>
          <p:cNvSpPr/>
          <p:nvPr/>
        </p:nvSpPr>
        <p:spPr>
          <a:xfrm>
            <a:off x="1900080" y="243000"/>
            <a:ext cx="5162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16.  OUTER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조인의 정확한 이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1187280" y="1454040"/>
            <a:ext cx="1352880" cy="2241720"/>
          </a:xfrm>
          <a:prstGeom prst="rect">
            <a:avLst/>
          </a:prstGeom>
          <a:gradFill rotWithShape="0">
            <a:gsLst>
              <a:gs pos="0">
                <a:srgbClr val="7fb1ad"/>
              </a:gs>
              <a:gs pos="50000">
                <a:srgbClr val="b8fff9"/>
              </a:gs>
              <a:gs pos="100000">
                <a:srgbClr val="7fb1ad"/>
              </a:gs>
            </a:gsLst>
            <a:lin ang="108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3692520" y="1454040"/>
            <a:ext cx="1305000" cy="2241720"/>
          </a:xfrm>
          <a:prstGeom prst="rect">
            <a:avLst/>
          </a:prstGeom>
          <a:gradFill rotWithShape="0">
            <a:gsLst>
              <a:gs pos="0">
                <a:srgbClr val="7fb1ad"/>
              </a:gs>
              <a:gs pos="50000">
                <a:srgbClr val="b8fff9"/>
              </a:gs>
              <a:gs pos="100000">
                <a:srgbClr val="7fb1ad"/>
              </a:gs>
            </a:gsLst>
            <a:lin ang="108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839880" y="1904760"/>
            <a:ext cx="2036880" cy="25596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ctr">
            <a:spAutoFit/>
          </a:bodyPr>
          <a:p>
            <a:pPr marL="285840" indent="-285840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A  AAB  1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839880" y="2199960"/>
            <a:ext cx="2036880" cy="25596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ctr">
            <a:spAutoFit/>
          </a:bodyPr>
          <a:p>
            <a:pPr marL="285840" indent="-285840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B  AAC  12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839880" y="2495160"/>
            <a:ext cx="2036880" cy="25596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ctr">
            <a:spAutoFit/>
          </a:bodyPr>
          <a:p>
            <a:pPr marL="285840" indent="-285840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C  ABA  22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839880" y="2787480"/>
            <a:ext cx="2036880" cy="25596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ctr">
            <a:spAutoFit/>
          </a:bodyPr>
          <a:p>
            <a:pPr marL="285840" indent="-285840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D  ABB  23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839880" y="3082680"/>
            <a:ext cx="2036880" cy="25596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ctr">
            <a:spAutoFit/>
          </a:bodyPr>
          <a:p>
            <a:pPr marL="285840" indent="-285840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E  ABC  14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3356280" y="1904760"/>
            <a:ext cx="1974600" cy="25596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4480" rIns="114480" tIns="0" bIns="0" anchor="ctr">
            <a:spAutoFit/>
          </a:bodyPr>
          <a:p>
            <a:pPr marL="285840" indent="-285840" algn="ct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A  10   A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3356280" y="2199960"/>
            <a:ext cx="1974600" cy="25596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4480" rIns="114480" tIns="0" bIns="0" anchor="ctr">
            <a:spAutoFit/>
          </a:bodyPr>
          <a:p>
            <a:pPr marL="285840" indent="-285840" algn="ct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B  10   A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3356280" y="2495160"/>
            <a:ext cx="1974600" cy="25596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4480" rIns="114480" tIns="0" bIns="0" anchor="ctr">
            <a:spAutoFit/>
          </a:bodyPr>
          <a:p>
            <a:pPr marL="285840" indent="-285840" algn="ct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C  10   A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2857680" y="3159000"/>
            <a:ext cx="377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2505240" y="1898640"/>
            <a:ext cx="466560" cy="14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3327480" y="1879560"/>
            <a:ext cx="465120" cy="14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1487520" y="3754440"/>
            <a:ext cx="77148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돋움"/>
              </a:rPr>
              <a:t>TA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3971880" y="3735360"/>
            <a:ext cx="73188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돋움"/>
              </a:rPr>
              <a:t>TAB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6078600" y="1824120"/>
            <a:ext cx="3146400" cy="1562040"/>
          </a:xfrm>
          <a:prstGeom prst="rect">
            <a:avLst/>
          </a:prstGeom>
          <a:solidFill>
            <a:srgbClr val="3c0023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6121440" y="1879560"/>
            <a:ext cx="3052800" cy="292320"/>
          </a:xfrm>
          <a:prstGeom prst="rect">
            <a:avLst/>
          </a:prstGeom>
          <a:solidFill>
            <a:srgbClr val="dddddd"/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marL="285840" indent="-285840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A    AAB   111    A    10    A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6121440" y="2170080"/>
            <a:ext cx="3052800" cy="306360"/>
          </a:xfrm>
          <a:prstGeom prst="rect">
            <a:avLst/>
          </a:prstGeom>
          <a:solidFill>
            <a:srgbClr val="dddddd"/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marL="285840" indent="-285840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B    AAC   123    B    10    A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6121440" y="2476440"/>
            <a:ext cx="3052800" cy="295200"/>
          </a:xfrm>
          <a:prstGeom prst="rect">
            <a:avLst/>
          </a:prstGeom>
          <a:solidFill>
            <a:srgbClr val="dddddd"/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marL="285840" indent="-285840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C    ABA   222    C    10    A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6121440" y="2782800"/>
            <a:ext cx="3052800" cy="279360"/>
          </a:xfrm>
          <a:prstGeom prst="rect">
            <a:avLst/>
          </a:prstGeom>
          <a:solidFill>
            <a:srgbClr val="dddddd"/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marL="285840" indent="-285840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3300"/>
                </a:solidFill>
                <a:latin typeface="굴림체"/>
                <a:ea typeface="굴림체"/>
              </a:rPr>
              <a:t>D    ABB   23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6121440" y="3073320"/>
            <a:ext cx="3052800" cy="262080"/>
          </a:xfrm>
          <a:prstGeom prst="rect">
            <a:avLst/>
          </a:prstGeom>
          <a:solidFill>
            <a:srgbClr val="dddddd"/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marL="285840" indent="-285840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3300"/>
                </a:solidFill>
                <a:latin typeface="굴림체"/>
                <a:ea typeface="굴림체"/>
              </a:rPr>
              <a:t>E    ABC   14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2857680" y="2876400"/>
            <a:ext cx="377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2857680" y="2585880"/>
            <a:ext cx="377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2849400" y="2301840"/>
            <a:ext cx="397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2849400" y="2013120"/>
            <a:ext cx="397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5334120" y="2101680"/>
            <a:ext cx="515880" cy="98460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6915240" y="3505320"/>
            <a:ext cx="130176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돋움"/>
              </a:rPr>
              <a:t>원하는 결과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5943600" y="1521000"/>
            <a:ext cx="3282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marL="285840" indent="-285840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KEY   FLD1  FLD2  KEY  COL1  COL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-35280" y="4425840"/>
            <a:ext cx="5157360" cy="157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인덱스정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TAB1 X  : TAB1_IX : FLD1 + K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TAB2 Y  : TAB2_IX : COL1 + K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CCA91A-62B7-4125-9E6F-CC53A14CCAC0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"/>
          <p:cNvSpPr/>
          <p:nvPr/>
        </p:nvSpPr>
        <p:spPr>
          <a:xfrm>
            <a:off x="1900080" y="243000"/>
            <a:ext cx="5162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16.  OUTER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조인의 정확한 이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326880" y="1098720"/>
            <a:ext cx="205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0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28440" y="1492200"/>
            <a:ext cx="7425360" cy="147996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X.KEY, X.FLD1, X.FLD2, Y.KEY, Y.COL1, Y.COL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TAB1 X,  TAB2  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X.KEY = Y.KEY(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 X.FLD1 &gt; 'AAA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Y.COL1 = 10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25200" y="3267000"/>
            <a:ext cx="7425360" cy="147996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X.KEY, X.FLD1, X.FLD2, Y.KEY, Y.COL1, Y.COL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TAB1 X,  TAB2  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X.KEY = Y.KEY(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 X.FLD1 &gt; 'AAA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(Y.COL1 = 10  OR  Y.COL1 IS NULL)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41040" y="5041800"/>
            <a:ext cx="7425360" cy="147996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X.KEY, X.FLD1, X.FLD2, Y.KEY, Y.COL1, Y.COL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TAB1 X,  TAB2  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X.KEY = Y.KEY(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 X.FLD1 &gt; 'AAA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Y.COL1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(+)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= 10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6108840" y="2157480"/>
            <a:ext cx="2685960" cy="3358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6320" rIns="76320" tIns="46080" bIns="4608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원하는 결과 나오지 않음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6108840" y="3726000"/>
            <a:ext cx="3565440" cy="82260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6320" rIns="76320" tIns="46080" bIns="4608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COL1+KEY </a:t>
            </a: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순서이므로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인덱스 사용 불가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KEY+COL1 </a:t>
            </a: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이면 인덱스 사용 가능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6108840" y="5614920"/>
            <a:ext cx="3146400" cy="57924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6320" rIns="76320" tIns="46080" bIns="4608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COL1+KEY </a:t>
            </a: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인덱스 사용 가능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KEY+COL1 </a:t>
            </a: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이라도 사용 가능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2123640" y="885960"/>
            <a:ext cx="4414320" cy="5547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5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TAB1  X : TAB1_IX : FLD1 + KE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TAB2  Y : TAB2_IX : COL1 + KE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3174840" y="3009960"/>
            <a:ext cx="598680" cy="230040"/>
          </a:xfrm>
          <a:prstGeom prst="downArrow">
            <a:avLst>
              <a:gd name="adj1" fmla="val 50000"/>
              <a:gd name="adj2" fmla="val 33407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3143160" y="4780080"/>
            <a:ext cx="598680" cy="230040"/>
          </a:xfrm>
          <a:prstGeom prst="downArrow">
            <a:avLst>
              <a:gd name="adj1" fmla="val 50000"/>
              <a:gd name="adj2" fmla="val 33407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95510A-9752-4CA4-8B81-26B525DFF4E6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"/>
          <p:cNvSpPr/>
          <p:nvPr/>
        </p:nvSpPr>
        <p:spPr>
          <a:xfrm>
            <a:off x="28440" y="2717640"/>
            <a:ext cx="7425360" cy="147996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X.KEY, X.FLD1, X.FLD2, Y.KEY, Y.COL1, Y.COL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TAB1 X,  TAB2  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 X.KEY = Y.KEY(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 X.FLD1 &gt; 'AAA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 Y.COL1</a:t>
            </a:r>
            <a:r>
              <a:rPr b="1" lang="ko-KR" sz="1800" spc="-1" strike="noStrike">
                <a:solidFill>
                  <a:srgbClr val="ff3300"/>
                </a:solidFill>
                <a:latin typeface="굴림체"/>
                <a:ea typeface="굴림체"/>
              </a:rPr>
              <a:t>(+) IN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(10,30,50)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1744200" y="243000"/>
            <a:ext cx="5474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17.  OUTER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조인에서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IN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의 사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324000" y="1027080"/>
            <a:ext cx="9153360" cy="110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인덱스정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5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TAB1 X : TAB1_IX : FLD1 + K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TAB2 Y : TAB2_IX : COL1 + K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4594320" y="3332160"/>
            <a:ext cx="2457360" cy="566640"/>
          </a:xfrm>
          <a:custGeom>
            <a:avLst/>
            <a:gdLst>
              <a:gd name="textAreaLeft" fmla="*/ 90720 w 2457360"/>
              <a:gd name="textAreaRight" fmla="*/ 2366640 w 2457360"/>
              <a:gd name="textAreaTop" fmla="*/ 20880 h 566640"/>
              <a:gd name="textAreaBottom" fmla="*/ 452520 h 56664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692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cce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0099"/>
                </a:solidFill>
                <a:latin typeface="굴림체"/>
                <a:ea typeface="굴림체"/>
              </a:rPr>
              <a:t>ORA-01719 Error </a:t>
            </a:r>
            <a:r>
              <a:rPr b="1" lang="ko-KR" sz="1600" spc="-1" strike="noStrike">
                <a:solidFill>
                  <a:srgbClr val="330099"/>
                </a:solidFill>
                <a:latin typeface="굴림체"/>
                <a:ea typeface="굴림체"/>
              </a:rPr>
              <a:t>발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34200" y="4824360"/>
            <a:ext cx="7446960" cy="177588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X.KEY, X.FLD1, X.FLD2, Y.KEY, Y.COL1, Y.COL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TAB1 X,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(SELECT  KEY, COL1, COL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                   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FROM  TAB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                  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WHERE  COL1 IN (10,30,50) ) Y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 X.KEY = Y.KEY(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 X.FLD1 &gt; 'AAA'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396720" y="227484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324000" y="2305080"/>
            <a:ext cx="156996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324000" y="4406760"/>
            <a:ext cx="156996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해결 방안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BF4B63-B289-4B58-B9C5-8D04044B430A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"/>
          <p:cNvSpPr/>
          <p:nvPr/>
        </p:nvSpPr>
        <p:spPr>
          <a:xfrm>
            <a:off x="-440280" y="2414520"/>
            <a:ext cx="9418680" cy="248580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t">
            <a:spAutoFit/>
          </a:bodyPr>
          <a:p>
            <a:pPr marL="343080" indent="-3430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A.DESCRIPTION, A.MODEL, A.DESRIPTION, NVL(B.QTY1,0)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NVL(B.QTY2,0), NVL(B.QTY3, 0), NVL(B.QTY4,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STPO120 A, STPO096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Arial"/>
                <a:ea typeface="굴림체"/>
              </a:rPr>
              <a:t> 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WHERE 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A.SA = B.SA(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AND  A.PART = B.PART(+)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 A.SA =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:VALUE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 A.PART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BETWEEN :VALUE2 AND :VALUE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B.CENTER = </a:t>
            </a:r>
            <a:r>
              <a:rPr b="1" lang="ko-KR" sz="1800" spc="-1" strike="noStrike">
                <a:solidFill>
                  <a:srgbClr val="00cc99"/>
                </a:solidFill>
                <a:latin typeface="굴림체"/>
                <a:ea typeface="굴림체"/>
              </a:rPr>
              <a:t>:VALUE4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1571760" y="243000"/>
            <a:ext cx="7085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18. 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여러 개의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OUTER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조인 컬럼을 사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309600" y="1027080"/>
            <a:ext cx="9212400" cy="14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1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인덱스정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4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TPO120  A : STPO120_X1 : </a:t>
            </a:r>
            <a:r>
              <a:rPr b="1" lang="ko-KR" sz="1800" spc="-1" strike="noStrike">
                <a:solidFill>
                  <a:srgbClr val="ff3300"/>
                </a:solidFill>
                <a:latin typeface="굴림체"/>
                <a:ea typeface="굴림체"/>
              </a:rPr>
              <a:t>SA + P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1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TPO096  B : STPO096_X1 : CENTER + SA + PAR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4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4417920" y="4741920"/>
            <a:ext cx="5183280" cy="201060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cc0000"/>
                </a:solidFill>
                <a:latin typeface="굴림체"/>
                <a:ea typeface="굴림체"/>
              </a:rPr>
              <a:t>EXECUTE PL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STATEMENT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400" spc="-1" strike="noStrike">
                <a:solidFill>
                  <a:srgbClr val="ff3300"/>
                </a:solidFill>
                <a:latin typeface="굴림체"/>
                <a:ea typeface="굴림체"/>
              </a:rPr>
              <a:t>NESTED LOOP(OUTER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TABLE ACCESS (BY ROWID) OF 'STPO120'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 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INDEX (RANGE SCAN) OF 'STPO120_X1' (UNIQU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TABLE ACCESS (</a:t>
            </a:r>
            <a:r>
              <a:rPr b="1" lang="ko-KR" sz="1400" spc="-1" strike="noStrike">
                <a:solidFill>
                  <a:srgbClr val="ff3300"/>
                </a:solidFill>
                <a:latin typeface="굴림체"/>
                <a:ea typeface="굴림체"/>
              </a:rPr>
              <a:t>FULL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) OF 'STPO096'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108720" y="5356080"/>
            <a:ext cx="4054680" cy="395640"/>
          </a:xfrm>
          <a:prstGeom prst="roundRect">
            <a:avLst>
              <a:gd name="adj" fmla="val 124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B.CENTER</a:t>
            </a:r>
            <a:r>
              <a:rPr b="1" lang="ko-KR" sz="1800" spc="-1" strike="noStrike">
                <a:solidFill>
                  <a:srgbClr val="ff3300"/>
                </a:solidFill>
                <a:latin typeface="굴림체"/>
                <a:ea typeface="굴림체"/>
              </a:rPr>
              <a:t>(+) 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=  :VALUE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3676680" y="6172200"/>
            <a:ext cx="10922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9" name=""/>
          <p:cNvGrpSpPr/>
          <p:nvPr/>
        </p:nvGrpSpPr>
        <p:grpSpPr>
          <a:xfrm>
            <a:off x="107640" y="5973480"/>
            <a:ext cx="4191840" cy="395640"/>
            <a:chOff x="107640" y="5973480"/>
            <a:chExt cx="4191840" cy="395640"/>
          </a:xfrm>
        </p:grpSpPr>
        <p:sp>
          <p:nvSpPr>
            <p:cNvPr id="850" name=""/>
            <p:cNvSpPr/>
            <p:nvPr/>
          </p:nvSpPr>
          <p:spPr>
            <a:xfrm>
              <a:off x="107640" y="5973480"/>
              <a:ext cx="4191840" cy="395640"/>
            </a:xfrm>
            <a:prstGeom prst="roundRect">
              <a:avLst>
                <a:gd name="adj" fmla="val 124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3300"/>
                  </a:solidFill>
                  <a:latin typeface="굴림체"/>
                  <a:ea typeface="굴림체"/>
                </a:rPr>
                <a:t>ALL_ROWS      FIRST_ROW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1898640" y="6089760"/>
              <a:ext cx="249120" cy="152280"/>
            </a:xfrm>
            <a:prstGeom prst="rightArrow">
              <a:avLst>
                <a:gd name="adj1" fmla="val 50000"/>
                <a:gd name="adj2" fmla="val 81804"/>
              </a:avLst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2" name=""/>
          <p:cNvSpPr/>
          <p:nvPr/>
        </p:nvSpPr>
        <p:spPr>
          <a:xfrm>
            <a:off x="8918280" y="5553000"/>
            <a:ext cx="67716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20000"/>
              <a:buFont typeface="Wingdings" charset="2"/>
              <a:buChar char="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700" spc="-1" strike="noStrike">
                <a:solidFill>
                  <a:srgbClr val="3333cc"/>
                </a:solidFill>
                <a:latin typeface="굴림체"/>
                <a:ea typeface="굴림체"/>
              </a:rPr>
              <a:t> </a:t>
            </a:r>
            <a:r>
              <a:rPr b="1" lang="ko-KR" sz="1700" spc="-1" strike="noStrike">
                <a:solidFill>
                  <a:srgbClr val="3333cc"/>
                </a:solidFill>
                <a:latin typeface="굴림체"/>
                <a:ea typeface="굴림체"/>
              </a:rPr>
              <a:t>A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buClr>
                <a:srgbClr val="000000"/>
              </a:buClr>
              <a:buSzPct val="120000"/>
              <a:buFont typeface="Wingdings" charset="2"/>
              <a:buChar char="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700" spc="-1" strike="noStrike">
                <a:solidFill>
                  <a:srgbClr val="3333cc"/>
                </a:solidFill>
                <a:latin typeface="굴림체"/>
                <a:ea typeface="굴림체"/>
              </a:rPr>
              <a:t> </a:t>
            </a:r>
            <a:r>
              <a:rPr b="1" lang="ko-KR" sz="1700" spc="-1" strike="noStrike">
                <a:solidFill>
                  <a:srgbClr val="3333cc"/>
                </a:solidFill>
                <a:latin typeface="굴림체"/>
                <a:ea typeface="굴림체"/>
              </a:rPr>
              <a:t>B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309600" y="4987800"/>
            <a:ext cx="197316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해결 방안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29048B-F7A2-4938-895D-733C55D9AE07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"/>
          <p:cNvSpPr/>
          <p:nvPr/>
        </p:nvSpPr>
        <p:spPr>
          <a:xfrm>
            <a:off x="2058120" y="243000"/>
            <a:ext cx="6727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19.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배타적 관계 모델에서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OUTER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조인 활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5889240" y="3463920"/>
            <a:ext cx="1396800" cy="3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800000"/>
                </a:solidFill>
                <a:latin typeface="Arial"/>
                <a:ea typeface="돋움"/>
              </a:rPr>
              <a:t>법인고객정보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4017960" y="2127240"/>
            <a:ext cx="150840" cy="1522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 flipH="1">
            <a:off x="3979440" y="4329000"/>
            <a:ext cx="149400" cy="15264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 flipH="1" rot="10800000">
            <a:off x="4000680" y="4549680"/>
            <a:ext cx="1358640" cy="843120"/>
          </a:xfrm>
          <a:custGeom>
            <a:avLst/>
            <a:gdLst>
              <a:gd name="textAreaLeft" fmla="*/ 50040 w 1358640"/>
              <a:gd name="textAreaRight" fmla="*/ 1308600 w 1358640"/>
              <a:gd name="textAreaTop" fmla="*/ 30960 h 843120"/>
              <a:gd name="textAreaBottom" fmla="*/ 673560 h 84312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3446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rot="10800000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배타적 관계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(EXCLUSIV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9" name=""/>
          <p:cNvGrpSpPr/>
          <p:nvPr/>
        </p:nvGrpSpPr>
        <p:grpSpPr>
          <a:xfrm>
            <a:off x="3814920" y="2166840"/>
            <a:ext cx="1906560" cy="2286000"/>
            <a:chOff x="3814920" y="2166840"/>
            <a:chExt cx="1906560" cy="2286000"/>
          </a:xfrm>
        </p:grpSpPr>
        <p:sp>
          <p:nvSpPr>
            <p:cNvPr id="860" name=""/>
            <p:cNvSpPr/>
            <p:nvPr/>
          </p:nvSpPr>
          <p:spPr>
            <a:xfrm>
              <a:off x="4917960" y="2319480"/>
              <a:ext cx="80352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3814920" y="2319480"/>
              <a:ext cx="10000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4917960" y="4300560"/>
              <a:ext cx="80352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14920" y="4300560"/>
              <a:ext cx="10000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3814920" y="2166840"/>
              <a:ext cx="201600" cy="152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flipH="1">
              <a:off x="3814920" y="2319480"/>
              <a:ext cx="201600" cy="152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flipH="1">
              <a:off x="3814920" y="4300560"/>
              <a:ext cx="201600" cy="152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 flipH="1" flipV="1">
              <a:off x="3814920" y="4147920"/>
              <a:ext cx="201600" cy="152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8" name=""/>
          <p:cNvSpPr/>
          <p:nvPr/>
        </p:nvSpPr>
        <p:spPr>
          <a:xfrm>
            <a:off x="2143080" y="1722600"/>
            <a:ext cx="1666800" cy="3225600"/>
          </a:xfrm>
          <a:custGeom>
            <a:avLst/>
            <a:gdLst>
              <a:gd name="textAreaLeft" fmla="*/ 60840 w 1666800"/>
              <a:gd name="textAreaRight" fmla="*/ 1605960 w 1666800"/>
              <a:gd name="textAreaTop" fmla="*/ 60840 h 3225600"/>
              <a:gd name="textAreaBottom" fmla="*/ 3164760 h 3225600"/>
            </a:gdLst>
            <a:ahLst/>
            <a:rect l="textAreaLeft" t="textAreaTop" r="textAreaRight" b="textAreaBottom"/>
            <a:pathLst>
              <a:path w="21600" h="41796">
                <a:moveTo>
                  <a:pt x="2699" y="0"/>
                </a:moveTo>
                <a:arcTo wR="2699" hR="2699" stAng="16200000" swAng="-5400000"/>
                <a:lnTo>
                  <a:pt x="0" y="39097"/>
                </a:lnTo>
                <a:arcTo wR="2699" hR="2699" stAng="10800000" swAng="-5400000"/>
                <a:lnTo>
                  <a:pt x="18901" y="41796"/>
                </a:lnTo>
                <a:arcTo wR="2699" hR="2699" stAng="5400000" swAng="-5400000"/>
                <a:lnTo>
                  <a:pt x="21600" y="2699"/>
                </a:lnTo>
                <a:arcTo wR="2699" hR="2699" stAng="0" swAng="-5400000"/>
                <a:close/>
              </a:path>
            </a:pathLst>
          </a:custGeom>
          <a:solidFill>
            <a:srgbClr val="ffff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114480" bIns="114480" anchor="t">
            <a:noAutofit/>
          </a:bodyPr>
          <a:p>
            <a:pPr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# * </a:t>
            </a: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계좌번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     </a:t>
            </a: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개설일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     </a:t>
            </a: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개설지점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     </a:t>
            </a: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비밀번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     </a:t>
            </a: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실명확인여부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     </a:t>
            </a: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해지상태여부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     </a:t>
            </a: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상품종류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     </a:t>
            </a: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적용금리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2565000" y="1300320"/>
            <a:ext cx="611640" cy="3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800000"/>
                </a:solidFill>
                <a:latin typeface="Arial"/>
                <a:ea typeface="돋움"/>
              </a:rPr>
              <a:t>계좌정보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5730840" y="3827520"/>
            <a:ext cx="1914480" cy="2442960"/>
          </a:xfrm>
          <a:custGeom>
            <a:avLst/>
            <a:gdLst>
              <a:gd name="textAreaLeft" fmla="*/ 69840 w 1914480"/>
              <a:gd name="textAreaRight" fmla="*/ 1844640 w 1914480"/>
              <a:gd name="textAreaTop" fmla="*/ 69840 h 2442960"/>
              <a:gd name="textAreaBottom" fmla="*/ 2373120 h 2442960"/>
            </a:gdLst>
            <a:ahLst/>
            <a:rect l="textAreaLeft" t="textAreaTop" r="textAreaRight" b="textAreaBottom"/>
            <a:pathLst>
              <a:path w="21600" h="27561">
                <a:moveTo>
                  <a:pt x="2699" y="0"/>
                </a:moveTo>
                <a:arcTo wR="2699" hR="2699" stAng="16200000" swAng="-5400000"/>
                <a:lnTo>
                  <a:pt x="0" y="24862"/>
                </a:lnTo>
                <a:arcTo wR="2699" hR="2699" stAng="10800000" swAng="-5400000"/>
                <a:lnTo>
                  <a:pt x="18901" y="27561"/>
                </a:lnTo>
                <a:arcTo wR="2699" hR="2699" stAng="5400000" swAng="-5400000"/>
                <a:lnTo>
                  <a:pt x="21600" y="2699"/>
                </a:lnTo>
                <a:arcTo wR="2699" hR="2699" stAng="0" swAng="-5400000"/>
                <a:close/>
              </a:path>
            </a:pathLst>
          </a:custGeom>
          <a:solidFill>
            <a:srgbClr val="ffff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114480" bIns="114480" anchor="t">
            <a:noAutofit/>
          </a:bodyPr>
          <a:p>
            <a:pPr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# * </a:t>
            </a: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고객번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      </a:t>
            </a: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법인명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      </a:t>
            </a: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주소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      </a:t>
            </a: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사업자등록번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      </a:t>
            </a: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재무상태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      </a:t>
            </a: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매출액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5738760" y="1579680"/>
            <a:ext cx="1668600" cy="1685880"/>
          </a:xfrm>
          <a:custGeom>
            <a:avLst/>
            <a:gdLst>
              <a:gd name="textAreaLeft" fmla="*/ 60840 w 1668600"/>
              <a:gd name="textAreaRight" fmla="*/ 1607760 w 1668600"/>
              <a:gd name="textAreaTop" fmla="*/ 60840 h 1685880"/>
              <a:gd name="textAreaBottom" fmla="*/ 1625040 h 1685880"/>
            </a:gdLst>
            <a:ahLst/>
            <a:rect l="textAreaLeft" t="textAreaTop" r="textAreaRight" b="textAreaBottom"/>
            <a:pathLst>
              <a:path w="21600" h="21824">
                <a:moveTo>
                  <a:pt x="2699" y="0"/>
                </a:moveTo>
                <a:arcTo wR="2699" hR="2699" stAng="16200000" swAng="-5400000"/>
                <a:lnTo>
                  <a:pt x="0" y="19125"/>
                </a:lnTo>
                <a:arcTo wR="2699" hR="2699" stAng="10800000" swAng="-5400000"/>
                <a:lnTo>
                  <a:pt x="18901" y="21824"/>
                </a:lnTo>
                <a:arcTo wR="2699" hR="2699" stAng="5400000" swAng="-5400000"/>
                <a:lnTo>
                  <a:pt x="21600" y="2699"/>
                </a:lnTo>
                <a:arcTo wR="2699" hR="2699" stAng="0" swAng="-5400000"/>
                <a:close/>
              </a:path>
            </a:pathLst>
          </a:custGeom>
          <a:solidFill>
            <a:srgbClr val="ffff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114480" bIns="114480" anchor="t">
            <a:noAutofit/>
          </a:bodyPr>
          <a:p>
            <a:pPr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# * </a:t>
            </a: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고객번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     </a:t>
            </a: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성명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     </a:t>
            </a: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주소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     </a:t>
            </a: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주민등록번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6074640" y="1231920"/>
            <a:ext cx="825120" cy="3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800000"/>
                </a:solidFill>
                <a:latin typeface="Arial"/>
                <a:ea typeface="돋움"/>
              </a:rPr>
              <a:t>개인고객정보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4191120" y="2319480"/>
            <a:ext cx="0" cy="1981080"/>
          </a:xfrm>
          <a:prstGeom prst="line">
            <a:avLst/>
          </a:prstGeom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3726000" y="2111400"/>
            <a:ext cx="89532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0033"/>
                </a:solidFill>
                <a:latin typeface="Arial"/>
                <a:ea typeface="돋움"/>
              </a:rPr>
              <a:t>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3708360" y="4083120"/>
            <a:ext cx="89532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0033"/>
                </a:solidFill>
                <a:latin typeface="Arial"/>
                <a:ea typeface="돋움"/>
              </a:rPr>
              <a:t>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7DB224-CBB8-4BD6-BD52-8CA240F4AAAC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520560" y="5703840"/>
            <a:ext cx="9142560" cy="0"/>
          </a:xfrm>
          <a:prstGeom prst="line">
            <a:avLst/>
          </a:prstGeom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4440" y="1542960"/>
            <a:ext cx="4510080" cy="443160"/>
          </a:xfrm>
          <a:prstGeom prst="rect">
            <a:avLst/>
          </a:prstGeom>
          <a:solidFill>
            <a:srgbClr val="69ff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3c0023"/>
                </a:solidFill>
                <a:latin typeface="Arial"/>
                <a:ea typeface="돋움"/>
              </a:rPr>
              <a:t>전  체  범  위  처  리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051520" y="1531800"/>
            <a:ext cx="4618080" cy="443160"/>
          </a:xfrm>
          <a:prstGeom prst="rect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3c0023"/>
                </a:solidFill>
                <a:latin typeface="Arial"/>
                <a:ea typeface="돋움"/>
              </a:rPr>
              <a:t>부  분  범  위  처  리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19120" y="1547640"/>
            <a:ext cx="9131400" cy="4854600"/>
          </a:xfrm>
          <a:prstGeom prst="rect">
            <a:avLst/>
          </a:prstGeom>
          <a:noFill/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8200" y="1984320"/>
            <a:ext cx="9110520" cy="0"/>
          </a:xfrm>
          <a:prstGeom prst="line">
            <a:avLst/>
          </a:prstGeom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401920" y="2651040"/>
            <a:ext cx="546120" cy="2217960"/>
          </a:xfrm>
          <a:prstGeom prst="rect">
            <a:avLst/>
          </a:prstGeom>
          <a:solidFill>
            <a:srgbClr val="dfdcdc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657600" y="2725560"/>
            <a:ext cx="593640" cy="633600"/>
          </a:xfrm>
          <a:prstGeom prst="rect">
            <a:avLst/>
          </a:prstGeom>
          <a:gradFill rotWithShape="0">
            <a:gsLst>
              <a:gs pos="0">
                <a:srgbClr val="009b8c"/>
              </a:gs>
              <a:gs pos="50000">
                <a:srgbClr val="00dfca"/>
              </a:gs>
              <a:gs pos="100000">
                <a:srgbClr val="009b8c"/>
              </a:gs>
            </a:gsLst>
            <a:lin ang="10800000"/>
          </a:gra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482200" y="3189240"/>
            <a:ext cx="334440" cy="9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 </a:t>
            </a: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차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가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642840" y="3402000"/>
            <a:ext cx="6116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c80202"/>
                </a:solidFill>
                <a:latin typeface="Arial"/>
                <a:ea typeface="돋움"/>
              </a:rPr>
              <a:t>운반단위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719360" y="2695680"/>
            <a:ext cx="617400" cy="0"/>
          </a:xfrm>
          <a:prstGeom prst="line">
            <a:avLst/>
          </a:prstGeom>
          <a:ln w="12600">
            <a:solidFill>
              <a:srgbClr val="00cc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719360" y="2865600"/>
            <a:ext cx="617400" cy="0"/>
          </a:xfrm>
          <a:prstGeom prst="line">
            <a:avLst/>
          </a:prstGeom>
          <a:ln w="12600">
            <a:solidFill>
              <a:srgbClr val="00cc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719360" y="3068640"/>
            <a:ext cx="617400" cy="0"/>
          </a:xfrm>
          <a:prstGeom prst="line">
            <a:avLst/>
          </a:prstGeom>
          <a:ln w="12600">
            <a:solidFill>
              <a:srgbClr val="00cc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719360" y="3271680"/>
            <a:ext cx="617400" cy="0"/>
          </a:xfrm>
          <a:prstGeom prst="line">
            <a:avLst/>
          </a:prstGeom>
          <a:ln w="12600">
            <a:solidFill>
              <a:srgbClr val="00cc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719360" y="3456000"/>
            <a:ext cx="617400" cy="0"/>
          </a:xfrm>
          <a:prstGeom prst="line">
            <a:avLst/>
          </a:prstGeom>
          <a:ln w="12600">
            <a:solidFill>
              <a:srgbClr val="00cc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719360" y="3673440"/>
            <a:ext cx="617400" cy="0"/>
          </a:xfrm>
          <a:prstGeom prst="line">
            <a:avLst/>
          </a:prstGeom>
          <a:ln w="12600">
            <a:solidFill>
              <a:srgbClr val="00cc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719360" y="3875040"/>
            <a:ext cx="617400" cy="0"/>
          </a:xfrm>
          <a:prstGeom prst="line">
            <a:avLst/>
          </a:prstGeom>
          <a:ln w="12600">
            <a:solidFill>
              <a:srgbClr val="00cc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719360" y="4043520"/>
            <a:ext cx="617400" cy="0"/>
          </a:xfrm>
          <a:prstGeom prst="line">
            <a:avLst/>
          </a:prstGeom>
          <a:ln w="12600">
            <a:solidFill>
              <a:srgbClr val="00cc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719360" y="4448160"/>
            <a:ext cx="617400" cy="0"/>
          </a:xfrm>
          <a:prstGeom prst="line">
            <a:avLst/>
          </a:prstGeom>
          <a:ln w="12600">
            <a:solidFill>
              <a:srgbClr val="00cc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719360" y="4635360"/>
            <a:ext cx="617400" cy="0"/>
          </a:xfrm>
          <a:prstGeom prst="line">
            <a:avLst/>
          </a:prstGeom>
          <a:ln w="12600">
            <a:solidFill>
              <a:srgbClr val="00cc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719360" y="4811760"/>
            <a:ext cx="620640" cy="0"/>
          </a:xfrm>
          <a:prstGeom prst="line">
            <a:avLst/>
          </a:prstGeom>
          <a:ln w="12600">
            <a:solidFill>
              <a:srgbClr val="00cc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965320" y="3132000"/>
            <a:ext cx="633600" cy="0"/>
          </a:xfrm>
          <a:prstGeom prst="line">
            <a:avLst/>
          </a:prstGeom>
          <a:ln w="12600">
            <a:solidFill>
              <a:srgbClr val="00cc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965320" y="2927520"/>
            <a:ext cx="617760" cy="0"/>
          </a:xfrm>
          <a:prstGeom prst="line">
            <a:avLst/>
          </a:prstGeom>
          <a:ln w="12600">
            <a:solidFill>
              <a:srgbClr val="00cc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965320" y="2743200"/>
            <a:ext cx="617760" cy="0"/>
          </a:xfrm>
          <a:prstGeom prst="line">
            <a:avLst/>
          </a:prstGeom>
          <a:ln w="12600">
            <a:solidFill>
              <a:srgbClr val="00cc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965320" y="4060800"/>
            <a:ext cx="617760" cy="0"/>
          </a:xfrm>
          <a:prstGeom prst="line">
            <a:avLst/>
          </a:prstGeom>
          <a:ln w="12600">
            <a:solidFill>
              <a:srgbClr val="00cc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965320" y="4478400"/>
            <a:ext cx="619200" cy="0"/>
          </a:xfrm>
          <a:prstGeom prst="line">
            <a:avLst/>
          </a:prstGeom>
          <a:ln w="12600">
            <a:solidFill>
              <a:srgbClr val="00cc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965320" y="4818240"/>
            <a:ext cx="619200" cy="0"/>
          </a:xfrm>
          <a:prstGeom prst="line">
            <a:avLst/>
          </a:prstGeom>
          <a:ln w="12600">
            <a:solidFill>
              <a:srgbClr val="00cc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2964240" y="4037040"/>
            <a:ext cx="329400" cy="506520"/>
            <a:chOff x="2964240" y="4037040"/>
            <a:chExt cx="329400" cy="506520"/>
          </a:xfrm>
        </p:grpSpPr>
        <p:sp>
          <p:nvSpPr>
            <p:cNvPr id="128" name=""/>
            <p:cNvSpPr/>
            <p:nvPr/>
          </p:nvSpPr>
          <p:spPr>
            <a:xfrm>
              <a:off x="2964240" y="4037040"/>
              <a:ext cx="3294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buClr>
                  <a:srgbClr val="00cc9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cc99"/>
                  </a:solidFill>
                  <a:latin typeface="Arial"/>
                  <a:ea typeface="돋움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964240" y="4176720"/>
              <a:ext cx="3294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buClr>
                  <a:srgbClr val="00cc9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cc99"/>
                  </a:solidFill>
                  <a:latin typeface="Arial"/>
                  <a:ea typeface="돋움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" name=""/>
          <p:cNvSpPr/>
          <p:nvPr/>
        </p:nvSpPr>
        <p:spPr>
          <a:xfrm>
            <a:off x="4300560" y="2768760"/>
            <a:ext cx="619200" cy="0"/>
          </a:xfrm>
          <a:prstGeom prst="line">
            <a:avLst/>
          </a:prstGeom>
          <a:ln w="12600">
            <a:solidFill>
              <a:srgbClr val="5531ae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299120" y="2924280"/>
            <a:ext cx="618840" cy="0"/>
          </a:xfrm>
          <a:prstGeom prst="line">
            <a:avLst/>
          </a:prstGeom>
          <a:ln w="12600">
            <a:solidFill>
              <a:srgbClr val="5531ae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307040" y="3121200"/>
            <a:ext cx="622080" cy="0"/>
          </a:xfrm>
          <a:prstGeom prst="line">
            <a:avLst/>
          </a:prstGeom>
          <a:ln w="12600">
            <a:solidFill>
              <a:srgbClr val="5531ae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19160" y="2416320"/>
            <a:ext cx="625320" cy="2793960"/>
          </a:xfrm>
          <a:prstGeom prst="rect">
            <a:avLst/>
          </a:prstGeom>
          <a:gradFill rotWithShape="0">
            <a:gsLst>
              <a:gs pos="0">
                <a:srgbClr val="4b4b4b"/>
              </a:gs>
              <a:gs pos="50000">
                <a:srgbClr val="ffffff"/>
              </a:gs>
              <a:gs pos="100000">
                <a:srgbClr val="4b4b4b"/>
              </a:gs>
            </a:gsLst>
            <a:lin ang="10800000"/>
          </a:gradFill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96880" y="2727360"/>
            <a:ext cx="438120" cy="0"/>
          </a:xfrm>
          <a:prstGeom prst="line">
            <a:avLst/>
          </a:prstGeom>
          <a:ln w="25560">
            <a:solidFill>
              <a:srgbClr val="5531a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42040" y="4022640"/>
            <a:ext cx="329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cc99"/>
                </a:solidFill>
                <a:latin typeface="Arial"/>
                <a:ea typeface="돋움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742040" y="4165560"/>
            <a:ext cx="329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cc99"/>
                </a:solidFill>
                <a:latin typeface="Arial"/>
                <a:ea typeface="돋움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028880" y="2708280"/>
            <a:ext cx="607680" cy="2108160"/>
          </a:xfrm>
          <a:prstGeom prst="rect">
            <a:avLst/>
          </a:prstGeom>
          <a:solidFill>
            <a:srgbClr val="dddddd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296360" y="3205080"/>
            <a:ext cx="334440" cy="9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 </a:t>
            </a: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차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스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캔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97080" y="2727360"/>
            <a:ext cx="0" cy="2058840"/>
          </a:xfrm>
          <a:prstGeom prst="line">
            <a:avLst/>
          </a:prstGeom>
          <a:ln w="50760">
            <a:solidFill>
              <a:srgbClr val="5531a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2965320" y="3279600"/>
            <a:ext cx="606600" cy="446400"/>
          </a:xfrm>
          <a:prstGeom prst="line">
            <a:avLst/>
          </a:prstGeom>
          <a:ln w="12600">
            <a:solidFill>
              <a:srgbClr val="00cc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95880" y="3317760"/>
            <a:ext cx="622080" cy="0"/>
          </a:xfrm>
          <a:prstGeom prst="line">
            <a:avLst/>
          </a:prstGeom>
          <a:ln w="12600">
            <a:solidFill>
              <a:srgbClr val="5531ae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950160" y="2627280"/>
            <a:ext cx="509400" cy="924120"/>
          </a:xfrm>
          <a:prstGeom prst="rect">
            <a:avLst/>
          </a:prstGeom>
          <a:solidFill>
            <a:srgbClr val="dfdcdc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8207280" y="2701800"/>
            <a:ext cx="588960" cy="633600"/>
          </a:xfrm>
          <a:prstGeom prst="rect">
            <a:avLst/>
          </a:prstGeom>
          <a:gradFill rotWithShape="0">
            <a:gsLst>
              <a:gs pos="0">
                <a:srgbClr val="009b8c"/>
              </a:gs>
              <a:gs pos="50000">
                <a:srgbClr val="00dfca"/>
              </a:gs>
              <a:gs pos="100000">
                <a:srgbClr val="009b8c"/>
              </a:gs>
            </a:gsLst>
            <a:lin ang="10800000"/>
          </a:gra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041600" y="2614680"/>
            <a:ext cx="334440" cy="9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 </a:t>
            </a: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차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가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8192880" y="3378240"/>
            <a:ext cx="6116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c80202"/>
                </a:solidFill>
                <a:latin typeface="Arial"/>
                <a:ea typeface="돋움"/>
              </a:rPr>
              <a:t>운반단위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265800" y="2671920"/>
            <a:ext cx="615960" cy="0"/>
          </a:xfrm>
          <a:prstGeom prst="line">
            <a:avLst/>
          </a:prstGeom>
          <a:ln w="12600">
            <a:solidFill>
              <a:srgbClr val="00cc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265800" y="2841480"/>
            <a:ext cx="615960" cy="0"/>
          </a:xfrm>
          <a:prstGeom prst="line">
            <a:avLst/>
          </a:prstGeom>
          <a:ln w="12600">
            <a:solidFill>
              <a:srgbClr val="00cc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265800" y="3044880"/>
            <a:ext cx="615960" cy="0"/>
          </a:xfrm>
          <a:prstGeom prst="line">
            <a:avLst/>
          </a:prstGeom>
          <a:ln w="12600">
            <a:solidFill>
              <a:srgbClr val="00cc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65800" y="3247920"/>
            <a:ext cx="615960" cy="0"/>
          </a:xfrm>
          <a:prstGeom prst="line">
            <a:avLst/>
          </a:prstGeom>
          <a:ln w="12600">
            <a:solidFill>
              <a:srgbClr val="00cc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265800" y="3432240"/>
            <a:ext cx="615960" cy="0"/>
          </a:xfrm>
          <a:prstGeom prst="line">
            <a:avLst/>
          </a:prstGeom>
          <a:ln w="12600">
            <a:solidFill>
              <a:srgbClr val="00cc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512120" y="3106800"/>
            <a:ext cx="631800" cy="1440"/>
          </a:xfrm>
          <a:prstGeom prst="line">
            <a:avLst/>
          </a:prstGeom>
          <a:ln w="12600">
            <a:solidFill>
              <a:srgbClr val="00cc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512120" y="2903400"/>
            <a:ext cx="620640" cy="0"/>
          </a:xfrm>
          <a:prstGeom prst="line">
            <a:avLst/>
          </a:prstGeom>
          <a:ln w="12600">
            <a:solidFill>
              <a:srgbClr val="00cc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512120" y="2719440"/>
            <a:ext cx="620640" cy="0"/>
          </a:xfrm>
          <a:prstGeom prst="line">
            <a:avLst/>
          </a:prstGeom>
          <a:ln w="12600">
            <a:solidFill>
              <a:srgbClr val="00cc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8850240" y="2744640"/>
            <a:ext cx="617760" cy="0"/>
          </a:xfrm>
          <a:prstGeom prst="line">
            <a:avLst/>
          </a:prstGeom>
          <a:ln w="12600">
            <a:solidFill>
              <a:srgbClr val="5531ae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8848800" y="2900520"/>
            <a:ext cx="615960" cy="0"/>
          </a:xfrm>
          <a:prstGeom prst="line">
            <a:avLst/>
          </a:prstGeom>
          <a:ln w="12600">
            <a:solidFill>
              <a:srgbClr val="5531ae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8854920" y="3097080"/>
            <a:ext cx="621000" cy="0"/>
          </a:xfrm>
          <a:prstGeom prst="line">
            <a:avLst/>
          </a:prstGeom>
          <a:ln w="12600">
            <a:solidFill>
              <a:srgbClr val="5531ae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565600" y="2392200"/>
            <a:ext cx="627120" cy="2794320"/>
          </a:xfrm>
          <a:prstGeom prst="rect">
            <a:avLst/>
          </a:prstGeom>
          <a:gradFill rotWithShape="0">
            <a:gsLst>
              <a:gs pos="0">
                <a:srgbClr val="4b4b4b"/>
              </a:gs>
              <a:gs pos="50000">
                <a:srgbClr val="ffffff"/>
              </a:gs>
              <a:gs pos="100000">
                <a:srgbClr val="4b4b4b"/>
              </a:gs>
            </a:gsLst>
            <a:lin ang="10800000"/>
          </a:gradFill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554800" y="2684520"/>
            <a:ext cx="628560" cy="826920"/>
          </a:xfrm>
          <a:prstGeom prst="rect">
            <a:avLst/>
          </a:prstGeom>
          <a:solidFill>
            <a:srgbClr val="dddddd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865120" y="2654280"/>
            <a:ext cx="334440" cy="9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 </a:t>
            </a: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차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스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캔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845320" y="2703600"/>
            <a:ext cx="0" cy="833400"/>
          </a:xfrm>
          <a:prstGeom prst="line">
            <a:avLst/>
          </a:prstGeom>
          <a:ln w="50760">
            <a:solidFill>
              <a:srgbClr val="5531a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7534440" y="3255840"/>
            <a:ext cx="587160" cy="193680"/>
          </a:xfrm>
          <a:prstGeom prst="line">
            <a:avLst/>
          </a:prstGeom>
          <a:ln w="12600">
            <a:solidFill>
              <a:srgbClr val="00cc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844120" y="3294000"/>
            <a:ext cx="620640" cy="0"/>
          </a:xfrm>
          <a:prstGeom prst="line">
            <a:avLst/>
          </a:prstGeom>
          <a:ln w="12600">
            <a:solidFill>
              <a:srgbClr val="5531ae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548320" y="4859280"/>
            <a:ext cx="65412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035680" y="1550880"/>
            <a:ext cx="0" cy="4864320"/>
          </a:xfrm>
          <a:prstGeom prst="line">
            <a:avLst/>
          </a:prstGeom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87400" y="5783400"/>
            <a:ext cx="409572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5531ae"/>
                </a:solidFill>
                <a:latin typeface="굴림체"/>
                <a:ea typeface="굴림체"/>
              </a:rPr>
              <a:t>Full Range Scan </a:t>
            </a:r>
            <a:r>
              <a:rPr b="1" lang="ko-KR" sz="1800" spc="-1" strike="noStrike">
                <a:solidFill>
                  <a:srgbClr val="5531ae"/>
                </a:solidFill>
                <a:latin typeface="굴림체"/>
                <a:ea typeface="굴림체"/>
              </a:rPr>
              <a:t>후 가공하여         </a:t>
            </a:r>
            <a:r>
              <a:rPr b="1" lang="ko-KR" sz="1800" spc="-1" strike="noStrike">
                <a:solidFill>
                  <a:srgbClr val="5531ae"/>
                </a:solidFill>
                <a:latin typeface="굴림체"/>
                <a:ea typeface="굴림체"/>
              </a:rPr>
              <a:t>Array Size </a:t>
            </a:r>
            <a:r>
              <a:rPr b="1" lang="ko-KR" sz="1800" spc="-1" strike="noStrike">
                <a:solidFill>
                  <a:srgbClr val="5531ae"/>
                </a:solidFill>
                <a:latin typeface="굴림체"/>
                <a:ea typeface="굴림체"/>
              </a:rPr>
              <a:t>만큼 추출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094360" y="2712960"/>
            <a:ext cx="438120" cy="0"/>
          </a:xfrm>
          <a:prstGeom prst="line">
            <a:avLst/>
          </a:prstGeom>
          <a:ln w="25560">
            <a:solidFill>
              <a:srgbClr val="5531a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815840" y="243000"/>
            <a:ext cx="5619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부분범위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(Partial Range Scan)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의 처리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382680" y="1085400"/>
            <a:ext cx="9712080" cy="36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buClr>
                <a:srgbClr val="ff0033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5531ae"/>
                </a:solidFill>
                <a:latin typeface="굴림체"/>
              </a:rPr>
              <a:t> </a:t>
            </a:r>
            <a:r>
              <a:rPr b="1" lang="ko-KR" sz="1800" spc="-1" strike="noStrike">
                <a:solidFill>
                  <a:srgbClr val="5531ae"/>
                </a:solidFill>
                <a:latin typeface="굴림체"/>
              </a:rPr>
              <a:t>조건을 만족하는 </a:t>
            </a:r>
            <a:r>
              <a:rPr b="1" lang="ko-KR" sz="1800" spc="-1" strike="noStrike">
                <a:solidFill>
                  <a:srgbClr val="5531ae"/>
                </a:solidFill>
                <a:latin typeface="굴림체"/>
              </a:rPr>
              <a:t>Row </a:t>
            </a:r>
            <a:r>
              <a:rPr b="1" lang="ko-KR" sz="1800" spc="-1" strike="noStrike">
                <a:solidFill>
                  <a:srgbClr val="5531ae"/>
                </a:solidFill>
                <a:latin typeface="굴림체"/>
              </a:rPr>
              <a:t>수가 </a:t>
            </a:r>
            <a:r>
              <a:rPr b="1" lang="ko-KR" sz="1800" spc="-1" strike="noStrike">
                <a:solidFill>
                  <a:srgbClr val="5531ae"/>
                </a:solidFill>
                <a:latin typeface="굴림체"/>
              </a:rPr>
              <a:t>Array Size </a:t>
            </a:r>
            <a:r>
              <a:rPr b="1" lang="ko-KR" sz="1800" spc="-1" strike="noStrike">
                <a:solidFill>
                  <a:srgbClr val="5531ae"/>
                </a:solidFill>
                <a:latin typeface="굴림체"/>
              </a:rPr>
              <a:t>에 도달되면 멈춤</a:t>
            </a: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1FC0A9-0EBF-4513-9D2B-5F1645BC80B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6" name=""/>
          <p:cNvGraphicFramePr/>
          <p:nvPr/>
        </p:nvGraphicFramePr>
        <p:xfrm>
          <a:off x="1217520" y="4102200"/>
          <a:ext cx="8586720" cy="271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7520" y="4102200"/>
                    <a:ext cx="8586720" cy="271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8" name=""/>
          <p:cNvSpPr/>
          <p:nvPr/>
        </p:nvSpPr>
        <p:spPr>
          <a:xfrm>
            <a:off x="2058120" y="243000"/>
            <a:ext cx="6727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19.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배타적 관계 모델에서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OUTER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조인 활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3536280" y="982800"/>
            <a:ext cx="2983320" cy="29185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ctr">
            <a:spAutoFit/>
          </a:bodyPr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계좌정보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# *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계좌번호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개설일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개설지점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비밀번호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실명확인여부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해지상태여부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상품종류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적용금리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400" spc="-1" strike="noStrike">
                <a:solidFill>
                  <a:srgbClr val="ff0033"/>
                </a:solidFill>
                <a:latin typeface="굴림체"/>
                <a:ea typeface="굴림체"/>
              </a:rPr>
              <a:t> </a:t>
            </a:r>
            <a:r>
              <a:rPr b="1" lang="ko-KR" sz="1400" spc="-1" strike="noStrike">
                <a:solidFill>
                  <a:srgbClr val="ff0033"/>
                </a:solidFill>
                <a:latin typeface="굴림체"/>
                <a:ea typeface="굴림체"/>
              </a:rPr>
              <a:t>*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400" spc="-1" strike="noStrike">
                <a:solidFill>
                  <a:srgbClr val="ff0033"/>
                </a:solidFill>
                <a:latin typeface="굴림체"/>
                <a:ea typeface="굴림체"/>
              </a:rPr>
              <a:t>고객번호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0033"/>
                </a:solidFill>
                <a:latin typeface="굴림체"/>
                <a:ea typeface="굴림체"/>
              </a:rPr>
              <a:t>  </a:t>
            </a:r>
            <a:r>
              <a:rPr b="1" lang="ko-KR" sz="1400" spc="-1" strike="noStrike">
                <a:solidFill>
                  <a:srgbClr val="ff0033"/>
                </a:solidFill>
                <a:latin typeface="굴림체"/>
                <a:ea typeface="굴림체"/>
              </a:rPr>
              <a:t>* </a:t>
            </a:r>
            <a:r>
              <a:rPr b="1" lang="ko-KR" sz="1400" spc="-1" strike="noStrike">
                <a:solidFill>
                  <a:srgbClr val="ff0033"/>
                </a:solidFill>
                <a:latin typeface="굴림체"/>
                <a:ea typeface="굴림체"/>
              </a:rPr>
              <a:t>고객종류  </a:t>
            </a:r>
            <a:r>
              <a:rPr b="1" lang="ko-KR" sz="1400" spc="-1" strike="noStrike">
                <a:solidFill>
                  <a:srgbClr val="cc0000"/>
                </a:solidFill>
                <a:latin typeface="굴림체"/>
                <a:ea typeface="굴림체"/>
              </a:rPr>
              <a:t>&lt;- 1 or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3890880" y="1262160"/>
            <a:ext cx="2251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49F792-80A0-4450-8E19-A2BD198BD1FF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"/>
          <p:cNvSpPr/>
          <p:nvPr/>
        </p:nvSpPr>
        <p:spPr>
          <a:xfrm>
            <a:off x="2058120" y="243000"/>
            <a:ext cx="6727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19.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배타적 관계 모델에서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OUTER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조인 활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347760" y="1042920"/>
            <a:ext cx="312732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1763280" y="1192320"/>
            <a:ext cx="5517360" cy="157572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 A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계좌번호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, A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개설일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, B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개인고객명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, C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법인고객명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FROM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계좌정보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A,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개인고객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B,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법인고객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WHERE   A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개설일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LIKE  '199503%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AND</a:t>
            </a: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   A.</a:t>
            </a: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고객번호  </a:t>
            </a: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=  B.</a:t>
            </a: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고객번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AND   A.</a:t>
            </a: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고객번호  </a:t>
            </a: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=  C.</a:t>
            </a: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고객번호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ORDER BY   A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개설일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1763280" y="2887560"/>
            <a:ext cx="5517360" cy="157572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 A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계좌번호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, A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개설일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, B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개인고객명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, C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법인고객명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FROM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계좌정보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A,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개인고객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B,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법인고객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WHERE   A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개설일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LIKE  '199503%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AND</a:t>
            </a: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   ( A.</a:t>
            </a: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고객번호 </a:t>
            </a: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=  B.</a:t>
            </a: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고객번호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        </a:t>
            </a: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OR A.</a:t>
            </a: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고객번호 </a:t>
            </a: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=  C.</a:t>
            </a: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고객번호 </a:t>
            </a: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ORDER BY   A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개설일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1758600" y="5103720"/>
            <a:ext cx="5517360" cy="157572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 A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계좌번호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, A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개설일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, B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개인고객명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, C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법인고객명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FROM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계좌정보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A,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개인고객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B,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법인고객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WHERE   A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개설일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LIKE  '199503%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AND </a:t>
            </a:r>
            <a:r>
              <a:rPr b="1" lang="ko-KR" sz="1600" spc="-1" strike="noStrike">
                <a:solidFill>
                  <a:srgbClr val="ff0033"/>
                </a:solidFill>
                <a:latin typeface="굴림체"/>
                <a:ea typeface="굴림체"/>
              </a:rPr>
              <a:t>  A.</a:t>
            </a:r>
            <a:r>
              <a:rPr b="1" lang="ko-KR" sz="1600" spc="-1" strike="noStrike">
                <a:solidFill>
                  <a:srgbClr val="ff0033"/>
                </a:solidFill>
                <a:latin typeface="굴림체"/>
                <a:ea typeface="굴림체"/>
              </a:rPr>
              <a:t>고객번호 </a:t>
            </a:r>
            <a:r>
              <a:rPr b="1" lang="ko-KR" sz="1600" spc="-1" strike="noStrike">
                <a:solidFill>
                  <a:srgbClr val="ff0033"/>
                </a:solidFill>
                <a:latin typeface="굴림체"/>
                <a:ea typeface="굴림체"/>
              </a:rPr>
              <a:t>=  B.</a:t>
            </a:r>
            <a:r>
              <a:rPr b="1" lang="ko-KR" sz="1600" spc="-1" strike="noStrike">
                <a:solidFill>
                  <a:srgbClr val="ff0033"/>
                </a:solidFill>
                <a:latin typeface="굴림체"/>
                <a:ea typeface="굴림체"/>
              </a:rPr>
              <a:t>고객번호</a:t>
            </a:r>
            <a:r>
              <a:rPr b="1" lang="ko-KR" sz="1600" spc="-1" strike="noStrike">
                <a:solidFill>
                  <a:srgbClr val="ff0033"/>
                </a:solidFill>
                <a:latin typeface="굴림체"/>
                <a:ea typeface="굴림체"/>
              </a:rPr>
              <a:t>(+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ff0033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ff0033"/>
                </a:solidFill>
                <a:latin typeface="굴림체"/>
                <a:ea typeface="굴림체"/>
              </a:rPr>
              <a:t>AND   A.</a:t>
            </a:r>
            <a:r>
              <a:rPr b="1" lang="ko-KR" sz="1600" spc="-1" strike="noStrike">
                <a:solidFill>
                  <a:srgbClr val="ff0033"/>
                </a:solidFill>
                <a:latin typeface="굴림체"/>
                <a:ea typeface="굴림체"/>
              </a:rPr>
              <a:t>고객번호 </a:t>
            </a:r>
            <a:r>
              <a:rPr b="1" lang="ko-KR" sz="1600" spc="-1" strike="noStrike">
                <a:solidFill>
                  <a:srgbClr val="ff0033"/>
                </a:solidFill>
                <a:latin typeface="굴림체"/>
                <a:ea typeface="굴림체"/>
              </a:rPr>
              <a:t>=  C.</a:t>
            </a:r>
            <a:r>
              <a:rPr b="1" lang="ko-KR" sz="1600" spc="-1" strike="noStrike">
                <a:solidFill>
                  <a:srgbClr val="ff0033"/>
                </a:solidFill>
                <a:latin typeface="굴림체"/>
                <a:ea typeface="굴림체"/>
              </a:rPr>
              <a:t>고객번호</a:t>
            </a:r>
            <a:r>
              <a:rPr b="1" lang="ko-KR" sz="1600" spc="-1" strike="noStrike">
                <a:solidFill>
                  <a:srgbClr val="ff0033"/>
                </a:solidFill>
                <a:latin typeface="굴림체"/>
                <a:ea typeface="굴림체"/>
              </a:rPr>
              <a:t>(+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ORDER BY   A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개설일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347760" y="4707000"/>
            <a:ext cx="312732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해결 방안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6108840" y="1935000"/>
            <a:ext cx="2209680" cy="57924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6320" rIns="76320" tIns="46080" bIns="4608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 </a:t>
            </a:r>
            <a:r>
              <a:rPr b="1" lang="ko-KR" sz="1600" spc="-1" strike="noStrike">
                <a:solidFill>
                  <a:srgbClr val="330099"/>
                </a:solidFill>
                <a:latin typeface="굴림체"/>
                <a:ea typeface="굴림체"/>
              </a:rPr>
              <a:t>No Rows Selec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6184800" y="3652920"/>
            <a:ext cx="2210040" cy="57924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6320" rIns="76320" tIns="46080" bIns="4608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 </a:t>
            </a:r>
            <a:r>
              <a:rPr b="1" lang="ko-KR" sz="1600" spc="-1" strike="noStrike">
                <a:solidFill>
                  <a:srgbClr val="330099"/>
                </a:solidFill>
                <a:latin typeface="굴림체"/>
                <a:ea typeface="굴림체"/>
              </a:rPr>
              <a:t>(A=B)*C + (A=C)*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D06397-C1A8-491E-BE69-6C10BA976826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1455480" y="241200"/>
            <a:ext cx="817884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19.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배타적 관계 모델에서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OUTER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조인 활용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1004040" y="4576680"/>
            <a:ext cx="5540400" cy="189036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 A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계좌번호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, A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개설일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, B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개인고객명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, C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법인고객명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FROM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계좌정보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A,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개인고객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B,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법인고객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WHERE   A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개설일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LIKE  '199503%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ff0033"/>
                </a:solidFill>
                <a:latin typeface="굴림체"/>
                <a:ea typeface="굴림체"/>
              </a:rPr>
              <a:t>AND   A.</a:t>
            </a:r>
            <a:r>
              <a:rPr b="1" lang="ko-KR" sz="1600" spc="-1" strike="noStrike">
                <a:solidFill>
                  <a:srgbClr val="ff0033"/>
                </a:solidFill>
                <a:latin typeface="굴림체"/>
                <a:ea typeface="굴림체"/>
              </a:rPr>
              <a:t>개인고객번호 </a:t>
            </a:r>
            <a:r>
              <a:rPr b="1" lang="ko-KR" sz="1600" spc="-1" strike="noStrike">
                <a:solidFill>
                  <a:srgbClr val="ff0033"/>
                </a:solidFill>
                <a:latin typeface="굴림체"/>
                <a:ea typeface="굴림체"/>
              </a:rPr>
              <a:t>=  B.</a:t>
            </a:r>
            <a:r>
              <a:rPr b="1" lang="ko-KR" sz="1600" spc="-1" strike="noStrike">
                <a:solidFill>
                  <a:srgbClr val="ff0033"/>
                </a:solidFill>
                <a:latin typeface="굴림체"/>
                <a:ea typeface="굴림체"/>
              </a:rPr>
              <a:t>고객번호</a:t>
            </a:r>
            <a:r>
              <a:rPr b="1" lang="ko-KR" sz="1600" spc="-1" strike="noStrike">
                <a:solidFill>
                  <a:srgbClr val="ff0033"/>
                </a:solidFill>
                <a:latin typeface="굴림체"/>
                <a:ea typeface="굴림체"/>
              </a:rPr>
              <a:t>(+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ff0033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ff0033"/>
                </a:solidFill>
                <a:latin typeface="굴림체"/>
                <a:ea typeface="굴림체"/>
              </a:rPr>
              <a:t>AND   A.</a:t>
            </a:r>
            <a:r>
              <a:rPr b="1" lang="ko-KR" sz="1600" spc="-1" strike="noStrike">
                <a:solidFill>
                  <a:srgbClr val="ff0033"/>
                </a:solidFill>
                <a:latin typeface="굴림체"/>
                <a:ea typeface="굴림체"/>
              </a:rPr>
              <a:t>법인고객번호 </a:t>
            </a:r>
            <a:r>
              <a:rPr b="1" lang="ko-KR" sz="1600" spc="-1" strike="noStrike">
                <a:solidFill>
                  <a:srgbClr val="ff0033"/>
                </a:solidFill>
                <a:latin typeface="굴림체"/>
                <a:ea typeface="굴림체"/>
              </a:rPr>
              <a:t>=  C.</a:t>
            </a:r>
            <a:r>
              <a:rPr b="1" lang="ko-KR" sz="1600" spc="-1" strike="noStrike">
                <a:solidFill>
                  <a:srgbClr val="ff0033"/>
                </a:solidFill>
                <a:latin typeface="굴림체"/>
                <a:ea typeface="굴림체"/>
              </a:rPr>
              <a:t>고객번호</a:t>
            </a:r>
            <a:r>
              <a:rPr b="1" lang="ko-KR" sz="1600" spc="-1" strike="noStrike">
                <a:solidFill>
                  <a:srgbClr val="ff0033"/>
                </a:solidFill>
                <a:latin typeface="굴림체"/>
                <a:ea typeface="굴림체"/>
              </a:rPr>
              <a:t>(+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ORDER BY  A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개설일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1" name=""/>
          <p:cNvGrpSpPr/>
          <p:nvPr/>
        </p:nvGrpSpPr>
        <p:grpSpPr>
          <a:xfrm>
            <a:off x="1991520" y="1063800"/>
            <a:ext cx="2406960" cy="2939760"/>
            <a:chOff x="1991520" y="1063800"/>
            <a:chExt cx="2406960" cy="2939760"/>
          </a:xfrm>
        </p:grpSpPr>
        <p:sp>
          <p:nvSpPr>
            <p:cNvPr id="892" name=""/>
            <p:cNvSpPr/>
            <p:nvPr/>
          </p:nvSpPr>
          <p:spPr>
            <a:xfrm>
              <a:off x="1991520" y="1063800"/>
              <a:ext cx="2406960" cy="293976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0" bIns="0" anchor="ctr">
              <a:spAutoFit/>
            </a:bodyPr>
            <a:p>
              <a:pPr marL="343080" indent="-343080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 </a:t>
              </a: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계좌정보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# * </a:t>
              </a: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계좌번호    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 </a:t>
              </a: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개설일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 </a:t>
              </a: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개설지점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 </a:t>
              </a: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비밀번호    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 </a:t>
              </a: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실명확인여부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 </a:t>
              </a: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해지상태여부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 </a:t>
              </a: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상품종류    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 </a:t>
              </a: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적용금리     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 </a:t>
              </a:r>
              <a:r>
                <a:rPr b="1" lang="ko-KR" sz="1400" spc="-1" strike="noStrike">
                  <a:solidFill>
                    <a:srgbClr val="ff3300"/>
                  </a:solidFill>
                  <a:latin typeface="굴림체"/>
                  <a:ea typeface="굴림체"/>
                </a:rPr>
                <a:t>개인고객번호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3300"/>
                  </a:solidFill>
                  <a:latin typeface="굴림체"/>
                  <a:ea typeface="굴림체"/>
                </a:rPr>
                <a:t>    </a:t>
              </a:r>
              <a:r>
                <a:rPr b="1" lang="ko-KR" sz="1400" spc="-1" strike="noStrike">
                  <a:solidFill>
                    <a:srgbClr val="ff3300"/>
                  </a:solidFill>
                  <a:latin typeface="굴림체"/>
                  <a:ea typeface="굴림체"/>
                </a:rPr>
                <a:t>법인고객번호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2295360" y="1352520"/>
              <a:ext cx="1785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347760" y="1181160"/>
            <a:ext cx="312732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CAS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363600" y="4111560"/>
            <a:ext cx="312732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해결 방안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C77DB6-4A64-46E2-A941-F35BE7ECA35B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"/>
          <p:cNvSpPr/>
          <p:nvPr/>
        </p:nvSpPr>
        <p:spPr>
          <a:xfrm>
            <a:off x="561960" y="1592280"/>
            <a:ext cx="5531040" cy="2710440"/>
          </a:xfrm>
          <a:prstGeom prst="roundRect">
            <a:avLst>
              <a:gd name="adj" fmla="val 939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A.COL1,  A.COL2,  B.COL3,  B.COL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TAB1  A,  TAB2 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 A.PK1  =  B.PK1 (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 A.PK2  =  B.PK2 (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(  A.COL5  =  'AAAA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     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OR  A.COL5  =  'BBBB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     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OR  A.COL5  =  'CCCC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     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OR  A.COL5  =  'DDDD' )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29880" y="243000"/>
            <a:ext cx="6291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20.  OR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와 같이 사용하는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OUTER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조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345960" y="1106640"/>
            <a:ext cx="150336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320760" y="4833360"/>
            <a:ext cx="6691320" cy="1253520"/>
          </a:xfrm>
          <a:prstGeom prst="roundRect">
            <a:avLst>
              <a:gd name="adj" fmla="val 1249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285840" indent="-285840">
              <a:lnSpc>
                <a:spcPct val="12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해결방안 </a:t>
            </a: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5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1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각각의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OR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단위로 낱개의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QL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로 분리한뒤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UNION ALL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을 사용하여 모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5070600" y="2371680"/>
            <a:ext cx="4417920" cy="252612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cc0000"/>
                </a:solidFill>
                <a:latin typeface="굴림체"/>
                <a:ea typeface="굴림체"/>
              </a:rPr>
              <a:t>EXECUTION PL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---------------------------------------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SELECT STAT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FIL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NESTED LOOPS OU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TABLE ACCESS </a:t>
            </a:r>
            <a:r>
              <a:rPr b="1" lang="ko-KR" sz="1600" spc="-1" strike="noStrike">
                <a:solidFill>
                  <a:srgbClr val="ff3300"/>
                </a:solidFill>
                <a:latin typeface="굴림체"/>
                <a:ea typeface="굴림체"/>
              </a:rPr>
              <a:t>FULL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:TA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TABLE ACCESS BY ROWID :TAB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INDEX UNIQUE SCAN :TAB2_PK1+PK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8805600" y="3606840"/>
            <a:ext cx="677160" cy="6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20000"/>
              <a:buFont typeface="Wingdings" charset="2"/>
              <a:buChar char="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700" spc="-1" strike="noStrike">
                <a:solidFill>
                  <a:srgbClr val="3333cc"/>
                </a:solidFill>
                <a:latin typeface="굴림체"/>
                <a:ea typeface="굴림체"/>
              </a:rPr>
              <a:t> </a:t>
            </a:r>
            <a:r>
              <a:rPr b="1" lang="ko-KR" sz="1700" spc="-1" strike="noStrike">
                <a:solidFill>
                  <a:srgbClr val="3333cc"/>
                </a:solidFill>
                <a:latin typeface="굴림체"/>
                <a:ea typeface="굴림체"/>
              </a:rPr>
              <a:t>A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20000"/>
              <a:buFont typeface="Wingdings" charset="2"/>
              <a:buChar char="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700" spc="-1" strike="noStrike">
                <a:solidFill>
                  <a:srgbClr val="3333cc"/>
                </a:solidFill>
                <a:latin typeface="굴림체"/>
                <a:ea typeface="굴림체"/>
              </a:rPr>
              <a:t> </a:t>
            </a:r>
            <a:r>
              <a:rPr b="1" lang="ko-KR" sz="1700" spc="-1" strike="noStrike">
                <a:solidFill>
                  <a:srgbClr val="3333cc"/>
                </a:solidFill>
                <a:latin typeface="굴림체"/>
                <a:ea typeface="굴림체"/>
              </a:rPr>
              <a:t>B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DB3180-57C0-42CF-A3A6-3E20B79314FD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"/>
          <p:cNvSpPr/>
          <p:nvPr/>
        </p:nvSpPr>
        <p:spPr>
          <a:xfrm>
            <a:off x="604800" y="985680"/>
            <a:ext cx="3510000" cy="4221360"/>
          </a:xfrm>
          <a:custGeom>
            <a:avLst/>
            <a:gdLst>
              <a:gd name="textAreaLeft" fmla="*/ 93960 w 3510000"/>
              <a:gd name="textAreaRight" fmla="*/ 3416040 w 3510000"/>
              <a:gd name="textAreaTop" fmla="*/ 93960 h 4221360"/>
              <a:gd name="textAreaBottom" fmla="*/ 4127400 h 4221360"/>
            </a:gdLst>
            <a:ahLst/>
            <a:rect l="textAreaLeft" t="textAreaTop" r="textAreaRight" b="textAreaBottom"/>
            <a:pathLst>
              <a:path w="21600" h="25977">
                <a:moveTo>
                  <a:pt x="1975" y="0"/>
                </a:moveTo>
                <a:arcTo wR="1975" hR="1975" stAng="16200000" swAng="-5400000"/>
                <a:lnTo>
                  <a:pt x="0" y="24002"/>
                </a:lnTo>
                <a:arcTo wR="1975" hR="1975" stAng="10800000" swAng="-5400000"/>
                <a:lnTo>
                  <a:pt x="19625" y="25977"/>
                </a:lnTo>
                <a:arcTo wR="1975" hR="1975" stAng="5400000" swAng="-5400000"/>
                <a:lnTo>
                  <a:pt x="21600" y="1975"/>
                </a:lnTo>
                <a:arcTo wR="1975" hR="1975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285840" indent="-285840">
              <a:lnSpc>
                <a:spcPct val="12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</a:t>
            </a:r>
            <a:r>
              <a:rPr b="1" lang="ko-KR" sz="1600" spc="-1" strike="noStrike">
                <a:solidFill>
                  <a:srgbClr val="ff0033"/>
                </a:solidFill>
                <a:latin typeface="Modern"/>
                <a:ea typeface="굴림체"/>
              </a:rPr>
              <a:t>--+</a:t>
            </a:r>
            <a:r>
              <a:rPr b="1" lang="ko-KR" sz="1600" spc="-1" strike="noStrike">
                <a:solidFill>
                  <a:srgbClr val="ff0033"/>
                </a:solidFill>
                <a:latin typeface="굴림체"/>
                <a:ea typeface="굴림체"/>
              </a:rPr>
              <a:t> USE_CONC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A.COL1,  A.COL2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B.COL3,  B.COL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FROM  TAB1  A,  TAB2 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WHERE  A.PK1  =  B.PK1 (+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AND  A.PK2  =  B.PK2 (+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AND  ( A.COL5  =  'AAAA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OR A.COL5  =  'BBBB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OR A.COL5  =  'CCCC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OR A.COL5  =  'DDDD' ) 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1829880" y="243000"/>
            <a:ext cx="6291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20.  OR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와 같이 사용하는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OUTER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조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4246560" y="1008000"/>
            <a:ext cx="5226120" cy="753444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cc0000"/>
                </a:solidFill>
                <a:latin typeface="굴림체"/>
                <a:ea typeface="굴림체"/>
              </a:rPr>
              <a:t>EXECUTE PL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-----------------------------------------------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SELECT STAT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FIL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1" lang="ko-KR" sz="1600" spc="-1" strike="noStrike">
                <a:solidFill>
                  <a:srgbClr val="ff3300"/>
                </a:solidFill>
                <a:latin typeface="굴림체"/>
                <a:ea typeface="굴림체"/>
              </a:rPr>
              <a:t>CONCATEN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NESTED  LOOPS OU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TABLE  ACCESS  BY  ROWID  TA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INDEX  RANGE_SCAN  OF  TAB1_COL5_ID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TABLE  ACCESS  BY  ROWID  TAB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INDEX UNIQUE SCAN :TAB2_PK1+PK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NESTED  LOOPS OU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TABLE  ACCESS  BY  ROWID  TA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INDEX  RANGE_SCAN  OF  TAB1_COL5_ID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TABLE  ACCESS  BY  ROWID  TAB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INDEX UNIQUE SCAN :TAB2_PK1+PK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NESTED  LOOPS OU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TABLE  ACCESS  BY  ROWID  TA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INDEX  RANGE_SCAN  OF  TAB1_COL5_ID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TABLE  ACCESS  BY  ROWID  TAB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INDEX UNIQUE SCAN :TAB2_PK1+PK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NESTED  LOOPS OU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TABLE  ACCESS  BY  ROWID  TA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INDEX  RANGE_SCAN  OF  TAB1_COL5_ID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TABLE  ACCESS  BY  ROWID  TAB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INDEX UNIQUE SCAN :TAB2_PK1+PK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8712000" y="2125800"/>
            <a:ext cx="67716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80000"/>
              </a:lnSpc>
              <a:buClr>
                <a:srgbClr val="000000"/>
              </a:buClr>
              <a:buSzPct val="120000"/>
              <a:buFont typeface="Wingdings" charset="2"/>
              <a:buChar char="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700" spc="-1" strike="noStrike">
                <a:solidFill>
                  <a:srgbClr val="3333cc"/>
                </a:solidFill>
                <a:latin typeface="굴림체"/>
                <a:ea typeface="굴림체"/>
              </a:rPr>
              <a:t> </a:t>
            </a:r>
            <a:r>
              <a:rPr b="1" lang="ko-KR" sz="1700" spc="-1" strike="noStrike">
                <a:solidFill>
                  <a:srgbClr val="3333cc"/>
                </a:solidFill>
                <a:latin typeface="굴림체"/>
                <a:ea typeface="굴림체"/>
              </a:rPr>
              <a:t>A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buClr>
                <a:srgbClr val="000000"/>
              </a:buClr>
              <a:buSzPct val="120000"/>
              <a:buFont typeface="Wingdings" charset="2"/>
              <a:buChar char="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700" spc="-1" strike="noStrike">
                <a:solidFill>
                  <a:srgbClr val="3333cc"/>
                </a:solidFill>
                <a:latin typeface="굴림체"/>
                <a:ea typeface="굴림체"/>
              </a:rPr>
              <a:t> </a:t>
            </a:r>
            <a:r>
              <a:rPr b="1" lang="ko-KR" sz="1700" spc="-1" strike="noStrike">
                <a:solidFill>
                  <a:srgbClr val="3333cc"/>
                </a:solidFill>
                <a:latin typeface="굴림체"/>
                <a:ea typeface="굴림체"/>
              </a:rPr>
              <a:t>B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462240" y="1204920"/>
            <a:ext cx="140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해결방안 </a:t>
            </a: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E08110-526F-4564-9671-DF5A639772BC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7" name=""/>
          <p:cNvGrpSpPr/>
          <p:nvPr/>
        </p:nvGrpSpPr>
        <p:grpSpPr>
          <a:xfrm>
            <a:off x="4344840" y="1811160"/>
            <a:ext cx="1298880" cy="185760"/>
            <a:chOff x="4344840" y="1811160"/>
            <a:chExt cx="1298880" cy="185760"/>
          </a:xfrm>
        </p:grpSpPr>
        <p:sp>
          <p:nvSpPr>
            <p:cNvPr id="908" name=""/>
            <p:cNvSpPr/>
            <p:nvPr/>
          </p:nvSpPr>
          <p:spPr>
            <a:xfrm>
              <a:off x="4344840" y="1905120"/>
              <a:ext cx="72072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 flipV="1">
              <a:off x="4987800" y="1901520"/>
              <a:ext cx="65592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5468760" y="1811160"/>
              <a:ext cx="140040" cy="185760"/>
            </a:xfrm>
            <a:custGeom>
              <a:avLst/>
              <a:gdLst/>
              <a:ahLst/>
              <a:rect l="l" t="t" r="r" b="b"/>
              <a:pathLst>
                <a:path w="88" h="117">
                  <a:moveTo>
                    <a:pt x="87" y="0"/>
                  </a:moveTo>
                  <a:lnTo>
                    <a:pt x="0" y="58"/>
                  </a:lnTo>
                  <a:lnTo>
                    <a:pt x="87" y="11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5394240" y="1811160"/>
              <a:ext cx="0" cy="17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2" name=""/>
          <p:cNvGrpSpPr/>
          <p:nvPr/>
        </p:nvGrpSpPr>
        <p:grpSpPr>
          <a:xfrm>
            <a:off x="2750760" y="5095800"/>
            <a:ext cx="4558680" cy="1538280"/>
            <a:chOff x="2750760" y="5095800"/>
            <a:chExt cx="4558680" cy="1538280"/>
          </a:xfrm>
        </p:grpSpPr>
        <p:sp>
          <p:nvSpPr>
            <p:cNvPr id="913" name=""/>
            <p:cNvSpPr/>
            <p:nvPr/>
          </p:nvSpPr>
          <p:spPr>
            <a:xfrm>
              <a:off x="2750760" y="5095800"/>
              <a:ext cx="4558680" cy="1538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76320" bIns="763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</a:t>
              </a: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READING_ID   DATE   VALUE   REVISION_NO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</a:t>
              </a:r>
              <a:r>
                <a:rPr b="1" lang="ko-KR" sz="14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100      960510   108         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   </a:t>
              </a:r>
              <a:r>
                <a:rPr b="1" lang="ko-KR" sz="1400" spc="-1" strike="noStrike">
                  <a:solidFill>
                    <a:srgbClr val="ff0033"/>
                  </a:solidFill>
                  <a:latin typeface="굴림체"/>
                  <a:ea typeface="굴림체"/>
                </a:rPr>
                <a:t>101      960502   110         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   </a:t>
              </a:r>
              <a:r>
                <a:rPr b="1" lang="ko-KR" sz="14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102      960509   110         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   </a:t>
              </a:r>
              <a:r>
                <a:rPr b="1" lang="ko-KR" sz="14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103      960508   212         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   </a:t>
              </a:r>
              <a:r>
                <a:rPr b="1" lang="ko-KR" sz="1400" spc="-1" strike="noStrike">
                  <a:solidFill>
                    <a:srgbClr val="ff0033"/>
                  </a:solidFill>
                  <a:latin typeface="굴림체"/>
                  <a:ea typeface="굴림체"/>
                </a:rPr>
                <a:t>104      960504   150         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3097080" y="5400720"/>
              <a:ext cx="3859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5" name=""/>
          <p:cNvSpPr/>
          <p:nvPr/>
        </p:nvSpPr>
        <p:spPr>
          <a:xfrm>
            <a:off x="4464000" y="4627440"/>
            <a:ext cx="996840" cy="320760"/>
          </a:xfrm>
          <a:prstGeom prst="downArrow">
            <a:avLst>
              <a:gd name="adj1" fmla="val 50000"/>
              <a:gd name="adj2" fmla="val 50005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1829880" y="243000"/>
            <a:ext cx="6704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21.  NULL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의 잘못된 사용과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OUTER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조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7" name=""/>
          <p:cNvGrpSpPr/>
          <p:nvPr/>
        </p:nvGrpSpPr>
        <p:grpSpPr>
          <a:xfrm>
            <a:off x="2244600" y="1059120"/>
            <a:ext cx="2111400" cy="1594800"/>
            <a:chOff x="2244600" y="1059120"/>
            <a:chExt cx="2111400" cy="1594800"/>
          </a:xfrm>
        </p:grpSpPr>
        <p:sp>
          <p:nvSpPr>
            <p:cNvPr id="918" name=""/>
            <p:cNvSpPr/>
            <p:nvPr/>
          </p:nvSpPr>
          <p:spPr>
            <a:xfrm>
              <a:off x="2260800" y="1059120"/>
              <a:ext cx="2088360" cy="159480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38160" bIns="38160" anchor="ctr">
              <a:spAutoFit/>
            </a:bodyPr>
            <a:p>
              <a:pPr>
                <a:lnSpc>
                  <a:spcPct val="16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600" spc="-1" strike="noStrike">
                  <a:solidFill>
                    <a:srgbClr val="000000"/>
                  </a:solidFill>
                  <a:latin typeface="Arial"/>
                  <a:ea typeface="굴림체"/>
                </a:rPr>
                <a:t>SENSOR_READ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8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</a:t>
              </a: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# * READING_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   </a:t>
              </a: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DAT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   </a:t>
              </a: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VALU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2244600" y="1503360"/>
              <a:ext cx="2111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0" name=""/>
          <p:cNvGrpSpPr/>
          <p:nvPr/>
        </p:nvGrpSpPr>
        <p:grpSpPr>
          <a:xfrm>
            <a:off x="5369400" y="1058760"/>
            <a:ext cx="3111120" cy="1552320"/>
            <a:chOff x="5369400" y="1058760"/>
            <a:chExt cx="3111120" cy="1552320"/>
          </a:xfrm>
        </p:grpSpPr>
        <p:sp>
          <p:nvSpPr>
            <p:cNvPr id="921" name=""/>
            <p:cNvSpPr/>
            <p:nvPr/>
          </p:nvSpPr>
          <p:spPr>
            <a:xfrm>
              <a:off x="5369400" y="1058760"/>
              <a:ext cx="3111120" cy="155232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38160" bIns="38160" anchor="ctr">
              <a:spAutoFit/>
            </a:bodyPr>
            <a:p>
              <a:pPr>
                <a:lnSpc>
                  <a:spcPct val="16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6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SENSOR_READING_REVISION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8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</a:t>
              </a: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# *  READING_ID ( FK 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</a:t>
              </a: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# *  REVISION_N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    </a:t>
              </a: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DAT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    </a:t>
              </a: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VALU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5592600" y="1503360"/>
              <a:ext cx="2640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3" name=""/>
          <p:cNvSpPr/>
          <p:nvPr/>
        </p:nvSpPr>
        <p:spPr>
          <a:xfrm>
            <a:off x="287640" y="1204920"/>
            <a:ext cx="1213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562680" y="5016600"/>
            <a:ext cx="135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원하는 결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277200" y="3065400"/>
            <a:ext cx="135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6" name=""/>
          <p:cNvGrpSpPr/>
          <p:nvPr/>
        </p:nvGrpSpPr>
        <p:grpSpPr>
          <a:xfrm>
            <a:off x="4319640" y="3728880"/>
            <a:ext cx="1298520" cy="185760"/>
            <a:chOff x="4319640" y="3728880"/>
            <a:chExt cx="1298520" cy="185760"/>
          </a:xfrm>
        </p:grpSpPr>
        <p:sp>
          <p:nvSpPr>
            <p:cNvPr id="927" name=""/>
            <p:cNvSpPr/>
            <p:nvPr/>
          </p:nvSpPr>
          <p:spPr>
            <a:xfrm>
              <a:off x="4319640" y="3822840"/>
              <a:ext cx="72072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 flipV="1">
              <a:off x="4962600" y="3819240"/>
              <a:ext cx="65556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5443560" y="3728880"/>
              <a:ext cx="139680" cy="185760"/>
            </a:xfrm>
            <a:custGeom>
              <a:avLst/>
              <a:gdLst/>
              <a:ahLst/>
              <a:rect l="l" t="t" r="r" b="b"/>
              <a:pathLst>
                <a:path w="88" h="117">
                  <a:moveTo>
                    <a:pt x="87" y="0"/>
                  </a:moveTo>
                  <a:lnTo>
                    <a:pt x="0" y="58"/>
                  </a:lnTo>
                  <a:lnTo>
                    <a:pt x="87" y="11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5369040" y="3728880"/>
              <a:ext cx="0" cy="17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1" name=""/>
          <p:cNvGrpSpPr/>
          <p:nvPr/>
        </p:nvGrpSpPr>
        <p:grpSpPr>
          <a:xfrm>
            <a:off x="1862640" y="2908440"/>
            <a:ext cx="2851920" cy="1538280"/>
            <a:chOff x="1862640" y="2908440"/>
            <a:chExt cx="2851920" cy="1538280"/>
          </a:xfrm>
        </p:grpSpPr>
        <p:sp>
          <p:nvSpPr>
            <p:cNvPr id="932" name=""/>
            <p:cNvSpPr/>
            <p:nvPr/>
          </p:nvSpPr>
          <p:spPr>
            <a:xfrm>
              <a:off x="1862640" y="2908440"/>
              <a:ext cx="2851920" cy="1538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76320" bIns="763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READING_ID   DATE   VALU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</a:t>
              </a:r>
              <a:r>
                <a:rPr b="1" lang="ko-KR" sz="14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100</a:t>
              </a: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   960501   1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i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</a:t>
              </a:r>
              <a:r>
                <a:rPr b="1" lang="ko-KR" sz="1400" spc="-1" strike="noStrike">
                  <a:solidFill>
                    <a:srgbClr val="ff0033"/>
                  </a:solidFill>
                  <a:latin typeface="굴림체"/>
                  <a:ea typeface="굴림체"/>
                </a:rPr>
                <a:t>101      960502   11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</a:t>
              </a:r>
              <a:r>
                <a:rPr b="1" lang="ko-KR" sz="14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102</a:t>
              </a: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   060502   10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</a:t>
              </a:r>
              <a:r>
                <a:rPr b="1" lang="ko-KR" sz="14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103</a:t>
              </a: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   960503   2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i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</a:t>
              </a:r>
              <a:r>
                <a:rPr b="1" lang="ko-KR" sz="1400" spc="-1" strike="noStrike">
                  <a:solidFill>
                    <a:srgbClr val="ff0033"/>
                  </a:solidFill>
                  <a:latin typeface="굴림체"/>
                  <a:ea typeface="굴림체"/>
                </a:rPr>
                <a:t>104      960504   15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2082960" y="3224160"/>
              <a:ext cx="2417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4" name=""/>
          <p:cNvGrpSpPr/>
          <p:nvPr/>
        </p:nvGrpSpPr>
        <p:grpSpPr>
          <a:xfrm>
            <a:off x="5253120" y="2881440"/>
            <a:ext cx="4239000" cy="1751400"/>
            <a:chOff x="5253120" y="2881440"/>
            <a:chExt cx="4239000" cy="1751400"/>
          </a:xfrm>
        </p:grpSpPr>
        <p:sp>
          <p:nvSpPr>
            <p:cNvPr id="935" name=""/>
            <p:cNvSpPr/>
            <p:nvPr/>
          </p:nvSpPr>
          <p:spPr>
            <a:xfrm>
              <a:off x="5253120" y="2881440"/>
              <a:ext cx="4239000" cy="1751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76320" bIns="763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READING_ID  REVISION_NO   DATE   VALU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</a:t>
              </a: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100           1       960504   10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</a:t>
              </a: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100           2       960506   11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i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</a:t>
              </a:r>
              <a:r>
                <a:rPr b="1" lang="ko-KR" sz="14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100           3       960510   10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</a:t>
              </a:r>
              <a:r>
                <a:rPr b="1" lang="ko-KR" sz="14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102           1       960509   11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</a:t>
              </a: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103           1       960503   20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i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</a:t>
              </a:r>
              <a:r>
                <a:rPr b="1" lang="ko-KR" sz="14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103           2       960508   21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5575320" y="3182760"/>
              <a:ext cx="3591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950F18-C829-4149-8C41-C5B02CF09A03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"/>
          <p:cNvSpPr/>
          <p:nvPr/>
        </p:nvSpPr>
        <p:spPr>
          <a:xfrm>
            <a:off x="-410400" y="1506600"/>
            <a:ext cx="8769240" cy="2274840"/>
          </a:xfrm>
          <a:prstGeom prst="roundRect">
            <a:avLst>
              <a:gd name="adj" fmla="val 6042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A.READING_ID,  NVL(B.DATE, A.DATE )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NVL (B.VALUE, A.VALUE),  NVL(B.REVISION_NO, 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SENSOR_READING  A,  SENSOR_READING_REVISION 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 A.READING_ID  =  B.READING_ID (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B.READING_ID  ||  B.REVISION_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IN (SELECT  READING_ID  ||  MAX ( REVISION_NO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SENSOR_READING_REVI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GROUP BY  READING_ID)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1829880" y="243000"/>
            <a:ext cx="6704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21.  NULL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의 잘못된 사용과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OUTER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조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250920" y="1027080"/>
            <a:ext cx="237816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0" name=""/>
          <p:cNvGrpSpPr/>
          <p:nvPr/>
        </p:nvGrpSpPr>
        <p:grpSpPr>
          <a:xfrm>
            <a:off x="1544040" y="4359240"/>
            <a:ext cx="4558680" cy="1538280"/>
            <a:chOff x="1544040" y="4359240"/>
            <a:chExt cx="4558680" cy="1538280"/>
          </a:xfrm>
        </p:grpSpPr>
        <p:sp>
          <p:nvSpPr>
            <p:cNvPr id="941" name=""/>
            <p:cNvSpPr/>
            <p:nvPr/>
          </p:nvSpPr>
          <p:spPr>
            <a:xfrm>
              <a:off x="1544040" y="4359240"/>
              <a:ext cx="4558680" cy="1538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76320" bIns="763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</a:t>
              </a: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READING_ID   DATE   VALUE   REVISION_NO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</a:t>
              </a:r>
              <a:r>
                <a:rPr b="1" lang="ko-KR" sz="14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100      960510   108         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   </a:t>
              </a:r>
              <a:r>
                <a:rPr b="1" lang="ko-KR" sz="1400" spc="-1" strike="noStrike">
                  <a:solidFill>
                    <a:srgbClr val="ff0033"/>
                  </a:solidFill>
                  <a:latin typeface="굴림체"/>
                  <a:ea typeface="굴림체"/>
                </a:rPr>
                <a:t>101      960502   110         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   </a:t>
              </a:r>
              <a:r>
                <a:rPr b="1" lang="ko-KR" sz="14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102      960509   110         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   </a:t>
              </a:r>
              <a:r>
                <a:rPr b="1" lang="ko-KR" sz="14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103      960508   212         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   </a:t>
              </a:r>
              <a:r>
                <a:rPr b="1" lang="ko-KR" sz="1400" spc="-1" strike="noStrike">
                  <a:solidFill>
                    <a:srgbClr val="ff0033"/>
                  </a:solidFill>
                  <a:latin typeface="굴림체"/>
                  <a:ea typeface="굴림체"/>
                </a:rPr>
                <a:t>104      960504   150         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1890720" y="4664160"/>
              <a:ext cx="3859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3" name=""/>
          <p:cNvGrpSpPr/>
          <p:nvPr/>
        </p:nvGrpSpPr>
        <p:grpSpPr>
          <a:xfrm>
            <a:off x="5213520" y="5079960"/>
            <a:ext cx="801360" cy="609480"/>
            <a:chOff x="5213520" y="5079960"/>
            <a:chExt cx="801360" cy="609480"/>
          </a:xfrm>
        </p:grpSpPr>
        <p:sp>
          <p:nvSpPr>
            <p:cNvPr id="944" name=""/>
            <p:cNvSpPr/>
            <p:nvPr/>
          </p:nvSpPr>
          <p:spPr>
            <a:xfrm>
              <a:off x="5213520" y="5079960"/>
              <a:ext cx="801360" cy="0"/>
            </a:xfrm>
            <a:prstGeom prst="line">
              <a:avLst/>
            </a:prstGeom>
            <a:ln w="25560">
              <a:solidFill>
                <a:srgbClr val="330099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5213520" y="5689440"/>
              <a:ext cx="801360" cy="0"/>
            </a:xfrm>
            <a:prstGeom prst="line">
              <a:avLst/>
            </a:prstGeom>
            <a:ln w="25560">
              <a:solidFill>
                <a:srgbClr val="330099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6" name=""/>
          <p:cNvSpPr/>
          <p:nvPr/>
        </p:nvSpPr>
        <p:spPr>
          <a:xfrm>
            <a:off x="5955480" y="4924440"/>
            <a:ext cx="320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ff3300"/>
                </a:solidFill>
                <a:latin typeface="Arial"/>
                <a:ea typeface="굴림체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5968440" y="5521320"/>
            <a:ext cx="320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ff3300"/>
                </a:solidFill>
                <a:latin typeface="Arial"/>
                <a:ea typeface="굴림체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6281640" y="5172120"/>
            <a:ext cx="2686320" cy="3358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6320" rIns="76320" tIns="46080" bIns="4608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원하는 결과 나오지 않음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081B9F-86D3-48E4-8347-5B57B799D2C6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"/>
          <p:cNvSpPr/>
          <p:nvPr/>
        </p:nvSpPr>
        <p:spPr>
          <a:xfrm>
            <a:off x="1829880" y="243000"/>
            <a:ext cx="6704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21.  NULL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의 잘못된 사용과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OUTER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조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-360000" y="1473120"/>
            <a:ext cx="9210240" cy="2578680"/>
          </a:xfrm>
          <a:prstGeom prst="roundRect">
            <a:avLst>
              <a:gd name="adj" fmla="val 724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A.READING_ID, NVL(B.DATE, A.DATE)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NVL(B.VALUE, A.VALUE),  NVL(B.REVISION_NO, 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SENSOR_READING  A,  SENSOR_READING_REVISION 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 A.READING_ID  =  B.READING_ID (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 </a:t>
            </a: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(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 B.READING_ID  ||  B.REVISION_NO IS NULL 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     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   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B.READING_ID  ||  B.REVISION_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IN  (SELECT  READING_ID  ||  MAX ( REVISION_NO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SENSOR_READING_REVI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GROUP BY  READING_ID) </a:t>
            </a: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1" name=""/>
          <p:cNvGrpSpPr/>
          <p:nvPr/>
        </p:nvGrpSpPr>
        <p:grpSpPr>
          <a:xfrm>
            <a:off x="4492800" y="4057560"/>
            <a:ext cx="5514840" cy="2965320"/>
            <a:chOff x="4492800" y="4057560"/>
            <a:chExt cx="5514840" cy="2965320"/>
          </a:xfrm>
        </p:grpSpPr>
        <p:sp>
          <p:nvSpPr>
            <p:cNvPr id="952" name=""/>
            <p:cNvSpPr/>
            <p:nvPr/>
          </p:nvSpPr>
          <p:spPr>
            <a:xfrm>
              <a:off x="4492800" y="4057560"/>
              <a:ext cx="5514840" cy="2965320"/>
            </a:xfrm>
            <a:prstGeom prst="rect">
              <a:avLst/>
            </a:prstGeom>
            <a:solidFill>
              <a:srgbClr val="eaeae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cc0000"/>
                  </a:solidFill>
                  <a:latin typeface="굴림체"/>
                  <a:ea typeface="굴림체"/>
                </a:rPr>
                <a:t> </a:t>
              </a:r>
              <a:r>
                <a:rPr b="1" lang="ko-KR" sz="1400" spc="-1" strike="noStrike">
                  <a:solidFill>
                    <a:srgbClr val="cc0000"/>
                  </a:solidFill>
                  <a:latin typeface="굴림체"/>
                  <a:ea typeface="굴림체"/>
                </a:rPr>
                <a:t>EXECUTION PLA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</a:t>
              </a: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-------------------------------------------------------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</a:t>
              </a: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SELECT STATEM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</a:t>
              </a: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FILT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  </a:t>
              </a: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MERGE JOIN OUT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    </a:t>
              </a: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SORT JO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      </a:t>
              </a: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TABLE ACCESS</a:t>
              </a:r>
              <a:r>
                <a:rPr b="1" lang="ko-KR" sz="1400" spc="-1" strike="noStrike">
                  <a:solidFill>
                    <a:srgbClr val="ff0033"/>
                  </a:solidFill>
                  <a:latin typeface="굴림체"/>
                  <a:ea typeface="굴림체"/>
                </a:rPr>
                <a:t> FULL</a:t>
              </a: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: SENSOR_READ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    </a:t>
              </a: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SORT JO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      </a:t>
              </a: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TABLE ACCESS </a:t>
              </a:r>
              <a:r>
                <a:rPr b="1" lang="ko-KR" sz="1400" spc="-1" strike="noStrike">
                  <a:solidFill>
                    <a:srgbClr val="ff0033"/>
                  </a:solidFill>
                  <a:latin typeface="굴림체"/>
                  <a:ea typeface="굴림체"/>
                </a:rPr>
                <a:t>FULL</a:t>
              </a: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: SENSOR_READING_REVIS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  </a:t>
              </a: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FILT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    </a:t>
              </a: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SORT GROUP BY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      </a:t>
              </a: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TABLE ACCESS </a:t>
              </a:r>
              <a:r>
                <a:rPr b="1" lang="ko-KR" sz="1400" spc="-1" strike="noStrike">
                  <a:solidFill>
                    <a:srgbClr val="ff0033"/>
                  </a:solidFill>
                  <a:latin typeface="굴림체"/>
                  <a:ea typeface="굴림체"/>
                </a:rPr>
                <a:t>FULL</a:t>
              </a: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: SENSOR_READING_REVIS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9292680" y="5045040"/>
              <a:ext cx="580680" cy="85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80000"/>
                </a:lnSpc>
                <a:buClr>
                  <a:srgbClr val="000000"/>
                </a:buClr>
                <a:buSzPct val="120000"/>
                <a:buFont typeface="Wingdings" charset="2"/>
                <a:buChar char="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 </a:t>
              </a:r>
              <a:r>
                <a:rPr b="1" lang="ko-KR" sz="14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80000"/>
                </a:lnSpc>
                <a:buClr>
                  <a:srgbClr val="000000"/>
                </a:buClr>
                <a:buSzPct val="120000"/>
                <a:buFont typeface="Wingdings" charset="2"/>
                <a:buChar char="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 </a:t>
              </a:r>
              <a:r>
                <a:rPr b="1" lang="ko-KR" sz="14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4" name=""/>
          <p:cNvSpPr/>
          <p:nvPr/>
        </p:nvSpPr>
        <p:spPr>
          <a:xfrm>
            <a:off x="312840" y="1050840"/>
            <a:ext cx="237780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개선된 </a:t>
            </a: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5" name=""/>
          <p:cNvGrpSpPr/>
          <p:nvPr/>
        </p:nvGrpSpPr>
        <p:grpSpPr>
          <a:xfrm>
            <a:off x="642960" y="4486320"/>
            <a:ext cx="3782880" cy="2923560"/>
            <a:chOff x="642960" y="4486320"/>
            <a:chExt cx="3782880" cy="2923560"/>
          </a:xfrm>
        </p:grpSpPr>
        <p:sp>
          <p:nvSpPr>
            <p:cNvPr id="956" name=""/>
            <p:cNvSpPr/>
            <p:nvPr/>
          </p:nvSpPr>
          <p:spPr>
            <a:xfrm>
              <a:off x="647640" y="4486320"/>
              <a:ext cx="3772080" cy="29235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76320" bIns="763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</a:t>
              </a: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READING_ID   DATE   VALUE   REVISION_NO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</a:t>
              </a:r>
              <a:r>
                <a:rPr b="1" lang="ko-KR" sz="14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100      960510   108         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   </a:t>
              </a:r>
              <a:r>
                <a:rPr b="1" lang="ko-KR" sz="1400" spc="-1" strike="noStrike">
                  <a:solidFill>
                    <a:srgbClr val="ff0033"/>
                  </a:solidFill>
                  <a:latin typeface="굴림체"/>
                  <a:ea typeface="굴림체"/>
                </a:rPr>
                <a:t>101      960502   110         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   </a:t>
              </a:r>
              <a:r>
                <a:rPr b="1" lang="ko-KR" sz="14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102      960509   110         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   </a:t>
              </a:r>
              <a:r>
                <a:rPr b="1" lang="ko-KR" sz="14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103      960508   212         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   </a:t>
              </a:r>
              <a:r>
                <a:rPr b="1" lang="ko-KR" sz="1400" spc="-1" strike="noStrike">
                  <a:solidFill>
                    <a:srgbClr val="ff0033"/>
                  </a:solidFill>
                  <a:latin typeface="굴림체"/>
                  <a:ea typeface="굴림체"/>
                </a:rPr>
                <a:t>104      960504   150         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642960" y="4791240"/>
              <a:ext cx="3782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CC2CA4-A78E-447C-B688-C66E5E5FFFD3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"/>
          <p:cNvSpPr/>
          <p:nvPr/>
        </p:nvSpPr>
        <p:spPr>
          <a:xfrm>
            <a:off x="671400" y="1636560"/>
            <a:ext cx="8909280" cy="424332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A.READING_ID,  NVL ( B.DATE, A.DATE )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NVL ( B.VALUE, A.VALUE ),  NVL ( B.REVISION_NO , 0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SENSOR_READING  A,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(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SELECT  b1.READING_ID, B2.REVISION_NO, B1.DATE, b1.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       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FROM SENSOR_READING_REVISION B1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           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(SELECT  READING_ID, MAX(REVISION_NO) AS REVISION_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            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FROM SENSOR_READING_REVISION b2 GROUP BY READING_ID) B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       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WHERE   B1.READING_ID  = B2.READING_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       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AND     B1.REVISION_NO = B2.REVISION_NO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)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A.READING_ID  =  B.READING_ID(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ORDER BY READING_ID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1829880" y="243000"/>
            <a:ext cx="6704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21.  NULL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의 잘못된 사용과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OUTER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조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0" name=""/>
          <p:cNvGrpSpPr/>
          <p:nvPr/>
        </p:nvGrpSpPr>
        <p:grpSpPr>
          <a:xfrm>
            <a:off x="2882880" y="5102280"/>
            <a:ext cx="3797280" cy="2923560"/>
            <a:chOff x="2882880" y="5102280"/>
            <a:chExt cx="3797280" cy="2923560"/>
          </a:xfrm>
        </p:grpSpPr>
        <p:sp>
          <p:nvSpPr>
            <p:cNvPr id="961" name=""/>
            <p:cNvSpPr/>
            <p:nvPr/>
          </p:nvSpPr>
          <p:spPr>
            <a:xfrm>
              <a:off x="2887560" y="5102280"/>
              <a:ext cx="3786120" cy="29235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76320" bIns="763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</a:t>
              </a: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READING_ID   DATE   VALUE   REVISION_NO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</a:t>
              </a:r>
              <a:r>
                <a:rPr b="1" lang="ko-KR" sz="14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100      960510   108         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   </a:t>
              </a:r>
              <a:r>
                <a:rPr b="1" lang="ko-KR" sz="1400" spc="-1" strike="noStrike">
                  <a:solidFill>
                    <a:srgbClr val="ff0033"/>
                  </a:solidFill>
                  <a:latin typeface="굴림체"/>
                  <a:ea typeface="굴림체"/>
                </a:rPr>
                <a:t>101      960502   110         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   </a:t>
              </a:r>
              <a:r>
                <a:rPr b="1" lang="ko-KR" sz="14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102      960509   110         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   </a:t>
              </a:r>
              <a:r>
                <a:rPr b="1" lang="ko-KR" sz="14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103      960508   212         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   </a:t>
              </a:r>
              <a:r>
                <a:rPr b="1" lang="ko-KR" sz="1400" spc="-1" strike="noStrike">
                  <a:solidFill>
                    <a:srgbClr val="ff0033"/>
                  </a:solidFill>
                  <a:latin typeface="굴림체"/>
                  <a:ea typeface="굴림체"/>
                </a:rPr>
                <a:t>104      960504   150         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2882880" y="5407200"/>
              <a:ext cx="3797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3" name=""/>
          <p:cNvSpPr/>
          <p:nvPr/>
        </p:nvSpPr>
        <p:spPr>
          <a:xfrm>
            <a:off x="312840" y="1179360"/>
            <a:ext cx="237780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해결 방안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0AA691-5F0D-4556-B1CF-CCFAEF80FE7A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4" name=""/>
          <p:cNvGrpSpPr/>
          <p:nvPr/>
        </p:nvGrpSpPr>
        <p:grpSpPr>
          <a:xfrm>
            <a:off x="8155080" y="3060360"/>
            <a:ext cx="239760" cy="925920"/>
            <a:chOff x="8155080" y="3060360"/>
            <a:chExt cx="239760" cy="925920"/>
          </a:xfrm>
        </p:grpSpPr>
        <p:sp>
          <p:nvSpPr>
            <p:cNvPr id="965" name=""/>
            <p:cNvSpPr/>
            <p:nvPr/>
          </p:nvSpPr>
          <p:spPr>
            <a:xfrm>
              <a:off x="8280360" y="3519360"/>
              <a:ext cx="0" cy="45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8155080" y="3828960"/>
              <a:ext cx="239760" cy="157320"/>
            </a:xfrm>
            <a:custGeom>
              <a:avLst/>
              <a:gdLst/>
              <a:ahLst/>
              <a:rect l="l" t="t" r="r" b="b"/>
              <a:pathLst>
                <a:path w="151" h="99">
                  <a:moveTo>
                    <a:pt x="0" y="98"/>
                  </a:moveTo>
                  <a:lnTo>
                    <a:pt x="76" y="0"/>
                  </a:lnTo>
                  <a:lnTo>
                    <a:pt x="150" y="9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 flipV="1">
              <a:off x="8280360" y="3060360"/>
              <a:ext cx="0" cy="45396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8" name=""/>
          <p:cNvSpPr/>
          <p:nvPr/>
        </p:nvSpPr>
        <p:spPr>
          <a:xfrm>
            <a:off x="2284560" y="243000"/>
            <a:ext cx="5743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22. 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조인하는 테이블의 순서에 따른 차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9" name=""/>
          <p:cNvGrpSpPr/>
          <p:nvPr/>
        </p:nvGrpSpPr>
        <p:grpSpPr>
          <a:xfrm>
            <a:off x="6039000" y="4675320"/>
            <a:ext cx="1358640" cy="222120"/>
            <a:chOff x="6039000" y="4675320"/>
            <a:chExt cx="1358640" cy="222120"/>
          </a:xfrm>
        </p:grpSpPr>
        <p:sp>
          <p:nvSpPr>
            <p:cNvPr id="970" name=""/>
            <p:cNvSpPr/>
            <p:nvPr/>
          </p:nvSpPr>
          <p:spPr>
            <a:xfrm>
              <a:off x="6713640" y="4776840"/>
              <a:ext cx="671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7165800" y="4675320"/>
              <a:ext cx="231840" cy="222120"/>
            </a:xfrm>
            <a:custGeom>
              <a:avLst/>
              <a:gdLst/>
              <a:ahLst/>
              <a:rect l="l" t="t" r="r" b="b"/>
              <a:pathLst>
                <a:path w="146" h="140">
                  <a:moveTo>
                    <a:pt x="145" y="139"/>
                  </a:moveTo>
                  <a:lnTo>
                    <a:pt x="0" y="67"/>
                  </a:lnTo>
                  <a:lnTo>
                    <a:pt x="137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 flipH="1">
              <a:off x="6039000" y="4776840"/>
              <a:ext cx="65880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3" name=""/>
          <p:cNvGrpSpPr/>
          <p:nvPr/>
        </p:nvGrpSpPr>
        <p:grpSpPr>
          <a:xfrm>
            <a:off x="2879640" y="3648240"/>
            <a:ext cx="1230480" cy="201600"/>
            <a:chOff x="2879640" y="3648240"/>
            <a:chExt cx="1230480" cy="201600"/>
          </a:xfrm>
        </p:grpSpPr>
        <p:sp>
          <p:nvSpPr>
            <p:cNvPr id="974" name=""/>
            <p:cNvSpPr/>
            <p:nvPr/>
          </p:nvSpPr>
          <p:spPr>
            <a:xfrm flipH="1">
              <a:off x="2890440" y="3741840"/>
              <a:ext cx="608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2879640" y="3648240"/>
              <a:ext cx="211320" cy="201600"/>
            </a:xfrm>
            <a:custGeom>
              <a:avLst/>
              <a:gdLst/>
              <a:ahLst/>
              <a:rect l="l" t="t" r="r" b="b"/>
              <a:pathLst>
                <a:path w="133" h="127">
                  <a:moveTo>
                    <a:pt x="0" y="126"/>
                  </a:moveTo>
                  <a:lnTo>
                    <a:pt x="132" y="61"/>
                  </a:lnTo>
                  <a:lnTo>
                    <a:pt x="7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3511440" y="3741840"/>
              <a:ext cx="59868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7" name=""/>
          <p:cNvSpPr/>
          <p:nvPr/>
        </p:nvSpPr>
        <p:spPr>
          <a:xfrm>
            <a:off x="8235000" y="4106880"/>
            <a:ext cx="307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"/>
          <p:cNvGrpSpPr/>
          <p:nvPr/>
        </p:nvGrpSpPr>
        <p:grpSpPr>
          <a:xfrm>
            <a:off x="6135840" y="2681280"/>
            <a:ext cx="1357200" cy="222120"/>
            <a:chOff x="6135840" y="2681280"/>
            <a:chExt cx="1357200" cy="222120"/>
          </a:xfrm>
        </p:grpSpPr>
        <p:sp>
          <p:nvSpPr>
            <p:cNvPr id="979" name=""/>
            <p:cNvSpPr/>
            <p:nvPr/>
          </p:nvSpPr>
          <p:spPr>
            <a:xfrm flipH="1">
              <a:off x="6145200" y="2784600"/>
              <a:ext cx="673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6135840" y="2681280"/>
              <a:ext cx="231480" cy="222120"/>
            </a:xfrm>
            <a:custGeom>
              <a:avLst/>
              <a:gdLst/>
              <a:ahLst/>
              <a:rect l="l" t="t" r="r" b="b"/>
              <a:pathLst>
                <a:path w="146" h="140">
                  <a:moveTo>
                    <a:pt x="0" y="139"/>
                  </a:moveTo>
                  <a:lnTo>
                    <a:pt x="145" y="68"/>
                  </a:lnTo>
                  <a:lnTo>
                    <a:pt x="7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6831000" y="2784600"/>
              <a:ext cx="66204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2" name=""/>
          <p:cNvSpPr/>
          <p:nvPr/>
        </p:nvSpPr>
        <p:spPr>
          <a:xfrm>
            <a:off x="7345440" y="3983040"/>
            <a:ext cx="1827000" cy="2722680"/>
          </a:xfrm>
          <a:prstGeom prst="rect">
            <a:avLst/>
          </a:prstGeom>
          <a:solidFill>
            <a:srgbClr val="ffff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수주진행현황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# *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회사번호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# *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부서번호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# *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주문번호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# *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주문일자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# *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고객번호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직원번호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 flipV="1">
            <a:off x="7334280" y="4489200"/>
            <a:ext cx="1846080" cy="6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7302600" y="1079640"/>
            <a:ext cx="1869840" cy="2095200"/>
          </a:xfrm>
          <a:prstGeom prst="rect">
            <a:avLst/>
          </a:prstGeom>
          <a:solidFill>
            <a:srgbClr val="ffff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고객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# *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고객번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고객이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주소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주민등록번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출고정지구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7319880" y="1600200"/>
            <a:ext cx="18511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4059360" y="2362320"/>
            <a:ext cx="2090520" cy="2938320"/>
          </a:xfrm>
          <a:prstGeom prst="rect">
            <a:avLst/>
          </a:prstGeom>
          <a:solidFill>
            <a:srgbClr val="ffff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주문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# *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주문번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부서번호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고객번호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주문일자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직원번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주문량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4076640" y="2979720"/>
            <a:ext cx="20718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1033560" y="2394000"/>
            <a:ext cx="1869840" cy="3294360"/>
          </a:xfrm>
          <a:prstGeom prst="rect">
            <a:avLst/>
          </a:prstGeom>
          <a:solidFill>
            <a:srgbClr val="ffff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114480" bIns="11448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납품실행계획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# *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부서번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# *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주문번호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# *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직원번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주문일자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납품예정일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소요비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완료여부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1047600" y="3049560"/>
            <a:ext cx="1836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86436E-EC57-4734-860E-D6C063908C6A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376920" y="3135240"/>
            <a:ext cx="3554640" cy="23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주 범위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(Driving Rang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5531ae"/>
                </a:solidFill>
                <a:latin typeface="굴림체"/>
                <a:ea typeface="굴림체"/>
              </a:rPr>
              <a:t>        </a:t>
            </a:r>
            <a:r>
              <a:rPr b="1" lang="ko-KR" sz="1800" spc="-1" strike="noStrike">
                <a:solidFill>
                  <a:srgbClr val="5531ae"/>
                </a:solidFill>
                <a:latin typeface="굴림체"/>
                <a:ea typeface="굴림체"/>
              </a:rPr>
              <a:t>넓다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5531ae"/>
                </a:solidFill>
                <a:latin typeface="굴림체"/>
                <a:ea typeface="굴림체"/>
              </a:rPr>
              <a:t>      </a:t>
            </a:r>
            <a:r>
              <a:rPr b="1" lang="ko-KR" sz="1800" spc="-1" strike="noStrike">
                <a:solidFill>
                  <a:srgbClr val="330099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330099"/>
                </a:solidFill>
                <a:latin typeface="굴림체"/>
                <a:ea typeface="굴림체"/>
              </a:rPr>
              <a:t>넓다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5531ae"/>
                </a:solidFill>
                <a:latin typeface="굴림체"/>
                <a:ea typeface="굴림체"/>
              </a:rPr>
              <a:t>        </a:t>
            </a:r>
            <a:r>
              <a:rPr b="1" lang="ko-KR" sz="1800" spc="-1" strike="noStrike">
                <a:solidFill>
                  <a:srgbClr val="5531ae"/>
                </a:solidFill>
                <a:latin typeface="굴림체"/>
                <a:ea typeface="굴림체"/>
              </a:rPr>
              <a:t>좁다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5531ae"/>
                </a:solidFill>
                <a:latin typeface="굴림체"/>
                <a:ea typeface="굴림체"/>
              </a:rPr>
              <a:t>        </a:t>
            </a:r>
            <a:r>
              <a:rPr b="1" lang="ko-KR" sz="1800" spc="-1" strike="noStrike">
                <a:solidFill>
                  <a:srgbClr val="5531ae"/>
                </a:solidFill>
                <a:latin typeface="굴림체"/>
                <a:ea typeface="굴림체"/>
              </a:rPr>
              <a:t>좁다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409920" y="3135240"/>
            <a:ext cx="3285000" cy="23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Arial"/>
                <a:ea typeface="돋움"/>
              </a:rPr>
              <a:t>부 범위 </a:t>
            </a:r>
            <a:r>
              <a:rPr b="1" lang="ko-KR" sz="1800" spc="-1" strike="noStrike">
                <a:solidFill>
                  <a:srgbClr val="000000"/>
                </a:solidFill>
                <a:latin typeface="Arial"/>
                <a:ea typeface="돋움"/>
              </a:rPr>
              <a:t>(Checking Rang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5531ae"/>
                </a:solidFill>
                <a:latin typeface="굴림체"/>
                <a:ea typeface="굴림체"/>
              </a:rPr>
              <a:t>          </a:t>
            </a:r>
            <a:r>
              <a:rPr b="1" lang="ko-KR" sz="1800" spc="-1" strike="noStrike">
                <a:solidFill>
                  <a:srgbClr val="5531ae"/>
                </a:solidFill>
                <a:latin typeface="굴림체"/>
                <a:ea typeface="굴림체"/>
              </a:rPr>
              <a:t>넓다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5531ae"/>
                </a:solidFill>
                <a:latin typeface="굴림체"/>
                <a:ea typeface="굴림체"/>
              </a:rPr>
              <a:t>          </a:t>
            </a:r>
            <a:r>
              <a:rPr b="1" lang="ko-KR" sz="1800" spc="-1" strike="noStrike">
                <a:solidFill>
                  <a:srgbClr val="330099"/>
                </a:solidFill>
                <a:latin typeface="굴림체"/>
                <a:ea typeface="굴림체"/>
              </a:rPr>
              <a:t>좁다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5531ae"/>
                </a:solidFill>
                <a:latin typeface="굴림체"/>
                <a:ea typeface="굴림체"/>
              </a:rPr>
              <a:t>          </a:t>
            </a:r>
            <a:r>
              <a:rPr b="1" lang="ko-KR" sz="1800" spc="-1" strike="noStrike">
                <a:solidFill>
                  <a:srgbClr val="5531ae"/>
                </a:solidFill>
                <a:latin typeface="굴림체"/>
                <a:ea typeface="굴림체"/>
              </a:rPr>
              <a:t>넓다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5531ae"/>
                </a:solidFill>
                <a:latin typeface="굴림체"/>
                <a:ea typeface="굴림체"/>
              </a:rPr>
              <a:t>          </a:t>
            </a:r>
            <a:r>
              <a:rPr b="1" lang="ko-KR" sz="1800" spc="-1" strike="noStrike">
                <a:solidFill>
                  <a:srgbClr val="5531ae"/>
                </a:solidFill>
                <a:latin typeface="굴림체"/>
                <a:ea typeface="굴림체"/>
              </a:rPr>
              <a:t>좁다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3565440" y="3048120"/>
            <a:ext cx="3002040" cy="2422440"/>
            <a:chOff x="3565440" y="3048120"/>
            <a:chExt cx="3002040" cy="2422440"/>
          </a:xfrm>
        </p:grpSpPr>
        <p:sp>
          <p:nvSpPr>
            <p:cNvPr id="172" name=""/>
            <p:cNvSpPr/>
            <p:nvPr/>
          </p:nvSpPr>
          <p:spPr>
            <a:xfrm>
              <a:off x="3565440" y="3048120"/>
              <a:ext cx="0" cy="2422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567480" y="3048120"/>
              <a:ext cx="0" cy="2422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4" name=""/>
          <p:cNvSpPr/>
          <p:nvPr/>
        </p:nvSpPr>
        <p:spPr>
          <a:xfrm>
            <a:off x="6632280" y="3135240"/>
            <a:ext cx="1149840" cy="23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Arial"/>
                <a:ea typeface="돋움"/>
              </a:rPr>
              <a:t>성 능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330099"/>
                </a:solidFill>
                <a:latin typeface="Arial"/>
                <a:ea typeface="돋움"/>
              </a:rPr>
              <a:t>양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3300"/>
                </a:solidFill>
                <a:latin typeface="Arial"/>
                <a:ea typeface="돋움"/>
              </a:rPr>
              <a:t>불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330099"/>
                </a:solidFill>
                <a:latin typeface="Arial"/>
                <a:ea typeface="돋움"/>
              </a:rPr>
              <a:t>양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330099"/>
                </a:solidFill>
                <a:latin typeface="Arial"/>
                <a:ea typeface="돋움"/>
              </a:rPr>
              <a:t>양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36560" y="3054240"/>
            <a:ext cx="7012080" cy="2409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730080" y="3594240"/>
            <a:ext cx="7024680" cy="1385640"/>
            <a:chOff x="730080" y="3594240"/>
            <a:chExt cx="7024680" cy="1385640"/>
          </a:xfrm>
        </p:grpSpPr>
        <p:sp>
          <p:nvSpPr>
            <p:cNvPr id="177" name=""/>
            <p:cNvSpPr/>
            <p:nvPr/>
          </p:nvSpPr>
          <p:spPr>
            <a:xfrm>
              <a:off x="730080" y="3594240"/>
              <a:ext cx="7024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8" name=""/>
            <p:cNvGrpSpPr/>
            <p:nvPr/>
          </p:nvGrpSpPr>
          <p:grpSpPr>
            <a:xfrm>
              <a:off x="730080" y="4030560"/>
              <a:ext cx="7010640" cy="949320"/>
              <a:chOff x="730080" y="4030560"/>
              <a:chExt cx="7010640" cy="949320"/>
            </a:xfrm>
          </p:grpSpPr>
          <p:sp>
            <p:nvSpPr>
              <p:cNvPr id="179" name=""/>
              <p:cNvSpPr/>
              <p:nvPr/>
            </p:nvSpPr>
            <p:spPr>
              <a:xfrm>
                <a:off x="730080" y="4030560"/>
                <a:ext cx="70106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730080" y="4505400"/>
                <a:ext cx="70106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730080" y="4979880"/>
                <a:ext cx="70106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2" name=""/>
          <p:cNvSpPr/>
          <p:nvPr/>
        </p:nvSpPr>
        <p:spPr>
          <a:xfrm>
            <a:off x="7655040" y="3487680"/>
            <a:ext cx="1652400" cy="760320"/>
          </a:xfrm>
          <a:custGeom>
            <a:avLst/>
            <a:gdLst>
              <a:gd name="textAreaLeft" fmla="*/ 61200 w 1652400"/>
              <a:gd name="textAreaRight" fmla="*/ 1591200 w 1652400"/>
              <a:gd name="textAreaTop" fmla="*/ 28080 h 760320"/>
              <a:gd name="textAreaBottom" fmla="*/ 607320 h 76032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0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ccecff"/>
          </a:solidFill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cc0000"/>
                </a:solidFill>
                <a:latin typeface="Arial"/>
                <a:ea typeface="굴림체"/>
              </a:rPr>
              <a:t>주 </a:t>
            </a:r>
            <a:r>
              <a:rPr b="1" lang="ko-KR" sz="1600" spc="-1" strike="noStrike">
                <a:solidFill>
                  <a:srgbClr val="cc0000"/>
                </a:solidFill>
                <a:latin typeface="Arial"/>
                <a:ea typeface="굴림체"/>
              </a:rPr>
              <a:t>/ </a:t>
            </a:r>
            <a:r>
              <a:rPr b="1" lang="ko-KR" sz="1600" spc="-1" strike="noStrike">
                <a:solidFill>
                  <a:srgbClr val="cc0000"/>
                </a:solidFill>
                <a:latin typeface="Arial"/>
                <a:ea typeface="굴림체"/>
              </a:rPr>
              <a:t>부 조건의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cc0000"/>
                </a:solidFill>
                <a:latin typeface="Arial"/>
                <a:ea typeface="굴림체"/>
              </a:rPr>
              <a:t>변경 가능  </a:t>
            </a:r>
            <a:r>
              <a:rPr b="1" lang="ko-KR" sz="1600" spc="-1" strike="noStrike">
                <a:solidFill>
                  <a:srgbClr val="cc0000"/>
                </a:solidFill>
                <a:latin typeface="Arial"/>
                <a:ea typeface="굴림체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99920" y="1209600"/>
            <a:ext cx="2391120" cy="44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부분범위 처리의 성능 결정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222200" y="2104920"/>
            <a:ext cx="2259360" cy="968400"/>
          </a:xfrm>
          <a:custGeom>
            <a:avLst/>
            <a:gdLst>
              <a:gd name="textAreaLeft" fmla="*/ 83520 w 2259360"/>
              <a:gd name="textAreaRight" fmla="*/ 2175840 w 2259360"/>
              <a:gd name="textAreaTop" fmla="*/ 35640 h 968400"/>
              <a:gd name="textAreaBottom" fmla="*/ 773640 h 96840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3698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33cc"/>
                </a:solidFill>
                <a:latin typeface="Arial"/>
                <a:ea typeface="굴림체"/>
              </a:rPr>
              <a:t>사용 된 </a:t>
            </a:r>
            <a:r>
              <a:rPr b="1" lang="ko-KR" sz="1600" spc="-1" strike="noStrike">
                <a:solidFill>
                  <a:srgbClr val="3333cc"/>
                </a:solidFill>
                <a:latin typeface="Arial"/>
                <a:ea typeface="굴림체"/>
              </a:rPr>
              <a:t>INDEX</a:t>
            </a:r>
            <a:r>
              <a:rPr b="1" lang="ko-KR" sz="1600" spc="-1" strike="noStrike">
                <a:solidFill>
                  <a:srgbClr val="3333cc"/>
                </a:solidFill>
                <a:latin typeface="Arial"/>
                <a:ea typeface="굴림체"/>
              </a:rPr>
              <a:t>에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33cc"/>
                </a:solidFill>
                <a:latin typeface="Arial"/>
                <a:ea typeface="굴림체"/>
              </a:rPr>
              <a:t>의해서 결정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815840" y="243000"/>
            <a:ext cx="5619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부분범위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(Partial Range Scan)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의 처리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FE5AD8-6469-4F6F-BF2B-FFB7E5569EF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"/>
          <p:cNvSpPr/>
          <p:nvPr/>
        </p:nvSpPr>
        <p:spPr>
          <a:xfrm>
            <a:off x="2284560" y="243000"/>
            <a:ext cx="5743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22. 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조인하는 테이블의 순서에 따른 차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266760" y="976320"/>
            <a:ext cx="9820080" cy="16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인덱스정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3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500" spc="-1" strike="noStrike">
                <a:solidFill>
                  <a:srgbClr val="000000"/>
                </a:solidFill>
                <a:latin typeface="굴림체"/>
                <a:ea typeface="굴림체"/>
              </a:rPr>
              <a:t>납품실행계획  </a:t>
            </a:r>
            <a:r>
              <a:rPr b="1" lang="ko-KR" sz="1500" spc="-1" strike="noStrike">
                <a:solidFill>
                  <a:srgbClr val="000000"/>
                </a:solidFill>
                <a:latin typeface="굴림체"/>
                <a:ea typeface="굴림체"/>
              </a:rPr>
              <a:t>A : </a:t>
            </a:r>
            <a:r>
              <a:rPr b="1" lang="ko-KR" sz="1500" spc="-1" strike="noStrike">
                <a:solidFill>
                  <a:srgbClr val="000000"/>
                </a:solidFill>
                <a:latin typeface="굴림체"/>
                <a:ea typeface="굴림체"/>
              </a:rPr>
              <a:t>납품실행</a:t>
            </a:r>
            <a:r>
              <a:rPr b="1" lang="ko-KR" sz="1500" spc="-1" strike="noStrike">
                <a:solidFill>
                  <a:srgbClr val="000000"/>
                </a:solidFill>
                <a:latin typeface="굴림체"/>
                <a:ea typeface="굴림체"/>
              </a:rPr>
              <a:t>_PK      : </a:t>
            </a:r>
            <a:r>
              <a:rPr b="1" lang="ko-KR" sz="1500" spc="-1" strike="noStrike">
                <a:solidFill>
                  <a:srgbClr val="990066"/>
                </a:solidFill>
                <a:latin typeface="굴림체"/>
                <a:ea typeface="굴림체"/>
              </a:rPr>
              <a:t>주문번호</a:t>
            </a:r>
            <a:r>
              <a:rPr b="1" lang="ko-KR" sz="1500" spc="-1" strike="noStrike">
                <a:solidFill>
                  <a:srgbClr val="990066"/>
                </a:solidFill>
                <a:latin typeface="굴림체"/>
                <a:ea typeface="굴림체"/>
              </a:rPr>
              <a:t> </a:t>
            </a:r>
            <a:r>
              <a:rPr b="1" lang="ko-KR" sz="1500" spc="-1" strike="noStrike">
                <a:solidFill>
                  <a:srgbClr val="990066"/>
                </a:solidFill>
                <a:latin typeface="굴림체"/>
                <a:ea typeface="굴림체"/>
              </a:rPr>
              <a:t>+</a:t>
            </a:r>
            <a:r>
              <a:rPr b="1" lang="ko-KR" sz="1500" spc="-1" strike="noStrike">
                <a:solidFill>
                  <a:srgbClr val="990066"/>
                </a:solidFill>
                <a:latin typeface="굴림체"/>
                <a:ea typeface="굴림체"/>
              </a:rPr>
              <a:t> </a:t>
            </a:r>
            <a:r>
              <a:rPr b="1" lang="ko-KR" sz="1500" spc="-1" strike="noStrike">
                <a:solidFill>
                  <a:srgbClr val="990066"/>
                </a:solidFill>
                <a:latin typeface="굴림체"/>
                <a:ea typeface="굴림체"/>
              </a:rPr>
              <a:t>부서번호</a:t>
            </a:r>
            <a:r>
              <a:rPr b="1" lang="ko-KR" sz="1500" spc="-1" strike="noStrike">
                <a:solidFill>
                  <a:srgbClr val="00cc99"/>
                </a:solidFill>
                <a:latin typeface="굴림체"/>
                <a:ea typeface="굴림체"/>
              </a:rPr>
              <a:t> </a:t>
            </a:r>
            <a:r>
              <a:rPr b="1" lang="ko-KR" sz="1500" spc="-1" strike="noStrike">
                <a:solidFill>
                  <a:srgbClr val="000000"/>
                </a:solidFill>
                <a:latin typeface="굴림체"/>
                <a:ea typeface="굴림체"/>
              </a:rPr>
              <a:t>+ </a:t>
            </a:r>
            <a:r>
              <a:rPr b="1" lang="ko-KR" sz="1500" spc="-1" strike="noStrike">
                <a:solidFill>
                  <a:srgbClr val="000000"/>
                </a:solidFill>
                <a:latin typeface="굴림체"/>
                <a:ea typeface="굴림체"/>
              </a:rPr>
              <a:t>주문직원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05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500" spc="-1" strike="noStrike">
                <a:solidFill>
                  <a:srgbClr val="000000"/>
                </a:solidFill>
                <a:latin typeface="굴림체"/>
                <a:ea typeface="굴림체"/>
              </a:rPr>
              <a:t>주문          </a:t>
            </a:r>
            <a:r>
              <a:rPr b="1" lang="ko-KR" sz="1500" spc="-1" strike="noStrike">
                <a:solidFill>
                  <a:srgbClr val="000000"/>
                </a:solidFill>
                <a:latin typeface="굴림체"/>
                <a:ea typeface="굴림체"/>
              </a:rPr>
              <a:t>B : </a:t>
            </a:r>
            <a:r>
              <a:rPr b="1" lang="ko-KR" sz="1500" spc="-1" strike="noStrike">
                <a:solidFill>
                  <a:srgbClr val="000000"/>
                </a:solidFill>
                <a:latin typeface="굴림체"/>
                <a:ea typeface="굴림체"/>
              </a:rPr>
              <a:t>주문</a:t>
            </a:r>
            <a:r>
              <a:rPr b="1" lang="ko-KR" sz="1500" spc="-1" strike="noStrike">
                <a:solidFill>
                  <a:srgbClr val="000000"/>
                </a:solidFill>
                <a:latin typeface="굴림체"/>
                <a:ea typeface="굴림체"/>
              </a:rPr>
              <a:t>_PK          : </a:t>
            </a:r>
            <a:r>
              <a:rPr b="1" lang="ko-KR" sz="1500" spc="-1" strike="noStrike">
                <a:solidFill>
                  <a:srgbClr val="009900"/>
                </a:solidFill>
                <a:latin typeface="굴림체"/>
                <a:ea typeface="굴림체"/>
              </a:rPr>
              <a:t>주문번호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5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500" spc="-1" strike="noStrike">
                <a:solidFill>
                  <a:srgbClr val="000000"/>
                </a:solidFill>
                <a:latin typeface="굴림체"/>
                <a:ea typeface="굴림체"/>
              </a:rPr>
              <a:t>수주진행현황  </a:t>
            </a:r>
            <a:r>
              <a:rPr b="1" lang="ko-KR" sz="1500" spc="-1" strike="noStrike">
                <a:solidFill>
                  <a:srgbClr val="000000"/>
                </a:solidFill>
                <a:latin typeface="굴림체"/>
                <a:ea typeface="굴림체"/>
              </a:rPr>
              <a:t>C : </a:t>
            </a:r>
            <a:r>
              <a:rPr b="1" lang="ko-KR" sz="1500" spc="-1" strike="noStrike">
                <a:solidFill>
                  <a:srgbClr val="000000"/>
                </a:solidFill>
                <a:latin typeface="굴림체"/>
                <a:ea typeface="굴림체"/>
              </a:rPr>
              <a:t>수주진행현황</a:t>
            </a:r>
            <a:r>
              <a:rPr b="1" lang="ko-KR" sz="1500" spc="-1" strike="noStrike">
                <a:solidFill>
                  <a:srgbClr val="000000"/>
                </a:solidFill>
                <a:latin typeface="굴림체"/>
                <a:ea typeface="굴림체"/>
              </a:rPr>
              <a:t>_PK  : </a:t>
            </a:r>
            <a:r>
              <a:rPr b="1" lang="ko-KR" sz="1500" spc="-1" strike="noStrike">
                <a:solidFill>
                  <a:srgbClr val="3333cc"/>
                </a:solidFill>
                <a:latin typeface="굴림체"/>
                <a:ea typeface="굴림체"/>
              </a:rPr>
              <a:t>회사번호 </a:t>
            </a:r>
            <a:r>
              <a:rPr b="1" lang="ko-KR" sz="1500" spc="-1" strike="noStrike">
                <a:solidFill>
                  <a:srgbClr val="3333cc"/>
                </a:solidFill>
                <a:latin typeface="굴림체"/>
                <a:ea typeface="굴림체"/>
              </a:rPr>
              <a:t>+ </a:t>
            </a:r>
            <a:r>
              <a:rPr b="1" lang="ko-KR" sz="1500" spc="-1" strike="noStrike">
                <a:solidFill>
                  <a:srgbClr val="3333cc"/>
                </a:solidFill>
                <a:latin typeface="굴림체"/>
                <a:ea typeface="굴림체"/>
              </a:rPr>
              <a:t>부서번호</a:t>
            </a:r>
            <a:r>
              <a:rPr b="1" lang="ko-KR" sz="15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500" spc="-1" strike="noStrike">
                <a:solidFill>
                  <a:srgbClr val="000000"/>
                </a:solidFill>
                <a:latin typeface="굴림체"/>
                <a:ea typeface="굴림체"/>
              </a:rPr>
              <a:t>+ </a:t>
            </a:r>
            <a:r>
              <a:rPr b="1" lang="ko-KR" sz="1500" spc="-1" strike="noStrike">
                <a:solidFill>
                  <a:srgbClr val="000000"/>
                </a:solidFill>
                <a:latin typeface="굴림체"/>
                <a:ea typeface="굴림체"/>
              </a:rPr>
              <a:t>주문번호 </a:t>
            </a:r>
            <a:r>
              <a:rPr b="1" lang="ko-KR" sz="1500" spc="-1" strike="noStrike">
                <a:solidFill>
                  <a:srgbClr val="000000"/>
                </a:solidFill>
                <a:latin typeface="굴림체"/>
                <a:ea typeface="굴림체"/>
              </a:rPr>
              <a:t>+ </a:t>
            </a:r>
            <a:r>
              <a:rPr b="1" lang="ko-KR" sz="1500" spc="-1" strike="noStrike">
                <a:solidFill>
                  <a:srgbClr val="000000"/>
                </a:solidFill>
                <a:latin typeface="굴림체"/>
                <a:ea typeface="굴림체"/>
              </a:rPr>
              <a:t>주문일자 </a:t>
            </a:r>
            <a:r>
              <a:rPr b="1" lang="ko-KR" sz="1500" spc="-1" strike="noStrike">
                <a:solidFill>
                  <a:srgbClr val="000000"/>
                </a:solidFill>
                <a:latin typeface="굴림체"/>
                <a:ea typeface="굴림체"/>
              </a:rPr>
              <a:t>+ </a:t>
            </a:r>
            <a:r>
              <a:rPr b="1" lang="ko-KR" sz="1500" spc="-1" strike="noStrike">
                <a:solidFill>
                  <a:srgbClr val="000000"/>
                </a:solidFill>
                <a:latin typeface="굴림체"/>
                <a:ea typeface="굴림체"/>
              </a:rPr>
              <a:t>고객번호    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05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500" spc="-1" strike="noStrike">
                <a:solidFill>
                  <a:srgbClr val="000000"/>
                </a:solidFill>
                <a:latin typeface="굴림체"/>
                <a:ea typeface="굴림체"/>
              </a:rPr>
              <a:t>고객          </a:t>
            </a:r>
            <a:r>
              <a:rPr b="1" lang="ko-KR" sz="1500" spc="-1" strike="noStrike">
                <a:solidFill>
                  <a:srgbClr val="000000"/>
                </a:solidFill>
                <a:latin typeface="굴림체"/>
                <a:ea typeface="굴림체"/>
              </a:rPr>
              <a:t>D : </a:t>
            </a:r>
            <a:r>
              <a:rPr b="1" lang="ko-KR" sz="1500" spc="-1" strike="noStrike">
                <a:solidFill>
                  <a:srgbClr val="000000"/>
                </a:solidFill>
                <a:latin typeface="굴림체"/>
                <a:ea typeface="굴림체"/>
              </a:rPr>
              <a:t>고객</a:t>
            </a:r>
            <a:r>
              <a:rPr b="1" lang="ko-KR" sz="1500" spc="-1" strike="noStrike">
                <a:solidFill>
                  <a:srgbClr val="000000"/>
                </a:solidFill>
                <a:latin typeface="굴림체"/>
                <a:ea typeface="굴림체"/>
              </a:rPr>
              <a:t>_PK          : </a:t>
            </a:r>
            <a:r>
              <a:rPr b="1" lang="ko-KR" sz="1500" spc="-1" strike="noStrike">
                <a:solidFill>
                  <a:srgbClr val="ff3300"/>
                </a:solidFill>
                <a:latin typeface="굴림체"/>
                <a:ea typeface="굴림체"/>
              </a:rPr>
              <a:t>고객번호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584280" y="2462040"/>
            <a:ext cx="8163000" cy="4059720"/>
          </a:xfrm>
          <a:prstGeom prst="roundRect">
            <a:avLst>
              <a:gd name="adj" fmla="val 4042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0" bIns="0" anchor="t">
            <a:sp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</a:t>
            </a:r>
            <a:r>
              <a:rPr b="1" lang="ko-KR" sz="1600" spc="-1" strike="noStrike">
                <a:solidFill>
                  <a:srgbClr val="00cc99"/>
                </a:solidFill>
                <a:latin typeface="굴림체"/>
                <a:ea typeface="굴림체"/>
              </a:rPr>
              <a:t>DISTINCT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A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부서번호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, A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주문번호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, B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주문일자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, B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직원번호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, B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고객번호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D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출고중지구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FROM  </a:t>
            </a:r>
            <a:r>
              <a:rPr b="1" lang="ko-KR" sz="1600" spc="-1" strike="noStrike">
                <a:solidFill>
                  <a:srgbClr val="990066"/>
                </a:solidFill>
                <a:latin typeface="굴림체"/>
                <a:ea typeface="굴림체"/>
              </a:rPr>
              <a:t>납품실행계획 </a:t>
            </a:r>
            <a:r>
              <a:rPr b="1" lang="ko-KR" sz="1600" spc="-1" strike="noStrike">
                <a:solidFill>
                  <a:srgbClr val="990066"/>
                </a:solidFill>
                <a:latin typeface="굴림체"/>
                <a:ea typeface="굴림체"/>
              </a:rPr>
              <a:t>A</a:t>
            </a:r>
            <a:r>
              <a:rPr b="1" lang="ko-KR" sz="1600" spc="-1" strike="noStrike">
                <a:solidFill>
                  <a:srgbClr val="00cc99"/>
                </a:solidFill>
                <a:latin typeface="굴림체"/>
                <a:ea typeface="굴림체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,  </a:t>
            </a:r>
            <a:r>
              <a:rPr b="1" lang="ko-KR" sz="1600" spc="-1" strike="noStrike">
                <a:solidFill>
                  <a:srgbClr val="009900"/>
                </a:solidFill>
                <a:latin typeface="굴림체"/>
                <a:ea typeface="굴림체"/>
              </a:rPr>
              <a:t>주문 </a:t>
            </a:r>
            <a:r>
              <a:rPr b="1" lang="ko-KR" sz="1600" spc="-1" strike="noStrike">
                <a:solidFill>
                  <a:srgbClr val="009900"/>
                </a:solidFill>
                <a:latin typeface="굴림체"/>
                <a:ea typeface="굴림체"/>
              </a:rPr>
              <a:t>B ,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수주진행현황 </a:t>
            </a: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C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,  </a:t>
            </a:r>
            <a:r>
              <a:rPr b="1" lang="ko-KR" sz="1600" spc="-1" strike="noStrike">
                <a:solidFill>
                  <a:srgbClr val="ff3300"/>
                </a:solidFill>
                <a:latin typeface="굴림체"/>
                <a:ea typeface="굴림체"/>
              </a:rPr>
              <a:t>고객 </a:t>
            </a:r>
            <a:r>
              <a:rPr b="1" lang="ko-KR" sz="1600" spc="-1" strike="noStrike">
                <a:solidFill>
                  <a:srgbClr val="ff3300"/>
                </a:solidFill>
                <a:latin typeface="굴림체"/>
                <a:ea typeface="굴림체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WHERE  </a:t>
            </a:r>
            <a:r>
              <a:rPr b="1" lang="ko-KR" sz="1600" spc="-1" strike="noStrike">
                <a:solidFill>
                  <a:srgbClr val="990066"/>
                </a:solidFill>
                <a:latin typeface="굴림체"/>
                <a:ea typeface="굴림체"/>
              </a:rPr>
              <a:t>A.</a:t>
            </a:r>
            <a:r>
              <a:rPr b="1" lang="ko-KR" sz="1600" spc="-1" strike="noStrike">
                <a:solidFill>
                  <a:srgbClr val="990066"/>
                </a:solidFill>
                <a:latin typeface="굴림체"/>
                <a:ea typeface="굴림체"/>
              </a:rPr>
              <a:t>부서번호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= B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부서번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AND  </a:t>
            </a:r>
            <a:r>
              <a:rPr b="1" lang="ko-KR" sz="1600" spc="-1" strike="noStrike">
                <a:solidFill>
                  <a:srgbClr val="990066"/>
                </a:solidFill>
                <a:latin typeface="굴림체"/>
                <a:ea typeface="굴림체"/>
              </a:rPr>
              <a:t>A.</a:t>
            </a:r>
            <a:r>
              <a:rPr b="1" lang="ko-KR" sz="1600" spc="-1" strike="noStrike">
                <a:solidFill>
                  <a:srgbClr val="990066"/>
                </a:solidFill>
                <a:latin typeface="굴림체"/>
                <a:ea typeface="굴림체"/>
              </a:rPr>
              <a:t>주문번호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= B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주문번호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AND  A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주문일자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= B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주문일자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AND  C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부서번호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= B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부서번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AND  C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고객번호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= B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고객번호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AND  C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직원번호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= B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직원번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AND  C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주문번호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= </a:t>
            </a:r>
            <a:r>
              <a:rPr b="1" lang="ko-KR" sz="1600" spc="-1" strike="noStrike">
                <a:solidFill>
                  <a:srgbClr val="009900"/>
                </a:solidFill>
                <a:latin typeface="굴림체"/>
                <a:ea typeface="굴림체"/>
              </a:rPr>
              <a:t>B.</a:t>
            </a:r>
            <a:r>
              <a:rPr b="1" lang="ko-KR" sz="1600" spc="-1" strike="noStrike">
                <a:solidFill>
                  <a:srgbClr val="009900"/>
                </a:solidFill>
                <a:latin typeface="굴림체"/>
                <a:ea typeface="굴림체"/>
              </a:rPr>
              <a:t>주문번호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AND  C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주문일자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= B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주문일자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AND  C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고객번호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= </a:t>
            </a:r>
            <a:r>
              <a:rPr b="1" lang="ko-KR" sz="1600" spc="-1" strike="noStrike">
                <a:solidFill>
                  <a:srgbClr val="ff3300"/>
                </a:solidFill>
                <a:latin typeface="굴림체"/>
                <a:ea typeface="굴림체"/>
              </a:rPr>
              <a:t>D.</a:t>
            </a:r>
            <a:r>
              <a:rPr b="1" lang="ko-KR" sz="1600" spc="-1" strike="noStrike">
                <a:solidFill>
                  <a:srgbClr val="ff3300"/>
                </a:solidFill>
                <a:latin typeface="굴림체"/>
                <a:ea typeface="굴림체"/>
              </a:rPr>
              <a:t>고객번호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AND  </a:t>
            </a: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C.</a:t>
            </a: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부서번호 </a:t>
            </a: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= 3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AND</a:t>
            </a: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  C.</a:t>
            </a: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회사번호 </a:t>
            </a: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= 3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AND  A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완료여부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IS NULL 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3" name=""/>
          <p:cNvGrpSpPr/>
          <p:nvPr/>
        </p:nvGrpSpPr>
        <p:grpSpPr>
          <a:xfrm>
            <a:off x="4294080" y="3713040"/>
            <a:ext cx="5743800" cy="3012840"/>
            <a:chOff x="4294080" y="3713040"/>
            <a:chExt cx="5743800" cy="3012840"/>
          </a:xfrm>
        </p:grpSpPr>
        <p:sp>
          <p:nvSpPr>
            <p:cNvPr id="994" name=""/>
            <p:cNvSpPr/>
            <p:nvPr/>
          </p:nvSpPr>
          <p:spPr>
            <a:xfrm>
              <a:off x="4294080" y="3713040"/>
              <a:ext cx="5743800" cy="3012840"/>
            </a:xfrm>
            <a:prstGeom prst="rect">
              <a:avLst/>
            </a:prstGeom>
            <a:solidFill>
              <a:srgbClr val="eaeae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cc0000"/>
                  </a:solidFill>
                  <a:latin typeface="굴림체"/>
                  <a:ea typeface="굴림체"/>
                </a:rPr>
                <a:t>ROWS  EXECUTION PLA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----  ----------------------------------------------------------------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</a:t>
              </a:r>
              <a:r>
                <a:rPr b="1" lang="ko-KR" sz="12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0  SELECT STATEME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</a:t>
              </a:r>
              <a:r>
                <a:rPr b="1" lang="ko-KR" sz="12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7   </a:t>
              </a:r>
              <a:r>
                <a:rPr b="1" lang="ko-KR" sz="1200" spc="-1" strike="noStrike">
                  <a:solidFill>
                    <a:srgbClr val="00cc99"/>
                  </a:solidFill>
                  <a:latin typeface="굴림체"/>
                  <a:ea typeface="굴림체"/>
                </a:rPr>
                <a:t>SORT (UNIQUE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</a:t>
              </a:r>
              <a:r>
                <a:rPr b="1" lang="ko-KR" sz="12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7     NESTED LOOP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1243       NESTED LOOP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1275         NESTED LOOP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1275           TABLE ACCESS (BY ROWID) OF '</a:t>
              </a:r>
              <a:r>
                <a:rPr b="1" lang="ko-KR" sz="12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수주진행현황</a:t>
              </a:r>
              <a:r>
                <a:rPr b="1" lang="ko-KR" sz="12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'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1276            INDEX (RANGE SCAN) OF ' </a:t>
              </a:r>
              <a:r>
                <a:rPr b="1" lang="ko-KR" sz="12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수주진행현황</a:t>
              </a:r>
              <a:r>
                <a:rPr b="1" lang="ko-KR" sz="12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_PK' (UNIQUE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1275           TABLE ACCESS (BY ROWID) OF '</a:t>
              </a:r>
              <a:r>
                <a:rPr b="1" lang="ko-KR" sz="12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고객</a:t>
              </a:r>
              <a:r>
                <a:rPr b="1" lang="ko-KR" sz="12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'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1275            INDEX (UNIQUE SCAN) OF ' </a:t>
              </a:r>
              <a:r>
                <a:rPr b="1" lang="ko-KR" sz="12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고객</a:t>
              </a:r>
              <a:r>
                <a:rPr b="1" lang="ko-KR" sz="12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_PK' (UNIQUE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1243         TABLE ACCESS (BY ROWID) OF '</a:t>
              </a:r>
              <a:r>
                <a:rPr b="1" lang="ko-KR" sz="12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주문</a:t>
              </a:r>
              <a:r>
                <a:rPr b="1" lang="ko-KR" sz="12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'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1275           INDEX (UNIQUE SCAN) OF ' </a:t>
              </a:r>
              <a:r>
                <a:rPr b="1" lang="ko-KR" sz="12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주문</a:t>
              </a:r>
              <a:r>
                <a:rPr b="1" lang="ko-KR" sz="12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_PK' (UNIQUE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</a:t>
              </a:r>
              <a:r>
                <a:rPr b="1" lang="ko-KR" sz="1200" spc="-1" strike="noStrike">
                  <a:solidFill>
                    <a:srgbClr val="ff0033"/>
                  </a:solidFill>
                  <a:latin typeface="굴림체"/>
                  <a:ea typeface="굴림체"/>
                </a:rPr>
                <a:t>20</a:t>
              </a:r>
              <a:r>
                <a:rPr b="1" lang="ko-KR" sz="12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    </a:t>
              </a:r>
              <a:r>
                <a:rPr b="1" lang="ko-KR" sz="12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TABLE ACCESS (BY ROWID) OF '</a:t>
              </a:r>
              <a:r>
                <a:rPr b="1" lang="ko-KR" sz="12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납품실행계획</a:t>
              </a:r>
              <a:r>
                <a:rPr b="1" lang="ko-KR" sz="12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'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ff0033"/>
                  </a:solidFill>
                  <a:latin typeface="굴림체"/>
                  <a:ea typeface="굴림체"/>
                </a:rPr>
                <a:t>1263</a:t>
              </a:r>
              <a:r>
                <a:rPr b="1" lang="ko-KR" sz="12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      INDEX (RANGE SCAN) OF ' </a:t>
              </a:r>
              <a:r>
                <a:rPr b="1" lang="ko-KR" sz="12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납품실행계획</a:t>
              </a:r>
              <a:r>
                <a:rPr b="1" lang="ko-KR" sz="12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_PK' (UNIQUE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9364680" y="4925880"/>
              <a:ext cx="654120" cy="149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45000"/>
                </a:lnSpc>
                <a:buClr>
                  <a:srgbClr val="000000"/>
                </a:buClr>
                <a:buSzPct val="120000"/>
                <a:buFont typeface="Wingdings" charset="2"/>
                <a:buChar char="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 </a:t>
              </a:r>
              <a:r>
                <a:rPr b="1" lang="ko-KR" sz="14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85000"/>
                </a:lnSpc>
                <a:buClr>
                  <a:srgbClr val="000000"/>
                </a:buClr>
                <a:buSzPct val="120000"/>
                <a:buFont typeface="Wingdings" charset="2"/>
                <a:buChar char="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 </a:t>
              </a:r>
              <a:r>
                <a:rPr b="1" lang="ko-KR" sz="14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65000"/>
                </a:lnSpc>
                <a:buClr>
                  <a:srgbClr val="000000"/>
                </a:buClr>
                <a:buSzPct val="120000"/>
                <a:buFont typeface="Wingdings" charset="2"/>
                <a:buChar char="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 </a:t>
              </a:r>
              <a:r>
                <a:rPr b="1" lang="ko-KR" sz="14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65000"/>
                </a:lnSpc>
                <a:buClr>
                  <a:srgbClr val="000000"/>
                </a:buClr>
                <a:buSzPct val="120000"/>
                <a:buFont typeface="Wingdings" charset="2"/>
                <a:buChar char="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 </a:t>
              </a:r>
              <a:r>
                <a:rPr b="1" lang="ko-KR" sz="14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031E10-E179-4675-BA49-523980002DBD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"/>
          <p:cNvSpPr/>
          <p:nvPr/>
        </p:nvSpPr>
        <p:spPr>
          <a:xfrm>
            <a:off x="2284560" y="243000"/>
            <a:ext cx="5743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22. 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조인하는 테이블의 순서에 따른 차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531720" y="1766880"/>
            <a:ext cx="274680" cy="3935520"/>
          </a:xfrm>
          <a:prstGeom prst="rect">
            <a:avLst/>
          </a:prstGeom>
          <a:gradFill rotWithShape="0">
            <a:gsLst>
              <a:gs pos="0">
                <a:srgbClr val="c5c5c5"/>
              </a:gs>
              <a:gs pos="50000">
                <a:srgbClr val="dddddd"/>
              </a:gs>
              <a:gs pos="100000">
                <a:srgbClr val="c5c5c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 rot="16200000">
            <a:off x="69840" y="1933560"/>
            <a:ext cx="120780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ff3300"/>
                </a:solidFill>
                <a:latin typeface="Arial"/>
                <a:ea typeface="굴림체"/>
              </a:rPr>
              <a:t>127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1278000" y="1776240"/>
            <a:ext cx="923760" cy="3935520"/>
          </a:xfrm>
          <a:prstGeom prst="rect">
            <a:avLst/>
          </a:prstGeom>
          <a:gradFill rotWithShape="0">
            <a:gsLst>
              <a:gs pos="0">
                <a:srgbClr val="92cbc6"/>
              </a:gs>
              <a:gs pos="50000">
                <a:srgbClr val="b8fff9"/>
              </a:gs>
              <a:gs pos="100000">
                <a:srgbClr val="92cbc6"/>
              </a:gs>
            </a:gsLst>
            <a:lin ang="108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894240" y="1230480"/>
            <a:ext cx="14882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수주진행현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2957400" y="1766880"/>
            <a:ext cx="285840" cy="3957480"/>
          </a:xfrm>
          <a:prstGeom prst="rect">
            <a:avLst/>
          </a:prstGeom>
          <a:gradFill rotWithShape="0">
            <a:gsLst>
              <a:gs pos="0">
                <a:srgbClr val="c5c5c5"/>
              </a:gs>
              <a:gs pos="50000">
                <a:srgbClr val="dddddd"/>
              </a:gs>
              <a:gs pos="100000">
                <a:srgbClr val="c5c5c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3728880" y="1776240"/>
            <a:ext cx="924120" cy="3991320"/>
          </a:xfrm>
          <a:prstGeom prst="rect">
            <a:avLst/>
          </a:prstGeom>
          <a:gradFill rotWithShape="0">
            <a:gsLst>
              <a:gs pos="0">
                <a:srgbClr val="92cbc6"/>
              </a:gs>
              <a:gs pos="50000">
                <a:srgbClr val="b8fff9"/>
              </a:gs>
              <a:gs pos="100000">
                <a:srgbClr val="92cbc6"/>
              </a:gs>
            </a:gsLst>
            <a:lin ang="108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7819920" y="1766880"/>
            <a:ext cx="298440" cy="3957480"/>
          </a:xfrm>
          <a:prstGeom prst="rect">
            <a:avLst/>
          </a:prstGeom>
          <a:gradFill rotWithShape="0">
            <a:gsLst>
              <a:gs pos="0">
                <a:srgbClr val="c5c5c5"/>
              </a:gs>
              <a:gs pos="50000">
                <a:srgbClr val="dddddd"/>
              </a:gs>
              <a:gs pos="100000">
                <a:srgbClr val="c5c5c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8597880" y="1776240"/>
            <a:ext cx="927000" cy="3935520"/>
          </a:xfrm>
          <a:prstGeom prst="rect">
            <a:avLst/>
          </a:prstGeom>
          <a:gradFill rotWithShape="0">
            <a:gsLst>
              <a:gs pos="0">
                <a:srgbClr val="92cbc6"/>
              </a:gs>
              <a:gs pos="50000">
                <a:srgbClr val="b8fff9"/>
              </a:gs>
              <a:gs pos="100000">
                <a:srgbClr val="92cbc6"/>
              </a:gs>
            </a:gsLst>
            <a:lin ang="108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5372280" y="1766880"/>
            <a:ext cx="285480" cy="3957480"/>
          </a:xfrm>
          <a:prstGeom prst="rect">
            <a:avLst/>
          </a:prstGeom>
          <a:gradFill rotWithShape="0">
            <a:gsLst>
              <a:gs pos="0">
                <a:srgbClr val="c5c5c5"/>
              </a:gs>
              <a:gs pos="50000">
                <a:srgbClr val="dddddd"/>
              </a:gs>
              <a:gs pos="100000">
                <a:srgbClr val="c5c5c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6153120" y="1776240"/>
            <a:ext cx="927000" cy="3935520"/>
          </a:xfrm>
          <a:prstGeom prst="rect">
            <a:avLst/>
          </a:prstGeom>
          <a:gradFill rotWithShape="0">
            <a:gsLst>
              <a:gs pos="0">
                <a:srgbClr val="92cbc6"/>
              </a:gs>
              <a:gs pos="50000">
                <a:srgbClr val="b8fff9"/>
              </a:gs>
              <a:gs pos="100000">
                <a:srgbClr val="92cbc6"/>
              </a:gs>
            </a:gsLst>
            <a:lin ang="108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3651840" y="1254240"/>
            <a:ext cx="10004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고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5983920" y="1254240"/>
            <a:ext cx="10004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주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8279280" y="1230480"/>
            <a:ext cx="14882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납품실행계획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441720" y="1925640"/>
            <a:ext cx="120780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127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 rot="16200000">
            <a:off x="2539800" y="1930320"/>
            <a:ext cx="120780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127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2911680" y="1925640"/>
            <a:ext cx="120780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127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4347000" y="1925640"/>
            <a:ext cx="120780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127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5320080" y="1925640"/>
            <a:ext cx="120780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124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 rot="16200000">
            <a:off x="7375320" y="1933560"/>
            <a:ext cx="120780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ff3300"/>
                </a:solidFill>
                <a:latin typeface="Arial"/>
                <a:ea typeface="굴림체"/>
              </a:rPr>
              <a:t>126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7882920" y="1925640"/>
            <a:ext cx="98244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 flipV="1">
            <a:off x="8136000" y="3629160"/>
            <a:ext cx="750960" cy="92376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 flipV="1">
            <a:off x="8136000" y="3036600"/>
            <a:ext cx="765000" cy="138564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4352760" y="2887560"/>
            <a:ext cx="971640" cy="146700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 flipV="1">
            <a:off x="4352760" y="5072040"/>
            <a:ext cx="970200" cy="60480"/>
          </a:xfrm>
          <a:prstGeom prst="line">
            <a:avLst/>
          </a:prstGeom>
          <a:ln w="25560">
            <a:solidFill>
              <a:srgbClr val="cc00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4352760" y="3598920"/>
            <a:ext cx="984240" cy="26028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 flipV="1">
            <a:off x="4352760" y="2734920"/>
            <a:ext cx="854280" cy="148284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 flipV="1">
            <a:off x="9193320" y="2900520"/>
            <a:ext cx="590400" cy="66672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 flipV="1">
            <a:off x="9190080" y="3051000"/>
            <a:ext cx="592200" cy="161640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 flipV="1">
            <a:off x="6786720" y="2676600"/>
            <a:ext cx="873000" cy="27936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 flipV="1">
            <a:off x="6786720" y="2749680"/>
            <a:ext cx="931680" cy="189216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 flipV="1">
            <a:off x="6786720" y="4437000"/>
            <a:ext cx="931680" cy="689040"/>
          </a:xfrm>
          <a:prstGeom prst="line">
            <a:avLst/>
          </a:prstGeom>
          <a:ln w="25560">
            <a:solidFill>
              <a:srgbClr val="cc00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 flipV="1">
            <a:off x="8136000" y="4682880"/>
            <a:ext cx="750960" cy="14292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541440" y="2697120"/>
            <a:ext cx="261720" cy="261792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9318600" y="1925640"/>
            <a:ext cx="88308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Arial"/>
                <a:ea typeface="굴림체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 flipV="1">
            <a:off x="5654520" y="2935080"/>
            <a:ext cx="800280" cy="56340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5654520" y="5054760"/>
            <a:ext cx="873360" cy="77760"/>
          </a:xfrm>
          <a:prstGeom prst="line">
            <a:avLst/>
          </a:prstGeom>
          <a:ln w="25560">
            <a:solidFill>
              <a:srgbClr val="cc00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5654520" y="4354560"/>
            <a:ext cx="851040" cy="30960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 flipV="1">
            <a:off x="3255840" y="2892600"/>
            <a:ext cx="839880" cy="7272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3259080" y="4913280"/>
            <a:ext cx="804960" cy="219240"/>
          </a:xfrm>
          <a:prstGeom prst="line">
            <a:avLst/>
          </a:prstGeom>
          <a:ln w="25560">
            <a:solidFill>
              <a:srgbClr val="cc00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 flipV="1">
            <a:off x="3255840" y="3571560"/>
            <a:ext cx="811440" cy="22860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3255840" y="4127400"/>
            <a:ext cx="811440" cy="7956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 flipV="1">
            <a:off x="806400" y="2813040"/>
            <a:ext cx="679680" cy="18432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 flipV="1">
            <a:off x="806400" y="4538520"/>
            <a:ext cx="663480" cy="527040"/>
          </a:xfrm>
          <a:prstGeom prst="line">
            <a:avLst/>
          </a:prstGeom>
          <a:ln w="25560">
            <a:solidFill>
              <a:srgbClr val="cc00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 flipV="1">
            <a:off x="806400" y="5029200"/>
            <a:ext cx="663480" cy="18720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806400" y="2805120"/>
            <a:ext cx="695520" cy="47160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1887480" y="2827440"/>
            <a:ext cx="1042920" cy="99828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 flipV="1">
            <a:off x="1887480" y="2965320"/>
            <a:ext cx="1036800" cy="28584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 flipV="1">
            <a:off x="1873080" y="4127040"/>
            <a:ext cx="1051200" cy="90180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1916280" y="4552920"/>
            <a:ext cx="1014120" cy="345960"/>
          </a:xfrm>
          <a:prstGeom prst="line">
            <a:avLst/>
          </a:prstGeom>
          <a:ln w="25560">
            <a:solidFill>
              <a:srgbClr val="cc00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7824960" y="4387680"/>
            <a:ext cx="284040" cy="46692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7" name=""/>
          <p:cNvGrpSpPr/>
          <p:nvPr/>
        </p:nvGrpSpPr>
        <p:grpSpPr>
          <a:xfrm>
            <a:off x="221760" y="2752560"/>
            <a:ext cx="397440" cy="2659320"/>
            <a:chOff x="221760" y="2752560"/>
            <a:chExt cx="397440" cy="2659320"/>
          </a:xfrm>
        </p:grpSpPr>
        <p:sp>
          <p:nvSpPr>
            <p:cNvPr id="1048" name=""/>
            <p:cNvSpPr/>
            <p:nvPr/>
          </p:nvSpPr>
          <p:spPr>
            <a:xfrm>
              <a:off x="287280" y="2752560"/>
              <a:ext cx="317520" cy="0"/>
            </a:xfrm>
            <a:prstGeom prst="line">
              <a:avLst/>
            </a:prstGeom>
            <a:ln w="25560">
              <a:solidFill>
                <a:srgbClr val="99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619200" y="2752560"/>
              <a:ext cx="0" cy="2659320"/>
            </a:xfrm>
            <a:prstGeom prst="line">
              <a:avLst/>
            </a:prstGeom>
            <a:ln w="25560">
              <a:solidFill>
                <a:srgbClr val="99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 flipH="1">
              <a:off x="221760" y="5411880"/>
              <a:ext cx="382680" cy="0"/>
            </a:xfrm>
            <a:prstGeom prst="line">
              <a:avLst/>
            </a:prstGeom>
            <a:ln w="25560">
              <a:solidFill>
                <a:srgbClr val="990066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1" name=""/>
          <p:cNvGrpSpPr/>
          <p:nvPr/>
        </p:nvGrpSpPr>
        <p:grpSpPr>
          <a:xfrm>
            <a:off x="7631280" y="4452840"/>
            <a:ext cx="293400" cy="505080"/>
            <a:chOff x="7631280" y="4452840"/>
            <a:chExt cx="293400" cy="505080"/>
          </a:xfrm>
        </p:grpSpPr>
        <p:sp>
          <p:nvSpPr>
            <p:cNvPr id="1052" name=""/>
            <p:cNvSpPr/>
            <p:nvPr/>
          </p:nvSpPr>
          <p:spPr>
            <a:xfrm>
              <a:off x="7680240" y="4452840"/>
              <a:ext cx="233280" cy="0"/>
            </a:xfrm>
            <a:prstGeom prst="line">
              <a:avLst/>
            </a:prstGeom>
            <a:ln w="25560">
              <a:solidFill>
                <a:srgbClr val="99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7924680" y="4452840"/>
              <a:ext cx="0" cy="505080"/>
            </a:xfrm>
            <a:prstGeom prst="line">
              <a:avLst/>
            </a:prstGeom>
            <a:ln w="25560">
              <a:solidFill>
                <a:srgbClr val="99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 flipH="1">
              <a:off x="7631280" y="4957920"/>
              <a:ext cx="282240" cy="0"/>
            </a:xfrm>
            <a:prstGeom prst="line">
              <a:avLst/>
            </a:prstGeom>
            <a:ln w="25560">
              <a:solidFill>
                <a:srgbClr val="990066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5" name=""/>
          <p:cNvSpPr/>
          <p:nvPr/>
        </p:nvSpPr>
        <p:spPr>
          <a:xfrm>
            <a:off x="8986680" y="2949480"/>
            <a:ext cx="119520" cy="1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0033"/>
                </a:solidFill>
                <a:latin typeface="Arial"/>
                <a:ea typeface="굴림체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8986320" y="3538440"/>
            <a:ext cx="139320" cy="1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6600"/>
                </a:solidFill>
                <a:latin typeface="Arial"/>
                <a:ea typeface="굴림체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8986320" y="4641840"/>
            <a:ext cx="139320" cy="1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6600"/>
                </a:solidFill>
                <a:latin typeface="Arial"/>
                <a:ea typeface="굴림체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2963880" y="2933640"/>
            <a:ext cx="268200" cy="6984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2963880" y="3778200"/>
            <a:ext cx="268200" cy="6984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2963880" y="4118040"/>
            <a:ext cx="268200" cy="6984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2963880" y="4876920"/>
            <a:ext cx="268200" cy="6984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5381640" y="3489480"/>
            <a:ext cx="268200" cy="6984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5381640" y="4305240"/>
            <a:ext cx="268200" cy="6984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5381640" y="5035680"/>
            <a:ext cx="268200" cy="6984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627840" y="3592440"/>
            <a:ext cx="817560" cy="6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6813720" y="1947960"/>
            <a:ext cx="120780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124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7931520" y="4375080"/>
            <a:ext cx="80244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6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6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6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8" name=""/>
          <p:cNvGrpSpPr/>
          <p:nvPr/>
        </p:nvGrpSpPr>
        <p:grpSpPr>
          <a:xfrm>
            <a:off x="7669080" y="2517840"/>
            <a:ext cx="347760" cy="290520"/>
            <a:chOff x="7669080" y="2517840"/>
            <a:chExt cx="347760" cy="290520"/>
          </a:xfrm>
        </p:grpSpPr>
        <p:sp>
          <p:nvSpPr>
            <p:cNvPr id="1069" name=""/>
            <p:cNvSpPr/>
            <p:nvPr/>
          </p:nvSpPr>
          <p:spPr>
            <a:xfrm>
              <a:off x="7669080" y="2517840"/>
              <a:ext cx="347760" cy="290520"/>
            </a:xfrm>
            <a:prstGeom prst="ellipse">
              <a:avLst/>
            </a:prstGeom>
            <a:solidFill>
              <a:srgbClr val="ccecff"/>
            </a:solidFill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7750080" y="2597040"/>
              <a:ext cx="236880" cy="17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0033"/>
                  </a:solidFill>
                  <a:latin typeface="Arial"/>
                  <a:ea typeface="굴림체"/>
                </a:rPr>
                <a:t>N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1" name=""/>
          <p:cNvGrpSpPr/>
          <p:nvPr/>
        </p:nvGrpSpPr>
        <p:grpSpPr>
          <a:xfrm>
            <a:off x="5210280" y="2517840"/>
            <a:ext cx="347400" cy="290520"/>
            <a:chOff x="5210280" y="2517840"/>
            <a:chExt cx="347400" cy="290520"/>
          </a:xfrm>
        </p:grpSpPr>
        <p:sp>
          <p:nvSpPr>
            <p:cNvPr id="1072" name=""/>
            <p:cNvSpPr/>
            <p:nvPr/>
          </p:nvSpPr>
          <p:spPr>
            <a:xfrm>
              <a:off x="5210280" y="2517840"/>
              <a:ext cx="347400" cy="290520"/>
            </a:xfrm>
            <a:prstGeom prst="ellipse">
              <a:avLst/>
            </a:prstGeom>
            <a:solidFill>
              <a:srgbClr val="ccecff"/>
            </a:solidFill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5291280" y="2597040"/>
              <a:ext cx="236880" cy="17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0033"/>
                  </a:solidFill>
                  <a:latin typeface="Arial"/>
                  <a:ea typeface="굴림체"/>
                </a:rPr>
                <a:t>N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4" name=""/>
          <p:cNvSpPr/>
          <p:nvPr/>
        </p:nvSpPr>
        <p:spPr>
          <a:xfrm>
            <a:off x="801720" y="3143160"/>
            <a:ext cx="725400" cy="57312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 flipV="1">
            <a:off x="1844640" y="3289320"/>
            <a:ext cx="1089000" cy="42696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2963880" y="3243240"/>
            <a:ext cx="268200" cy="6984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3265560" y="3289320"/>
            <a:ext cx="815760" cy="6516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4375080" y="3343320"/>
            <a:ext cx="961920" cy="16992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5381640" y="3828960"/>
            <a:ext cx="268200" cy="6984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5662440" y="3838680"/>
            <a:ext cx="857520" cy="612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 flipV="1">
            <a:off x="6765840" y="3552840"/>
            <a:ext cx="892440" cy="27792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7824960" y="3502080"/>
            <a:ext cx="284040" cy="32076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3" name=""/>
          <p:cNvGrpSpPr/>
          <p:nvPr/>
        </p:nvGrpSpPr>
        <p:grpSpPr>
          <a:xfrm>
            <a:off x="7631280" y="3552840"/>
            <a:ext cx="293400" cy="342720"/>
            <a:chOff x="7631280" y="3552840"/>
            <a:chExt cx="293400" cy="342720"/>
          </a:xfrm>
        </p:grpSpPr>
        <p:sp>
          <p:nvSpPr>
            <p:cNvPr id="1084" name=""/>
            <p:cNvSpPr/>
            <p:nvPr/>
          </p:nvSpPr>
          <p:spPr>
            <a:xfrm>
              <a:off x="7680240" y="3552840"/>
              <a:ext cx="233280" cy="0"/>
            </a:xfrm>
            <a:prstGeom prst="line">
              <a:avLst/>
            </a:prstGeom>
            <a:ln w="12600">
              <a:solidFill>
                <a:srgbClr val="99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7924680" y="3552840"/>
              <a:ext cx="0" cy="342720"/>
            </a:xfrm>
            <a:prstGeom prst="line">
              <a:avLst/>
            </a:prstGeom>
            <a:ln w="12600">
              <a:solidFill>
                <a:srgbClr val="99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 flipH="1">
              <a:off x="7631280" y="3895560"/>
              <a:ext cx="282240" cy="0"/>
            </a:xfrm>
            <a:prstGeom prst="line">
              <a:avLst/>
            </a:prstGeom>
            <a:ln w="12600">
              <a:solidFill>
                <a:srgbClr val="99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7" name=""/>
          <p:cNvSpPr/>
          <p:nvPr/>
        </p:nvSpPr>
        <p:spPr>
          <a:xfrm flipV="1">
            <a:off x="8129520" y="2690640"/>
            <a:ext cx="728640" cy="90360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8994600" y="2641680"/>
            <a:ext cx="119520" cy="1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0033"/>
                </a:solidFill>
                <a:latin typeface="Arial"/>
                <a:ea typeface="굴림체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7896600" y="3430440"/>
            <a:ext cx="80244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6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6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6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 rot="16200000">
            <a:off x="4943520" y="1914480"/>
            <a:ext cx="120780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127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1919520" y="1905120"/>
            <a:ext cx="120780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127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AD3986-6765-4E27-BF4F-EE5A328FCC8E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"/>
          <p:cNvSpPr/>
          <p:nvPr/>
        </p:nvSpPr>
        <p:spPr>
          <a:xfrm>
            <a:off x="2284560" y="243000"/>
            <a:ext cx="5743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22. 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조인하는 테이블의 순서에 따른 차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1239840" y="1581120"/>
            <a:ext cx="6226200" cy="4558680"/>
          </a:xfrm>
          <a:prstGeom prst="roundRect">
            <a:avLst>
              <a:gd name="adj" fmla="val 699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</a:t>
            </a:r>
            <a:r>
              <a:rPr b="1" lang="ko-KR" sz="1600" spc="-1" strike="noStrike">
                <a:solidFill>
                  <a:srgbClr val="ff3300"/>
                </a:solidFill>
                <a:latin typeface="굴림체"/>
                <a:ea typeface="굴림체"/>
              </a:rPr>
              <a:t>/*+ ORDERED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DISTINCT A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부서번호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, A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주문번호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, B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주문일자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B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직원번호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, B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고객번호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, D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출고중지구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FROM  </a:t>
            </a: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수주진행현황 </a:t>
            </a: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C</a:t>
            </a:r>
            <a:r>
              <a:rPr b="1" lang="ko-KR" sz="1600" spc="-1" strike="noStrike">
                <a:solidFill>
                  <a:srgbClr val="ff0033"/>
                </a:solidFill>
                <a:latin typeface="굴림체"/>
                <a:ea typeface="굴림체"/>
              </a:rPr>
              <a:t> , </a:t>
            </a:r>
            <a:r>
              <a:rPr b="1" lang="ko-KR" sz="1600" spc="-1" strike="noStrike">
                <a:solidFill>
                  <a:srgbClr val="ff0033"/>
                </a:solidFill>
                <a:latin typeface="굴림체"/>
                <a:ea typeface="굴림체"/>
              </a:rPr>
              <a:t>납품실행계획 </a:t>
            </a:r>
            <a:r>
              <a:rPr b="1" lang="ko-KR" sz="1600" spc="-1" strike="noStrike">
                <a:solidFill>
                  <a:srgbClr val="ff0033"/>
                </a:solidFill>
                <a:latin typeface="굴림체"/>
                <a:ea typeface="굴림체"/>
              </a:rPr>
              <a:t>A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1" lang="ko-KR" sz="1600" spc="-1" strike="noStrike">
                <a:solidFill>
                  <a:srgbClr val="990066"/>
                </a:solidFill>
                <a:latin typeface="굴림체"/>
                <a:ea typeface="굴림체"/>
              </a:rPr>
              <a:t>고객 </a:t>
            </a:r>
            <a:r>
              <a:rPr b="1" lang="ko-KR" sz="1600" spc="-1" strike="noStrike">
                <a:solidFill>
                  <a:srgbClr val="990066"/>
                </a:solidFill>
                <a:latin typeface="굴림체"/>
                <a:ea typeface="굴림체"/>
              </a:rPr>
              <a:t>D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1" lang="ko-KR" sz="1600" spc="-1" strike="noStrike">
                <a:solidFill>
                  <a:srgbClr val="339933"/>
                </a:solidFill>
                <a:latin typeface="굴림체"/>
                <a:ea typeface="굴림체"/>
              </a:rPr>
              <a:t>주문 </a:t>
            </a:r>
            <a:r>
              <a:rPr b="1" lang="ko-KR" sz="1600" spc="-1" strike="noStrike">
                <a:solidFill>
                  <a:srgbClr val="339933"/>
                </a:solidFill>
                <a:latin typeface="굴림체"/>
                <a:ea typeface="굴림체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WHERE  A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부서번호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= B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부서번호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AND  A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주문번호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= B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주문번호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AND  A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주문일자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= B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주문일자</a:t>
            </a: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AND  C.</a:t>
            </a: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부서번호 </a:t>
            </a: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= </a:t>
            </a:r>
            <a:r>
              <a:rPr b="1" lang="ko-KR" sz="1600" spc="-1" strike="noStrike">
                <a:solidFill>
                  <a:srgbClr val="ff0033"/>
                </a:solidFill>
                <a:latin typeface="굴림체"/>
                <a:ea typeface="굴림체"/>
              </a:rPr>
              <a:t>A.</a:t>
            </a:r>
            <a:r>
              <a:rPr b="1" lang="ko-KR" sz="1600" spc="-1" strike="noStrike">
                <a:solidFill>
                  <a:srgbClr val="ff0033"/>
                </a:solidFill>
                <a:latin typeface="굴림체"/>
                <a:ea typeface="굴림체"/>
              </a:rPr>
              <a:t>부서번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AND  C.</a:t>
            </a: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주문번호 </a:t>
            </a: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= </a:t>
            </a:r>
            <a:r>
              <a:rPr b="1" lang="ko-KR" sz="1600" spc="-1" strike="noStrike">
                <a:solidFill>
                  <a:srgbClr val="ff0033"/>
                </a:solidFill>
                <a:latin typeface="굴림체"/>
                <a:ea typeface="굴림체"/>
              </a:rPr>
              <a:t>A.</a:t>
            </a:r>
            <a:r>
              <a:rPr b="1" lang="ko-KR" sz="1600" spc="-1" strike="noStrike">
                <a:solidFill>
                  <a:srgbClr val="ff0033"/>
                </a:solidFill>
                <a:latin typeface="굴림체"/>
                <a:ea typeface="굴림체"/>
              </a:rPr>
              <a:t>주문번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AND  C.</a:t>
            </a: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주문일자 </a:t>
            </a: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=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A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주문일자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AND  C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주문번호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= </a:t>
            </a:r>
            <a:r>
              <a:rPr b="1" lang="ko-KR" sz="1600" spc="-1" strike="noStrike">
                <a:solidFill>
                  <a:srgbClr val="339933"/>
                </a:solidFill>
                <a:latin typeface="굴림체"/>
                <a:ea typeface="굴림체"/>
              </a:rPr>
              <a:t>B.</a:t>
            </a:r>
            <a:r>
              <a:rPr b="1" lang="ko-KR" sz="1600" spc="-1" strike="noStrike">
                <a:solidFill>
                  <a:srgbClr val="339933"/>
                </a:solidFill>
                <a:latin typeface="굴림체"/>
                <a:ea typeface="굴림체"/>
              </a:rPr>
              <a:t>주문번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AND  C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주문일자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= B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주문일자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AND  C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고객번호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= </a:t>
            </a:r>
            <a:r>
              <a:rPr b="1" lang="ko-KR" sz="1600" spc="-1" strike="noStrike">
                <a:solidFill>
                  <a:srgbClr val="990066"/>
                </a:solidFill>
                <a:latin typeface="굴림체"/>
                <a:ea typeface="굴림체"/>
              </a:rPr>
              <a:t>D.</a:t>
            </a:r>
            <a:r>
              <a:rPr b="1" lang="ko-KR" sz="1600" spc="-1" strike="noStrike">
                <a:solidFill>
                  <a:srgbClr val="990066"/>
                </a:solidFill>
                <a:latin typeface="굴림체"/>
                <a:ea typeface="굴림체"/>
              </a:rPr>
              <a:t>고객번호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AND  C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부서번호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= 3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AND  C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회사번호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=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AND  A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완료여부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IS NULL 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B02F47-E3EF-4D80-A792-E3F75E70D0C2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"/>
          <p:cNvSpPr/>
          <p:nvPr/>
        </p:nvSpPr>
        <p:spPr>
          <a:xfrm>
            <a:off x="2284560" y="243000"/>
            <a:ext cx="5743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22. 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조인하는 테이블의 순서에 따른 차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547560" y="1936800"/>
            <a:ext cx="277920" cy="3995640"/>
          </a:xfrm>
          <a:prstGeom prst="rect">
            <a:avLst/>
          </a:prstGeom>
          <a:gradFill rotWithShape="0">
            <a:gsLst>
              <a:gs pos="0">
                <a:srgbClr val="c5c5c5"/>
              </a:gs>
              <a:gs pos="50000">
                <a:srgbClr val="dddddd"/>
              </a:gs>
              <a:gs pos="100000">
                <a:srgbClr val="c5c5c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46440" y="2052720"/>
            <a:ext cx="120780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127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1359000" y="1940040"/>
            <a:ext cx="936360" cy="4008240"/>
          </a:xfrm>
          <a:prstGeom prst="rect">
            <a:avLst/>
          </a:prstGeom>
          <a:gradFill rotWithShape="0">
            <a:gsLst>
              <a:gs pos="0">
                <a:srgbClr val="7fb1ad"/>
              </a:gs>
              <a:gs pos="50000">
                <a:srgbClr val="b8fff9"/>
              </a:gs>
              <a:gs pos="100000">
                <a:srgbClr val="7fb1ad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978480" y="1392120"/>
            <a:ext cx="14882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수주진행현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3046320" y="1936800"/>
            <a:ext cx="308160" cy="4017960"/>
          </a:xfrm>
          <a:prstGeom prst="rect">
            <a:avLst/>
          </a:prstGeom>
          <a:gradFill rotWithShape="0">
            <a:gsLst>
              <a:gs pos="0">
                <a:srgbClr val="c5c5c5"/>
              </a:gs>
              <a:gs pos="50000">
                <a:srgbClr val="dddddd"/>
              </a:gs>
              <a:gs pos="100000">
                <a:srgbClr val="c5c5c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3816360" y="1940040"/>
            <a:ext cx="939960" cy="4064040"/>
          </a:xfrm>
          <a:prstGeom prst="rect">
            <a:avLst/>
          </a:prstGeom>
          <a:gradFill rotWithShape="0">
            <a:gsLst>
              <a:gs pos="0">
                <a:srgbClr val="7fb1ad"/>
              </a:gs>
              <a:gs pos="50000">
                <a:srgbClr val="b8fff9"/>
              </a:gs>
              <a:gs pos="100000">
                <a:srgbClr val="7fb1ad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7732800" y="1936800"/>
            <a:ext cx="288720" cy="4017960"/>
          </a:xfrm>
          <a:prstGeom prst="rect">
            <a:avLst/>
          </a:prstGeom>
          <a:gradFill rotWithShape="0">
            <a:gsLst>
              <a:gs pos="0">
                <a:srgbClr val="c5c5c5"/>
              </a:gs>
              <a:gs pos="50000">
                <a:srgbClr val="dddddd"/>
              </a:gs>
              <a:gs pos="100000">
                <a:srgbClr val="c5c5c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8507520" y="1940040"/>
            <a:ext cx="939600" cy="4008240"/>
          </a:xfrm>
          <a:prstGeom prst="rect">
            <a:avLst/>
          </a:prstGeom>
          <a:gradFill rotWithShape="0">
            <a:gsLst>
              <a:gs pos="0">
                <a:srgbClr val="7fb1ad"/>
              </a:gs>
              <a:gs pos="50000">
                <a:srgbClr val="b8fff9"/>
              </a:gs>
              <a:gs pos="100000">
                <a:srgbClr val="7fb1ad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5345280" y="1936800"/>
            <a:ext cx="277560" cy="4017960"/>
          </a:xfrm>
          <a:prstGeom prst="rect">
            <a:avLst/>
          </a:prstGeom>
          <a:gradFill rotWithShape="0">
            <a:gsLst>
              <a:gs pos="0">
                <a:srgbClr val="c5c5c5"/>
              </a:gs>
              <a:gs pos="50000">
                <a:srgbClr val="dddddd"/>
              </a:gs>
              <a:gs pos="100000">
                <a:srgbClr val="c5c5c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6119640" y="1940040"/>
            <a:ext cx="938520" cy="4008240"/>
          </a:xfrm>
          <a:prstGeom prst="rect">
            <a:avLst/>
          </a:prstGeom>
          <a:gradFill rotWithShape="0">
            <a:gsLst>
              <a:gs pos="0">
                <a:srgbClr val="7fb1ad"/>
              </a:gs>
              <a:gs pos="50000">
                <a:srgbClr val="b8fff9"/>
              </a:gs>
              <a:gs pos="100000">
                <a:srgbClr val="7fb1ad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6057000" y="1403280"/>
            <a:ext cx="10004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고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8508240" y="1393920"/>
            <a:ext cx="10004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주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3543840" y="1403280"/>
            <a:ext cx="14882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납품실행계획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1198800" y="2038320"/>
            <a:ext cx="120780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127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2543760" y="2052720"/>
            <a:ext cx="126252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3300"/>
                </a:solidFill>
                <a:latin typeface="Arial"/>
                <a:ea typeface="굴림체"/>
              </a:rPr>
              <a:t>12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3735360" y="2052720"/>
            <a:ext cx="100980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3300"/>
                </a:solidFill>
                <a:latin typeface="Arial"/>
                <a:ea typeface="굴림체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5001480" y="2052720"/>
            <a:ext cx="98244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6089040" y="2052720"/>
            <a:ext cx="98244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7384320" y="2052720"/>
            <a:ext cx="98244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8476560" y="2052720"/>
            <a:ext cx="98244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 flipV="1">
            <a:off x="3362400" y="2951280"/>
            <a:ext cx="747720" cy="45864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 flipV="1">
            <a:off x="3354480" y="3429000"/>
            <a:ext cx="755640" cy="92376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 flipV="1">
            <a:off x="3344760" y="4770000"/>
            <a:ext cx="750960" cy="5724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 flipV="1">
            <a:off x="1946160" y="2460240"/>
            <a:ext cx="936720" cy="27612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 flipV="1">
            <a:off x="1960560" y="2532240"/>
            <a:ext cx="879480" cy="40608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 flipV="1">
            <a:off x="1932120" y="2575080"/>
            <a:ext cx="966600" cy="65232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 flipV="1">
            <a:off x="1946160" y="4333680"/>
            <a:ext cx="920880" cy="20628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 flipV="1">
            <a:off x="1933560" y="2677680"/>
            <a:ext cx="979560" cy="122076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 flipV="1">
            <a:off x="841320" y="2715840"/>
            <a:ext cx="876240" cy="31428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 flipV="1">
            <a:off x="841320" y="2949480"/>
            <a:ext cx="876240" cy="31752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 flipV="1">
            <a:off x="841320" y="4554360"/>
            <a:ext cx="830160" cy="51768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 flipV="1">
            <a:off x="841320" y="3905280"/>
            <a:ext cx="816120" cy="89208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841320" y="2639880"/>
            <a:ext cx="876240" cy="62712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555480" y="2583000"/>
            <a:ext cx="263520" cy="265716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9254880" y="2035080"/>
            <a:ext cx="88308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Arial"/>
                <a:ea typeface="굴림체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0" name=""/>
          <p:cNvGrpSpPr/>
          <p:nvPr/>
        </p:nvGrpSpPr>
        <p:grpSpPr>
          <a:xfrm>
            <a:off x="221760" y="2638440"/>
            <a:ext cx="397440" cy="2658960"/>
            <a:chOff x="221760" y="2638440"/>
            <a:chExt cx="397440" cy="2658960"/>
          </a:xfrm>
        </p:grpSpPr>
        <p:sp>
          <p:nvSpPr>
            <p:cNvPr id="1131" name=""/>
            <p:cNvSpPr/>
            <p:nvPr/>
          </p:nvSpPr>
          <p:spPr>
            <a:xfrm>
              <a:off x="287280" y="2638440"/>
              <a:ext cx="317520" cy="0"/>
            </a:xfrm>
            <a:prstGeom prst="line">
              <a:avLst/>
            </a:prstGeom>
            <a:ln w="25560">
              <a:solidFill>
                <a:srgbClr val="99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619200" y="2638440"/>
              <a:ext cx="0" cy="2658960"/>
            </a:xfrm>
            <a:prstGeom prst="line">
              <a:avLst/>
            </a:prstGeom>
            <a:ln w="25560">
              <a:solidFill>
                <a:srgbClr val="99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 flipH="1">
              <a:off x="221760" y="5297400"/>
              <a:ext cx="382680" cy="0"/>
            </a:xfrm>
            <a:prstGeom prst="line">
              <a:avLst/>
            </a:prstGeom>
            <a:ln w="25560">
              <a:solidFill>
                <a:srgbClr val="990066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4" name=""/>
          <p:cNvSpPr/>
          <p:nvPr/>
        </p:nvSpPr>
        <p:spPr>
          <a:xfrm>
            <a:off x="3054240" y="4273560"/>
            <a:ext cx="293760" cy="59688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5" name=""/>
          <p:cNvGrpSpPr/>
          <p:nvPr/>
        </p:nvGrpSpPr>
        <p:grpSpPr>
          <a:xfrm>
            <a:off x="2855880" y="4334040"/>
            <a:ext cx="289080" cy="637920"/>
            <a:chOff x="2855880" y="4334040"/>
            <a:chExt cx="289080" cy="637920"/>
          </a:xfrm>
        </p:grpSpPr>
        <p:sp>
          <p:nvSpPr>
            <p:cNvPr id="1136" name=""/>
            <p:cNvSpPr/>
            <p:nvPr/>
          </p:nvSpPr>
          <p:spPr>
            <a:xfrm>
              <a:off x="2903400" y="4334040"/>
              <a:ext cx="231840" cy="0"/>
            </a:xfrm>
            <a:prstGeom prst="line">
              <a:avLst/>
            </a:prstGeom>
            <a:ln w="25560">
              <a:solidFill>
                <a:srgbClr val="99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3144960" y="4334040"/>
              <a:ext cx="0" cy="637920"/>
            </a:xfrm>
            <a:prstGeom prst="line">
              <a:avLst/>
            </a:prstGeom>
            <a:ln w="25560">
              <a:solidFill>
                <a:srgbClr val="99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 flipH="1">
              <a:off x="2855880" y="4971960"/>
              <a:ext cx="279360" cy="0"/>
            </a:xfrm>
            <a:prstGeom prst="line">
              <a:avLst/>
            </a:prstGeom>
            <a:ln w="25560">
              <a:solidFill>
                <a:srgbClr val="990066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9" name=""/>
          <p:cNvSpPr/>
          <p:nvPr/>
        </p:nvSpPr>
        <p:spPr>
          <a:xfrm>
            <a:off x="5351400" y="3159000"/>
            <a:ext cx="260280" cy="7308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5351400" y="3830760"/>
            <a:ext cx="260280" cy="7308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5351400" y="4416480"/>
            <a:ext cx="260280" cy="7308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7737480" y="3159000"/>
            <a:ext cx="276120" cy="8280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7737480" y="3830760"/>
            <a:ext cx="276120" cy="8244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7737480" y="4416480"/>
            <a:ext cx="276120" cy="8244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 flipV="1">
            <a:off x="5661000" y="2936880"/>
            <a:ext cx="816120" cy="26496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 flipV="1">
            <a:off x="5661000" y="3397320"/>
            <a:ext cx="801720" cy="48096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5640480" y="4465800"/>
            <a:ext cx="865080" cy="34596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6737400" y="2951280"/>
            <a:ext cx="923760" cy="21888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6721560" y="3411360"/>
            <a:ext cx="988920" cy="45576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 flipV="1">
            <a:off x="6751800" y="4444560"/>
            <a:ext cx="958680" cy="33804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 flipV="1">
            <a:off x="8037360" y="2930040"/>
            <a:ext cx="816120" cy="26532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 flipV="1">
            <a:off x="8037360" y="3390840"/>
            <a:ext cx="801720" cy="48096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8016840" y="4459320"/>
            <a:ext cx="865080" cy="34596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4" name=""/>
          <p:cNvGrpSpPr/>
          <p:nvPr/>
        </p:nvGrpSpPr>
        <p:grpSpPr>
          <a:xfrm>
            <a:off x="4334040" y="2957400"/>
            <a:ext cx="988920" cy="1831680"/>
            <a:chOff x="4334040" y="2957400"/>
            <a:chExt cx="988920" cy="1831680"/>
          </a:xfrm>
        </p:grpSpPr>
        <p:sp>
          <p:nvSpPr>
            <p:cNvPr id="1155" name=""/>
            <p:cNvSpPr/>
            <p:nvPr/>
          </p:nvSpPr>
          <p:spPr>
            <a:xfrm>
              <a:off x="4349880" y="2957400"/>
              <a:ext cx="923760" cy="219240"/>
            </a:xfrm>
            <a:prstGeom prst="line">
              <a:avLst/>
            </a:prstGeom>
            <a:ln w="12600">
              <a:solidFill>
                <a:srgbClr val="cc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4334040" y="3417840"/>
              <a:ext cx="988920" cy="455760"/>
            </a:xfrm>
            <a:prstGeom prst="line">
              <a:avLst/>
            </a:prstGeom>
            <a:ln w="12600">
              <a:solidFill>
                <a:srgbClr val="cc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 flipV="1">
              <a:off x="4363920" y="4451040"/>
              <a:ext cx="959040" cy="338040"/>
            </a:xfrm>
            <a:prstGeom prst="line">
              <a:avLst/>
            </a:prstGeom>
            <a:ln w="12600">
              <a:solidFill>
                <a:srgbClr val="cc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8" name=""/>
          <p:cNvSpPr/>
          <p:nvPr/>
        </p:nvSpPr>
        <p:spPr>
          <a:xfrm flipV="1">
            <a:off x="9136080" y="3414600"/>
            <a:ext cx="660240" cy="648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8910720" y="2895480"/>
            <a:ext cx="119520" cy="1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0033"/>
                </a:solidFill>
                <a:latin typeface="Arial"/>
                <a:ea typeface="굴림체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8910720" y="4735440"/>
            <a:ext cx="119520" cy="1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0033"/>
                </a:solidFill>
                <a:latin typeface="Arial"/>
                <a:ea typeface="굴림체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8910000" y="3394080"/>
            <a:ext cx="139320" cy="1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6600"/>
                </a:solidFill>
                <a:latin typeface="Arial"/>
                <a:ea typeface="굴림체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841320" y="3441600"/>
            <a:ext cx="873360" cy="180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 flipV="1">
            <a:off x="1932120" y="3400200"/>
            <a:ext cx="966600" cy="4284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4" name=""/>
          <p:cNvGrpSpPr/>
          <p:nvPr/>
        </p:nvGrpSpPr>
        <p:grpSpPr>
          <a:xfrm>
            <a:off x="2906640" y="2409840"/>
            <a:ext cx="347760" cy="290520"/>
            <a:chOff x="2906640" y="2409840"/>
            <a:chExt cx="347760" cy="290520"/>
          </a:xfrm>
        </p:grpSpPr>
        <p:sp>
          <p:nvSpPr>
            <p:cNvPr id="1165" name=""/>
            <p:cNvSpPr/>
            <p:nvPr/>
          </p:nvSpPr>
          <p:spPr>
            <a:xfrm>
              <a:off x="2906640" y="2409840"/>
              <a:ext cx="347760" cy="290520"/>
            </a:xfrm>
            <a:prstGeom prst="ellipse">
              <a:avLst/>
            </a:prstGeom>
            <a:solidFill>
              <a:srgbClr val="ccecff"/>
            </a:solidFill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2987640" y="2489040"/>
              <a:ext cx="236880" cy="17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0033"/>
                  </a:solidFill>
                  <a:latin typeface="Arial"/>
                  <a:ea typeface="굴림체"/>
                </a:rPr>
                <a:t>N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7" name=""/>
          <p:cNvSpPr/>
          <p:nvPr/>
        </p:nvSpPr>
        <p:spPr>
          <a:xfrm>
            <a:off x="3054240" y="3344760"/>
            <a:ext cx="284400" cy="32076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8" name=""/>
          <p:cNvGrpSpPr/>
          <p:nvPr/>
        </p:nvGrpSpPr>
        <p:grpSpPr>
          <a:xfrm>
            <a:off x="2855520" y="3381480"/>
            <a:ext cx="294120" cy="342720"/>
            <a:chOff x="2855520" y="3381480"/>
            <a:chExt cx="294120" cy="342720"/>
          </a:xfrm>
        </p:grpSpPr>
        <p:sp>
          <p:nvSpPr>
            <p:cNvPr id="1169" name=""/>
            <p:cNvSpPr/>
            <p:nvPr/>
          </p:nvSpPr>
          <p:spPr>
            <a:xfrm>
              <a:off x="2905200" y="3381480"/>
              <a:ext cx="233280" cy="0"/>
            </a:xfrm>
            <a:prstGeom prst="line">
              <a:avLst/>
            </a:prstGeom>
            <a:ln w="12600">
              <a:solidFill>
                <a:srgbClr val="99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3149640" y="3381480"/>
              <a:ext cx="0" cy="342720"/>
            </a:xfrm>
            <a:prstGeom prst="line">
              <a:avLst/>
            </a:prstGeom>
            <a:ln w="12600">
              <a:solidFill>
                <a:srgbClr val="99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 flipH="1">
              <a:off x="2855520" y="3724200"/>
              <a:ext cx="282600" cy="0"/>
            </a:xfrm>
            <a:prstGeom prst="line">
              <a:avLst/>
            </a:prstGeom>
            <a:ln w="12600">
              <a:solidFill>
                <a:srgbClr val="99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2" name=""/>
          <p:cNvSpPr/>
          <p:nvPr/>
        </p:nvSpPr>
        <p:spPr>
          <a:xfrm>
            <a:off x="3111840" y="3324240"/>
            <a:ext cx="80244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6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6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6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3105720" y="4398840"/>
            <a:ext cx="80244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6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6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6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627840" y="3652920"/>
            <a:ext cx="817560" cy="52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3150720" y="2063880"/>
            <a:ext cx="98244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4B3759-252E-4DBE-8A11-F46C58E6ECF8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"/>
          <p:cNvSpPr/>
          <p:nvPr/>
        </p:nvSpPr>
        <p:spPr>
          <a:xfrm>
            <a:off x="-350640" y="2625840"/>
            <a:ext cx="7567200" cy="153864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t">
            <a:spAutoFit/>
          </a:bodyPr>
          <a:p>
            <a:pPr marL="343080" indent="-34308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DETL,  PGM_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A01003M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 MENU_ID  =  :B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 NVL(MAST_MENU_ID, ' ')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= NVL(:B2, ' ')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1746720" y="243000"/>
            <a:ext cx="66758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23.  NULL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처리를 위해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DEFAULT 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활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250920" y="1103400"/>
            <a:ext cx="9820080" cy="16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인덱스정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6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01003M20  :  A01003M20_U2 : MENU_ID + MAST_MENU_ID  (UNIQ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27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3768840" y="2289240"/>
            <a:ext cx="5900760" cy="158436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cc0000"/>
                </a:solidFill>
                <a:latin typeface="굴림체"/>
                <a:ea typeface="굴림체"/>
              </a:rPr>
              <a:t> </a:t>
            </a:r>
            <a:r>
              <a:rPr b="1" lang="ko-KR" sz="1400" spc="-1" strike="noStrike">
                <a:solidFill>
                  <a:srgbClr val="cc0000"/>
                </a:solidFill>
                <a:latin typeface="굴림체"/>
                <a:ea typeface="굴림체"/>
              </a:rPr>
              <a:t>ROWS   EXECUTION  PL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-----   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0   SELECT   STAT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1     TABLE  ACCESS ( BY ROWID )  OF  'A01003M20'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0033"/>
                </a:solidFill>
                <a:latin typeface="굴림체"/>
                <a:ea typeface="굴림체"/>
              </a:rPr>
              <a:t> </a:t>
            </a:r>
            <a:r>
              <a:rPr b="1" lang="ko-KR" sz="1400" spc="-1" strike="noStrike">
                <a:solidFill>
                  <a:srgbClr val="ff0033"/>
                </a:solidFill>
                <a:latin typeface="굴림체"/>
                <a:ea typeface="굴림체"/>
              </a:rPr>
              <a:t>2321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    INDEX ( RANGE SCAN )  OF  'A01003M20_U2' ( UNIQUE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-166320" y="4914000"/>
            <a:ext cx="6469920" cy="1538640"/>
          </a:xfrm>
          <a:prstGeom prst="roundRect">
            <a:avLst>
              <a:gd name="adj" fmla="val 124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ctr">
            <a:spAutoFit/>
          </a:bodyPr>
          <a:p>
            <a:pPr marL="343080" indent="-34308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DETL,  PGM_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A01003M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 MENU_ID  =  :B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AND  MAST_MENU_ID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=  NVL(:B2, 'X')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293760" y="4454640"/>
            <a:ext cx="181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개선된 </a:t>
            </a: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92C940-2C5B-4463-AC03-CFFCA69D7337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"/>
          <p:cNvSpPr/>
          <p:nvPr/>
        </p:nvSpPr>
        <p:spPr>
          <a:xfrm>
            <a:off x="-350280" y="2475000"/>
            <a:ext cx="7538400" cy="1729800"/>
          </a:xfrm>
          <a:prstGeom prst="roundRect">
            <a:avLst>
              <a:gd name="adj" fmla="val 8292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STOCK_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GFLM6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IO_DATE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= (SELECT 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MAX(IO_DAT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GFLM600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 CAR_CODE = :VALUE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 BOX_CODE = :VALUE2)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1671840" y="243000"/>
            <a:ext cx="36428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24.  MAX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값의 처리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250920" y="1103400"/>
            <a:ext cx="9348840" cy="13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인덱스정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4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GFLM600 : GFLM600_PK : CAR_CODE + BOX_CODE + IO_D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6916680" y="1774800"/>
            <a:ext cx="2720880" cy="758880"/>
          </a:xfrm>
          <a:custGeom>
            <a:avLst/>
            <a:gdLst>
              <a:gd name="textAreaLeft" fmla="*/ 100440 w 2720880"/>
              <a:gd name="textAreaRight" fmla="*/ 2620440 w 2720880"/>
              <a:gd name="textAreaTop" fmla="*/ 28080 h 758880"/>
              <a:gd name="textAreaBottom" fmla="*/ 606240 h 75888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3626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cce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0099"/>
                </a:solidFill>
                <a:latin typeface="Arial"/>
                <a:ea typeface="굴림체"/>
              </a:rPr>
              <a:t>두 </a:t>
            </a:r>
            <a:r>
              <a:rPr b="1" lang="ko-KR" sz="1600" spc="-1" strike="noStrike">
                <a:solidFill>
                  <a:srgbClr val="330099"/>
                </a:solidFill>
                <a:latin typeface="Arial"/>
                <a:ea typeface="굴림체"/>
              </a:rPr>
              <a:t>SUB-Query</a:t>
            </a:r>
            <a:r>
              <a:rPr b="1" lang="ko-KR" sz="1600" spc="-1" strike="noStrike">
                <a:solidFill>
                  <a:srgbClr val="330099"/>
                </a:solidFill>
                <a:latin typeface="Arial"/>
                <a:ea typeface="굴림체"/>
              </a:rPr>
              <a:t>의 차이는 </a:t>
            </a:r>
            <a:r>
              <a:rPr b="1" lang="ko-KR" sz="1600" spc="-1" strike="noStrike">
                <a:solidFill>
                  <a:srgbClr val="330099"/>
                </a:solidFill>
                <a:latin typeface="Arial"/>
                <a:ea typeface="굴림체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-80640" y="4410000"/>
            <a:ext cx="7730640" cy="2151720"/>
          </a:xfrm>
          <a:prstGeom prst="roundRect">
            <a:avLst>
              <a:gd name="adj" fmla="val 11042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STOCK_Q  FROM  GFLM600 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 IO_DATE = (SELECT  MAX(IO_DAT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GFLM600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 B.CAR_CODE = :VALUE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 B.BOX_CODE = :VALUE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        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AND  A.CAR_CODE = B.CAR_COD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                    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AND  A.BOX_CODE = B.BOX_CODE )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5746680" y="2978280"/>
            <a:ext cx="3214800" cy="3358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6320" rIns="76320" tIns="46080" bIns="4608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원하는 대로 결과 나오지 않음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56217E-C496-4742-A2D0-23D46851FB0F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"/>
          <p:cNvSpPr/>
          <p:nvPr/>
        </p:nvSpPr>
        <p:spPr>
          <a:xfrm>
            <a:off x="-42120" y="1987560"/>
            <a:ext cx="8129520" cy="172692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114480" bIns="11448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/*+ INDEX_DESC(A GFLM600_PK)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TOCK_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GFLM600 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 CAR_CODE = :VALUE1  AND  BOX_CODE = :VALUE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AND  ROWNUM = 1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-47520" y="4656240"/>
            <a:ext cx="8223480" cy="113508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114480" bIns="11448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SUBSTR (MAX (IO_DATE || STOCK_Q), 9, 4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GFLM6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 CAR_CODE = :VALUE1  AND  BOX_CODE = :VALUE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1439640" y="254160"/>
            <a:ext cx="817884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24.  MAX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값의 처리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191" name=""/>
          <p:cNvSpPr/>
          <p:nvPr/>
        </p:nvSpPr>
        <p:spPr>
          <a:xfrm>
            <a:off x="266760" y="1082520"/>
            <a:ext cx="4797360" cy="3650040"/>
          </a:xfrm>
          <a:prstGeom prst="roundRect">
            <a:avLst>
              <a:gd name="adj" fmla="val 12495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해결 방안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1) </a:t>
            </a: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역순 인덱스 사용 </a:t>
            </a: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- </a:t>
            </a: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효율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2) SUBSTR </a:t>
            </a: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사용 </a:t>
            </a: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(</a:t>
            </a: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인덱스 없을 때</a:t>
            </a: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484B6B-FC54-4FD1-80C3-C2A275FF35D4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"/>
          <p:cNvSpPr/>
          <p:nvPr/>
        </p:nvSpPr>
        <p:spPr>
          <a:xfrm>
            <a:off x="1601640" y="243000"/>
            <a:ext cx="5817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25.  MAX / MIN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에서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SQL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의 분리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266760" y="1103400"/>
            <a:ext cx="7367400" cy="18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인덱스정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THISEQPM : THISEQPM_X1 :  EQPMDEPT + EQPMPART + EQPMRO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9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-427680" y="4237200"/>
            <a:ext cx="9234720" cy="2353680"/>
          </a:xfrm>
          <a:prstGeom prst="roundRect">
            <a:avLst>
              <a:gd name="adj" fmla="val 974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ctr">
            <a:sp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/*+ INDEX_ASC(A THISEQPM_X1)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INV.MAX_ROOM - A.EQPMROOM + 1  INTO  :NEXTRO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( </a:t>
            </a:r>
            <a:r>
              <a:rPr b="1" lang="ko-KR" sz="1800" spc="-1" strike="noStrike">
                <a:solidFill>
                  <a:srgbClr val="006600"/>
                </a:solidFill>
                <a:latin typeface="굴림체"/>
                <a:ea typeface="굴림체"/>
              </a:rPr>
              <a:t>SELECT</a:t>
            </a:r>
            <a:r>
              <a:rPr b="1" lang="ko-KR" sz="1800" spc="-1" strike="noStrike">
                <a:solidFill>
                  <a:srgbClr val="0099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/*+ INDEX_DESC(THISEQPM THISEQPM_X1)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9900"/>
                </a:solidFill>
                <a:latin typeface="굴림체"/>
                <a:ea typeface="굴림체"/>
              </a:rPr>
              <a:t>                 </a:t>
            </a:r>
            <a:r>
              <a:rPr b="1" lang="ko-KR" sz="1800" spc="-1" strike="noStrike">
                <a:solidFill>
                  <a:srgbClr val="006600"/>
                </a:solidFill>
                <a:latin typeface="굴림체"/>
                <a:ea typeface="굴림체"/>
              </a:rPr>
              <a:t>EQPMROOM  AS  MAX_RO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6600"/>
                </a:solidFill>
                <a:latin typeface="굴림체"/>
                <a:ea typeface="굴림체"/>
              </a:rPr>
              <a:t>         </a:t>
            </a:r>
            <a:r>
              <a:rPr b="1" lang="ko-KR" sz="1800" spc="-1" strike="noStrike">
                <a:solidFill>
                  <a:srgbClr val="006600"/>
                </a:solidFill>
                <a:latin typeface="굴림체"/>
                <a:ea typeface="굴림체"/>
              </a:rPr>
              <a:t>FROM    THISEQP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6600"/>
                </a:solidFill>
                <a:latin typeface="굴림체"/>
                <a:ea typeface="굴림체"/>
              </a:rPr>
              <a:t>         </a:t>
            </a:r>
            <a:r>
              <a:rPr b="1" lang="ko-KR" sz="1800" spc="-1" strike="noStrike">
                <a:solidFill>
                  <a:srgbClr val="006600"/>
                </a:solidFill>
                <a:latin typeface="굴림체"/>
                <a:ea typeface="굴림체"/>
              </a:rPr>
              <a:t>WHERE   EQPMDEPT = :VALUE1  AND  EQPMPART = :VALUE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6600"/>
                </a:solidFill>
                <a:latin typeface="굴림체"/>
                <a:ea typeface="굴림체"/>
              </a:rPr>
              <a:t>           </a:t>
            </a:r>
            <a:r>
              <a:rPr b="1" lang="ko-KR" sz="1800" spc="-1" strike="noStrike">
                <a:solidFill>
                  <a:srgbClr val="006600"/>
                </a:solidFill>
                <a:latin typeface="굴림체"/>
                <a:ea typeface="굴림체"/>
              </a:rPr>
              <a:t>AND</a:t>
            </a:r>
            <a:r>
              <a:rPr b="1" lang="ko-KR" sz="1800" spc="-1" strike="noStrike">
                <a:solidFill>
                  <a:srgbClr val="0099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ROWNUM  = 1</a:t>
            </a:r>
            <a:r>
              <a:rPr b="1" lang="ko-KR" sz="1800" spc="-1" strike="noStrike">
                <a:solidFill>
                  <a:srgbClr val="0099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INV ,  THISEQPM 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  EQPMDEPT = :VALUE1  AND  EQPMPART = :VALUE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 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ROWNUM = 1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-447120" y="2676600"/>
            <a:ext cx="9214560" cy="946080"/>
          </a:xfrm>
          <a:prstGeom prst="roundRect">
            <a:avLst>
              <a:gd name="adj" fmla="val 20542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(MAX(EQPMROOM) - MIN(EQPMROOM)) + 1  INTO  :NEXTRO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THISEQP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 EQPMDEPT = :VALUE1  AND  EQPMPART = :VALUE2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309600" y="3811680"/>
            <a:ext cx="181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개선된 </a:t>
            </a: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B33A51-D932-4ACD-9B93-7195507DC93B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"/>
          <p:cNvSpPr/>
          <p:nvPr/>
        </p:nvSpPr>
        <p:spPr>
          <a:xfrm>
            <a:off x="1886760" y="243000"/>
            <a:ext cx="6041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26. 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서브쿼리 사용시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MIN / MAX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활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330120" y="1103400"/>
            <a:ext cx="9363240" cy="14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91960" indent="-291960">
              <a:lnSpc>
                <a:spcPct val="12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인덱스정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9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9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_TAB : A_TAB_IX1 : ID + SD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just">
              <a:lnSpc>
                <a:spcPct val="9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2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-741600" y="2611440"/>
            <a:ext cx="11730960" cy="3517920"/>
          </a:xfrm>
          <a:prstGeom prst="roundRect">
            <a:avLst>
              <a:gd name="adj" fmla="val 784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NVL(COUNT(*), 0) INTO :B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</a:t>
            </a:r>
            <a:r>
              <a:rPr b="1" lang="ko-KR" sz="1800" spc="-1" strike="noStrike">
                <a:solidFill>
                  <a:srgbClr val="00cc99"/>
                </a:solidFill>
                <a:latin typeface="굴림체"/>
                <a:ea typeface="굴림체"/>
              </a:rPr>
              <a:t>A_TA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 SDATE &gt;= :B2  AND  SDATE &lt;= :B3   AND  PATH = :B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 (ID, SDAT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IN (SELECT  ID, SD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   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FROM  B_TA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 SDATE BETWEEN :B2 AND :B3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    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AND  DEPT = :B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 (ID, SDATE, SERL) IN (SELECT  ID, SDATE, MIN(SER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                                 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FROM  B_TA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 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 SDATE BETWEEN :B2 AND :B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 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GROUP BY  ID, SDATE) 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C70CBF-E2E1-4868-A99E-5E4BAB132727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"/>
          <p:cNvSpPr/>
          <p:nvPr/>
        </p:nvSpPr>
        <p:spPr>
          <a:xfrm>
            <a:off x="1886760" y="243000"/>
            <a:ext cx="6041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26. 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서브쿼리 사용시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MIN / MAX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활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622440" y="1514520"/>
            <a:ext cx="8080200" cy="305964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NVL(COUNT(*), 0) INTO :B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A_TA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 SDATE  BETWEEN :B2 AND :B3   AND   PATH = :B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 (ID, SDATE) IN (SELECT 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ID, SUBSTR(MIN(SDATE || SERL),1,8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B_TA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 SDATE BETWEEN :B2 AND :B3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DEPT = :B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GROUP BY  ID, SDATE 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378000" y="4437000"/>
            <a:ext cx="4438440" cy="16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20000"/>
              </a:lnSpc>
              <a:buClr>
                <a:srgbClr val="ff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330099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9900cc"/>
                </a:solidFill>
                <a:latin typeface="굴림체"/>
                <a:ea typeface="굴림체"/>
              </a:rPr>
              <a:t>문제점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9900cc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9900cc"/>
                </a:solidFill>
                <a:latin typeface="굴림체"/>
                <a:ea typeface="굴림체"/>
              </a:rPr>
              <a:t>(</a:t>
            </a:r>
            <a:r>
              <a:rPr b="1" lang="ko-KR" sz="1600" spc="-1" strike="noStrike">
                <a:solidFill>
                  <a:srgbClr val="9900cc"/>
                </a:solidFill>
                <a:latin typeface="굴림체"/>
                <a:ea typeface="굴림체"/>
              </a:rPr>
              <a:t>원래 </a:t>
            </a:r>
            <a:r>
              <a:rPr b="1" lang="ko-KR" sz="1600" spc="-1" strike="noStrike">
                <a:solidFill>
                  <a:srgbClr val="9900cc"/>
                </a:solidFill>
                <a:latin typeface="굴림체"/>
                <a:ea typeface="굴림체"/>
              </a:rPr>
              <a:t>SQL</a:t>
            </a:r>
            <a:r>
              <a:rPr b="1" lang="ko-KR" sz="1600" spc="-1" strike="noStrike">
                <a:solidFill>
                  <a:srgbClr val="9900cc"/>
                </a:solidFill>
                <a:latin typeface="굴림체"/>
                <a:ea typeface="굴림체"/>
              </a:rPr>
              <a:t>과 결과 다름</a:t>
            </a:r>
            <a:r>
              <a:rPr b="1" lang="ko-KR" sz="1600" spc="-1" strike="noStrike">
                <a:solidFill>
                  <a:srgbClr val="9900cc"/>
                </a:solidFill>
                <a:latin typeface="굴림체"/>
                <a:ea typeface="굴림체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0099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330099"/>
                </a:solidFill>
                <a:latin typeface="굴림체"/>
                <a:ea typeface="굴림체"/>
              </a:rPr>
              <a:t>:B7 = 20 </a:t>
            </a:r>
            <a:r>
              <a:rPr b="1" lang="ko-KR" sz="1600" spc="-1" strike="noStrike">
                <a:solidFill>
                  <a:srgbClr val="330099"/>
                </a:solidFill>
                <a:latin typeface="굴림체"/>
                <a:ea typeface="굴림체"/>
              </a:rPr>
              <a:t>인 경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0099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330099"/>
                </a:solidFill>
                <a:latin typeface="굴림체"/>
                <a:ea typeface="굴림체"/>
              </a:rPr>
              <a:t>원래 </a:t>
            </a:r>
            <a:r>
              <a:rPr b="1" lang="ko-KR" sz="1600" spc="-1" strike="noStrike">
                <a:solidFill>
                  <a:srgbClr val="330099"/>
                </a:solidFill>
                <a:latin typeface="굴림체"/>
                <a:ea typeface="굴림체"/>
              </a:rPr>
              <a:t>SQL</a:t>
            </a:r>
            <a:r>
              <a:rPr b="1" lang="ko-KR" sz="1600" spc="-1" strike="noStrike">
                <a:solidFill>
                  <a:srgbClr val="330099"/>
                </a:solidFill>
                <a:latin typeface="굴림체"/>
                <a:ea typeface="굴림체"/>
              </a:rPr>
              <a:t>은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③ </a:t>
            </a:r>
            <a:r>
              <a:rPr b="1" lang="ko-KR" sz="1600" spc="-1" strike="noStrike">
                <a:solidFill>
                  <a:srgbClr val="330099"/>
                </a:solidFill>
                <a:latin typeface="굴림체"/>
                <a:ea typeface="굴림체"/>
              </a:rPr>
              <a:t>번이 선택되고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0099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330099"/>
                </a:solidFill>
                <a:latin typeface="굴림체"/>
                <a:ea typeface="굴림체"/>
              </a:rPr>
              <a:t>:B7 </a:t>
            </a:r>
            <a:r>
              <a:rPr b="1" lang="ko-KR" sz="1600" spc="-1" strike="noStrike">
                <a:solidFill>
                  <a:srgbClr val="330099"/>
                </a:solidFill>
                <a:latin typeface="굴림체"/>
                <a:ea typeface="굴림체"/>
              </a:rPr>
              <a:t>에서 걸러져 결과가 나오지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0099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330099"/>
                </a:solidFill>
                <a:latin typeface="굴림체"/>
                <a:ea typeface="굴림체"/>
              </a:rPr>
              <a:t>않지만 </a:t>
            </a:r>
            <a:r>
              <a:rPr b="1" lang="ko-KR" sz="1600" spc="-1" strike="noStrike">
                <a:solidFill>
                  <a:srgbClr val="ff0033"/>
                </a:solidFill>
                <a:latin typeface="굴림체"/>
                <a:ea typeface="굴림체"/>
              </a:rPr>
              <a:t>이 </a:t>
            </a:r>
            <a:r>
              <a:rPr b="1" lang="ko-KR" sz="1600" spc="-1" strike="noStrike">
                <a:solidFill>
                  <a:srgbClr val="ff0033"/>
                </a:solidFill>
                <a:latin typeface="굴림체"/>
                <a:ea typeface="굴림체"/>
              </a:rPr>
              <a:t>SQL</a:t>
            </a:r>
            <a:r>
              <a:rPr b="1" lang="ko-KR" sz="1600" spc="-1" strike="noStrike">
                <a:solidFill>
                  <a:srgbClr val="330099"/>
                </a:solidFill>
                <a:latin typeface="굴림체"/>
                <a:ea typeface="굴림체"/>
              </a:rPr>
              <a:t>은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① </a:t>
            </a:r>
            <a:r>
              <a:rPr b="1" lang="ko-KR" sz="1600" spc="-1" strike="noStrike">
                <a:solidFill>
                  <a:srgbClr val="330099"/>
                </a:solidFill>
                <a:latin typeface="굴림체"/>
                <a:ea typeface="굴림체"/>
              </a:rPr>
              <a:t>번 로우가 나온다</a:t>
            </a:r>
            <a:r>
              <a:rPr b="1" lang="ko-KR" sz="1600" spc="-1" strike="noStrike">
                <a:solidFill>
                  <a:srgbClr val="330099"/>
                </a:solidFill>
                <a:latin typeface="굴림체"/>
                <a:ea typeface="굴림체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5182920" y="4675320"/>
            <a:ext cx="4299840" cy="162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1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10000"/>
                </a:solidFill>
                <a:latin typeface="굴림체"/>
                <a:ea typeface="굴림체"/>
              </a:rPr>
              <a:t>ID      SDATE    SERL   DEPT</a:t>
            </a:r>
            <a:r>
              <a:rPr b="1" lang="ko-KR" sz="1800" spc="-1" strike="noStrike">
                <a:solidFill>
                  <a:srgbClr val="010000"/>
                </a:solidFill>
                <a:latin typeface="굴림체"/>
                <a:ea typeface="굴림체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1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100   19970310     3     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1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100   19970310     4     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1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330099"/>
                </a:solidFill>
                <a:latin typeface="굴림체"/>
                <a:ea typeface="굴림체"/>
              </a:rPr>
              <a:t>100   19970310     1     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1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10000"/>
                </a:solidFill>
                <a:latin typeface="굴림체"/>
                <a:ea typeface="굴림체"/>
              </a:rPr>
              <a:t>100   19970310     2      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6994800" y="4253040"/>
            <a:ext cx="945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Arial"/>
                <a:ea typeface="굴림체"/>
              </a:rPr>
              <a:t>B_TA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4764600" y="5141880"/>
            <a:ext cx="1072440" cy="11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②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④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5504040" y="5084640"/>
            <a:ext cx="364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4400640" y="5506920"/>
            <a:ext cx="450720" cy="441360"/>
          </a:xfrm>
          <a:prstGeom prst="rightArrow">
            <a:avLst>
              <a:gd name="adj1" fmla="val 75009"/>
              <a:gd name="adj2" fmla="val 35747"/>
            </a:avLst>
          </a:prstGeom>
          <a:solidFill>
            <a:srgbClr val="00cc99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378000" y="985680"/>
            <a:ext cx="4275000" cy="6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20000"/>
              </a:lnSpc>
              <a:buClr>
                <a:srgbClr val="ff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330099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9900cc"/>
                </a:solidFill>
                <a:latin typeface="굴림체"/>
                <a:ea typeface="굴림체"/>
              </a:rPr>
              <a:t>중간 </a:t>
            </a:r>
            <a:r>
              <a:rPr b="1" lang="ko-KR" sz="1800" spc="-1" strike="noStrike">
                <a:solidFill>
                  <a:srgbClr val="9900cc"/>
                </a:solidFill>
                <a:latin typeface="굴림체"/>
                <a:ea typeface="굴림체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EF0846-B754-4EE1-AAA7-1B82DA055741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2214360" y="243000"/>
            <a:ext cx="5715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3.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년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/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월이 분리된 경우에도 인덱스 사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82600" y="1103400"/>
            <a:ext cx="8558280" cy="173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인덱스정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TAB_A : TAB_A_X1 :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YY + MM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+ DD + SALE_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-217800" y="2933640"/>
            <a:ext cx="7428600" cy="151956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A.YY || A.MM, DEPT, SUM(SALE_QT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TAB_A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 </a:t>
            </a:r>
            <a:r>
              <a:rPr b="1" lang="ko-KR" sz="1800" spc="-1" strike="noStrike">
                <a:solidFill>
                  <a:srgbClr val="ff3300"/>
                </a:solidFill>
                <a:latin typeface="굴림체"/>
                <a:ea typeface="굴림체"/>
              </a:rPr>
              <a:t>A.YY || A.MM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BETWEEN '9410' AND '9504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GROUP BY  A.YY || A.MM, DEPT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C5257A-0B4F-4D35-A2F0-9ADB92E7FBD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"/>
          <p:cNvSpPr/>
          <p:nvPr/>
        </p:nvSpPr>
        <p:spPr>
          <a:xfrm>
            <a:off x="-318240" y="1712880"/>
            <a:ext cx="10888920" cy="2703960"/>
          </a:xfrm>
          <a:prstGeom prst="roundRect">
            <a:avLst>
              <a:gd name="adj" fmla="val 9042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NVL(COUNT(*), 0) INTO :B1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A_TA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 SDATE  BETWEEN :B2 AND :B3   AND   PATH = :B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 (ID, SDATE) IN (SELECT 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V.ID, DECODE(V.DEPT, :B7, V.SDATE, NUL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(SELECT ID, SDATE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                          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SUBSTR(MIN(SERL || DEPT),4,2) AS DEP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B_TA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SDATE BETWEEN :B2 AND :B3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GROUP BY ID, SDATE ) V  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1886760" y="243000"/>
            <a:ext cx="6041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26. 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서브쿼리 사용시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MIN / MAX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활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266760" y="1246320"/>
            <a:ext cx="982008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91960" indent="-291960" algn="just">
              <a:lnSpc>
                <a:spcPct val="90000"/>
              </a:lnSpc>
              <a:buClr>
                <a:srgbClr val="ff0033"/>
              </a:buClr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개선된 </a:t>
            </a: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7212240" y="4556160"/>
            <a:ext cx="945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Arial"/>
                <a:ea typeface="굴림체"/>
              </a:rPr>
              <a:t>B_TA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4946760" y="1386000"/>
            <a:ext cx="4514760" cy="9154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cc0000"/>
                </a:solidFill>
                <a:latin typeface="굴림체"/>
                <a:ea typeface="굴림체"/>
              </a:rPr>
              <a:t>* </a:t>
            </a:r>
            <a:r>
              <a:rPr b="1" lang="ko-KR" sz="1800" spc="-1" strike="noStrike">
                <a:solidFill>
                  <a:srgbClr val="cc0000"/>
                </a:solidFill>
                <a:latin typeface="굴림체"/>
                <a:ea typeface="굴림체"/>
              </a:rPr>
              <a:t>전제조건 </a:t>
            </a:r>
            <a:r>
              <a:rPr b="1" lang="ko-KR" sz="1800" spc="-1" strike="noStrike">
                <a:solidFill>
                  <a:srgbClr val="cc0000"/>
                </a:solidFill>
                <a:latin typeface="굴림체"/>
                <a:ea typeface="굴림체"/>
              </a:rPr>
              <a:t>: SERL</a:t>
            </a:r>
            <a:r>
              <a:rPr b="1" lang="ko-KR" sz="1800" spc="-1" strike="noStrike">
                <a:solidFill>
                  <a:srgbClr val="cc0000"/>
                </a:solidFill>
                <a:latin typeface="굴림체"/>
                <a:ea typeface="굴림체"/>
              </a:rPr>
              <a:t>은 </a:t>
            </a:r>
            <a:r>
              <a:rPr b="1" lang="ko-KR" sz="1800" spc="-1" strike="noStrike">
                <a:solidFill>
                  <a:srgbClr val="cc0000"/>
                </a:solidFill>
                <a:latin typeface="굴림체"/>
                <a:ea typeface="굴림체"/>
              </a:rPr>
              <a:t>3</a:t>
            </a:r>
            <a:r>
              <a:rPr b="1" lang="ko-KR" sz="1800" spc="-1" strike="noStrike">
                <a:solidFill>
                  <a:srgbClr val="cc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cc0000"/>
                </a:solidFill>
                <a:latin typeface="굴림체"/>
                <a:ea typeface="굴림체"/>
              </a:rPr>
              <a:t>자리 숫자이며</a:t>
            </a:r>
            <a:r>
              <a:rPr b="1" lang="ko-KR" sz="1800" spc="-1" strike="noStrike">
                <a:solidFill>
                  <a:srgbClr val="cc0000"/>
                </a:solidFill>
                <a:latin typeface="굴림체"/>
                <a:ea typeface="굴림체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cc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cc0000"/>
                </a:solidFill>
                <a:latin typeface="굴림체"/>
                <a:ea typeface="굴림체"/>
              </a:rPr>
              <a:t>ID + SDATE + SERL</a:t>
            </a:r>
            <a:r>
              <a:rPr b="1" lang="ko-KR" sz="1800" spc="-1" strike="noStrike">
                <a:solidFill>
                  <a:srgbClr val="cc0000"/>
                </a:solidFill>
                <a:latin typeface="굴림체"/>
                <a:ea typeface="굴림체"/>
              </a:rPr>
              <a:t>이 </a:t>
            </a:r>
            <a:r>
              <a:rPr b="1" lang="ko-KR" sz="1800" spc="-1" strike="noStrike">
                <a:solidFill>
                  <a:srgbClr val="cc0000"/>
                </a:solidFill>
                <a:latin typeface="굴림체"/>
                <a:ea typeface="굴림체"/>
              </a:rPr>
              <a:t>PK</a:t>
            </a:r>
            <a:r>
              <a:rPr b="1" lang="ko-KR" sz="1800" spc="-1" strike="noStrike">
                <a:solidFill>
                  <a:srgbClr val="cc0000"/>
                </a:solidFill>
                <a:latin typeface="굴림체"/>
                <a:ea typeface="굴림체"/>
              </a:rPr>
              <a:t>를 구성한다</a:t>
            </a:r>
            <a:r>
              <a:rPr b="1" lang="ko-KR" sz="1800" spc="-1" strike="noStrike">
                <a:solidFill>
                  <a:srgbClr val="cc0000"/>
                </a:solidFill>
                <a:latin typeface="굴림체"/>
                <a:ea typeface="굴림체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4" name=""/>
          <p:cNvGrpSpPr/>
          <p:nvPr/>
        </p:nvGrpSpPr>
        <p:grpSpPr>
          <a:xfrm>
            <a:off x="5293080" y="5005440"/>
            <a:ext cx="4718160" cy="1532520"/>
            <a:chOff x="5293080" y="5005440"/>
            <a:chExt cx="4718160" cy="1532520"/>
          </a:xfrm>
        </p:grpSpPr>
        <p:sp>
          <p:nvSpPr>
            <p:cNvPr id="1215" name=""/>
            <p:cNvSpPr/>
            <p:nvPr/>
          </p:nvSpPr>
          <p:spPr>
            <a:xfrm>
              <a:off x="5711400" y="5005440"/>
              <a:ext cx="4299840" cy="1532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10000"/>
                  </a:solidFill>
                  <a:latin typeface="굴림체"/>
                  <a:ea typeface="굴림체"/>
                </a:rPr>
                <a:t> </a:t>
              </a:r>
              <a:r>
                <a:rPr b="1" lang="ko-KR" sz="1800" spc="-1" strike="noStrike">
                  <a:solidFill>
                    <a:srgbClr val="010000"/>
                  </a:solidFill>
                  <a:latin typeface="굴림체"/>
                  <a:ea typeface="굴림체"/>
                </a:rPr>
                <a:t>ID      SDATE    SERL   DEPT</a:t>
              </a:r>
              <a:r>
                <a:rPr b="1" lang="ko-KR" sz="1800" spc="-1" strike="noStrike">
                  <a:solidFill>
                    <a:srgbClr val="010000"/>
                  </a:solidFill>
                  <a:latin typeface="굴림체"/>
                  <a:ea typeface="굴림체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10000"/>
                  </a:solidFill>
                  <a:latin typeface="굴림체"/>
                  <a:ea typeface="굴림체"/>
                </a:rPr>
                <a:t> </a:t>
              </a:r>
              <a:r>
                <a:rPr b="1" lang="ko-KR" sz="1800" spc="-1" strike="noStrike">
                  <a:solidFill>
                    <a:srgbClr val="010000"/>
                  </a:solidFill>
                  <a:latin typeface="굴림체"/>
                  <a:ea typeface="굴림체"/>
                </a:rPr>
                <a:t>100   19970310     3     2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10000"/>
                  </a:solidFill>
                  <a:latin typeface="굴림체"/>
                  <a:ea typeface="굴림체"/>
                </a:rPr>
                <a:t> </a:t>
              </a:r>
              <a:r>
                <a:rPr b="1" lang="ko-KR" sz="1800" spc="-1" strike="noStrike">
                  <a:solidFill>
                    <a:srgbClr val="339933"/>
                  </a:solidFill>
                  <a:latin typeface="굴림체"/>
                  <a:ea typeface="굴림체"/>
                </a:rPr>
                <a:t>100   19970310</a:t>
              </a:r>
              <a:r>
                <a:rPr b="1" lang="ko-KR" sz="1800" spc="-1" strike="noStrike">
                  <a:solidFill>
                    <a:srgbClr val="010000"/>
                  </a:solidFill>
                  <a:latin typeface="굴림체"/>
                  <a:ea typeface="굴림체"/>
                </a:rPr>
                <a:t>     </a:t>
              </a:r>
              <a:r>
                <a:rPr b="1" lang="ko-KR" sz="1800" spc="-1" strike="noStrike">
                  <a:solidFill>
                    <a:srgbClr val="ff0033"/>
                  </a:solidFill>
                  <a:latin typeface="굴림체"/>
                  <a:ea typeface="굴림체"/>
                </a:rPr>
                <a:t>1</a:t>
              </a:r>
              <a:r>
                <a:rPr b="1" lang="ko-KR" sz="1800" spc="-1" strike="noStrike">
                  <a:solidFill>
                    <a:srgbClr val="010000"/>
                  </a:solidFill>
                  <a:latin typeface="굴림체"/>
                  <a:ea typeface="굴림체"/>
                </a:rPr>
                <a:t>     </a:t>
              </a:r>
              <a:r>
                <a:rPr b="1" lang="ko-KR" sz="1800" spc="-1" strike="noStrike">
                  <a:solidFill>
                    <a:srgbClr val="339933"/>
                  </a:solidFill>
                  <a:latin typeface="굴림체"/>
                  <a:ea typeface="굴림체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10000"/>
                  </a:solidFill>
                  <a:latin typeface="굴림체"/>
                  <a:ea typeface="굴림체"/>
                </a:rPr>
                <a:t> </a:t>
              </a:r>
              <a:r>
                <a:rPr b="1" lang="ko-KR" sz="1800" spc="-1" strike="noStrike">
                  <a:solidFill>
                    <a:srgbClr val="330099"/>
                  </a:solidFill>
                  <a:latin typeface="굴림체"/>
                  <a:ea typeface="굴림체"/>
                </a:rPr>
                <a:t>100   19970310     </a:t>
              </a:r>
              <a:r>
                <a:rPr b="1" lang="ko-KR" sz="1800" spc="-1" strike="noStrike">
                  <a:solidFill>
                    <a:srgbClr val="ff0033"/>
                  </a:solidFill>
                  <a:latin typeface="굴림체"/>
                  <a:ea typeface="굴림체"/>
                </a:rPr>
                <a:t>1</a:t>
              </a:r>
              <a:r>
                <a:rPr b="1" lang="ko-KR" sz="1800" spc="-1" strike="noStrike">
                  <a:solidFill>
                    <a:srgbClr val="330099"/>
                  </a:solidFill>
                  <a:latin typeface="굴림체"/>
                  <a:ea typeface="굴림체"/>
                </a:rPr>
                <a:t>     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10000"/>
                  </a:solidFill>
                  <a:latin typeface="굴림체"/>
                  <a:ea typeface="굴림체"/>
                </a:rPr>
                <a:t> </a:t>
              </a:r>
              <a:r>
                <a:rPr b="1" lang="ko-KR" sz="1800" spc="-1" strike="noStrike">
                  <a:solidFill>
                    <a:srgbClr val="010000"/>
                  </a:solidFill>
                  <a:latin typeface="굴림체"/>
                  <a:ea typeface="굴림체"/>
                </a:rPr>
                <a:t>100   19970310     2      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5293080" y="5345280"/>
              <a:ext cx="1072440" cy="113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marL="343080" indent="-343080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②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③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④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6043680" y="5369040"/>
              <a:ext cx="3643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8" name=""/>
          <p:cNvSpPr/>
          <p:nvPr/>
        </p:nvSpPr>
        <p:spPr>
          <a:xfrm>
            <a:off x="399960" y="4656240"/>
            <a:ext cx="456084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20000"/>
              </a:lnSpc>
              <a:buClr>
                <a:srgbClr val="ff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330099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SERL</a:t>
            </a: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에 중복이 발생할 때</a:t>
            </a:r>
            <a:r>
              <a:rPr b="1" lang="ko-KR" sz="1800" spc="-1" strike="noStrike">
                <a:solidFill>
                  <a:srgbClr val="330099"/>
                </a:solidFill>
                <a:latin typeface="굴림체"/>
                <a:ea typeface="굴림체"/>
              </a:rPr>
              <a:t> 문제점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0099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330099"/>
                </a:solidFill>
                <a:latin typeface="굴림체"/>
                <a:ea typeface="굴림체"/>
              </a:rPr>
              <a:t>:B7 = 20 </a:t>
            </a:r>
            <a:r>
              <a:rPr b="1" lang="ko-KR" sz="1600" spc="-1" strike="noStrike">
                <a:solidFill>
                  <a:srgbClr val="330099"/>
                </a:solidFill>
                <a:latin typeface="굴림체"/>
                <a:ea typeface="굴림체"/>
              </a:rPr>
              <a:t>인 경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0099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330099"/>
                </a:solidFill>
                <a:latin typeface="굴림체"/>
                <a:ea typeface="굴림체"/>
              </a:rPr>
              <a:t>여기서는</a:t>
            </a:r>
            <a:r>
              <a:rPr b="1" lang="ko-KR" sz="1600" spc="-1" strike="noStrike">
                <a:solidFill>
                  <a:srgbClr val="330099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③</a:t>
            </a:r>
            <a:r>
              <a:rPr b="1" lang="ko-KR" sz="1600" spc="-1" strike="noStrike">
                <a:solidFill>
                  <a:srgbClr val="330099"/>
                </a:solidFill>
                <a:latin typeface="굴림체"/>
                <a:ea typeface="굴림체"/>
              </a:rPr>
              <a:t>번 로우가 선택되었다가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0099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330099"/>
                </a:solidFill>
                <a:latin typeface="굴림체"/>
                <a:ea typeface="굴림체"/>
              </a:rPr>
              <a:t>:B7 </a:t>
            </a:r>
            <a:r>
              <a:rPr b="1" lang="ko-KR" sz="1600" spc="-1" strike="noStrike">
                <a:solidFill>
                  <a:srgbClr val="330099"/>
                </a:solidFill>
                <a:latin typeface="굴림체"/>
                <a:ea typeface="굴림체"/>
              </a:rPr>
              <a:t>에서 걸러져 아무 로우도 선택되지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0099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330099"/>
                </a:solidFill>
                <a:latin typeface="굴림체"/>
                <a:ea typeface="굴림체"/>
              </a:rPr>
              <a:t>않으나 </a:t>
            </a:r>
            <a:r>
              <a:rPr b="1" lang="ko-KR" sz="1600" spc="-1" strike="noStrike">
                <a:solidFill>
                  <a:srgbClr val="339933"/>
                </a:solidFill>
                <a:latin typeface="굴림체"/>
                <a:ea typeface="굴림체"/>
              </a:rPr>
              <a:t>원래 </a:t>
            </a:r>
            <a:r>
              <a:rPr b="1" lang="ko-KR" sz="1600" spc="-1" strike="noStrike">
                <a:solidFill>
                  <a:srgbClr val="339933"/>
                </a:solidFill>
                <a:latin typeface="굴림체"/>
                <a:ea typeface="굴림체"/>
              </a:rPr>
              <a:t>SQL</a:t>
            </a:r>
            <a:r>
              <a:rPr b="1" lang="ko-KR" sz="1600" spc="-1" strike="noStrike">
                <a:solidFill>
                  <a:srgbClr val="330099"/>
                </a:solidFill>
                <a:latin typeface="굴림체"/>
                <a:ea typeface="굴림체"/>
              </a:rPr>
              <a:t>은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②</a:t>
            </a:r>
            <a:r>
              <a:rPr b="1" lang="ko-KR" sz="1600" spc="-1" strike="noStrike">
                <a:solidFill>
                  <a:srgbClr val="330099"/>
                </a:solidFill>
                <a:latin typeface="굴림체"/>
                <a:ea typeface="굴림체"/>
              </a:rPr>
              <a:t>번 로우가 선택된다</a:t>
            </a:r>
            <a:r>
              <a:rPr b="1" lang="ko-KR" sz="1600" spc="-1" strike="noStrike">
                <a:solidFill>
                  <a:srgbClr val="330099"/>
                </a:solidFill>
                <a:latin typeface="굴림체"/>
                <a:ea typeface="굴림체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5010120" y="5433840"/>
            <a:ext cx="450720" cy="441360"/>
          </a:xfrm>
          <a:prstGeom prst="rightArrow">
            <a:avLst>
              <a:gd name="adj1" fmla="val 75009"/>
              <a:gd name="adj2" fmla="val 35747"/>
            </a:avLst>
          </a:prstGeom>
          <a:solidFill>
            <a:srgbClr val="00cc99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8D1C87-8597-486C-8B50-C9295EC1E7AC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"/>
          <p:cNvSpPr/>
          <p:nvPr/>
        </p:nvSpPr>
        <p:spPr>
          <a:xfrm>
            <a:off x="1899360" y="243000"/>
            <a:ext cx="38228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27. 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불필요한 상수 조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266760" y="1103400"/>
            <a:ext cx="9820080" cy="14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5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인덱스정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5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CPNW : CPNU_PK : DLT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9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946440" y="4673520"/>
            <a:ext cx="8146440" cy="196560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UPDATE  CPN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T  DLTF = :B1, SYSF = :B2, RTDT = :B3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RITM = :B4, USER = :B5, VALUE = :B6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DLTF = :B11  AND  SYSF = :B12  AND  RTDT = :B13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AND  RITM = :B14  AND  USER = :B15  AND  VALUE = :B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9900"/>
                </a:solidFill>
                <a:latin typeface="굴림체"/>
                <a:ea typeface="굴림체"/>
              </a:rPr>
              <a:t>AND  (:B19 != 'Y' OR :B19 IS NULL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99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9900"/>
                </a:solidFill>
                <a:latin typeface="굴림체"/>
                <a:ea typeface="굴림체"/>
              </a:rPr>
              <a:t>AND   :B21  = 'Y'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266760" y="4595760"/>
            <a:ext cx="1303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91960" indent="-291960" algn="just">
              <a:lnSpc>
                <a:spcPct val="90000"/>
              </a:lnSpc>
              <a:buClr>
                <a:srgbClr val="ff0033"/>
              </a:buClr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개선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just">
              <a:lnSpc>
                <a:spcPct val="9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609480" y="2063880"/>
            <a:ext cx="8715600" cy="224676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t">
            <a:spAutoFit/>
          </a:bodyPr>
          <a:p>
            <a:pPr marL="343080" indent="-3430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UPDATE  CPN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T  DLTF = :B1, SYSF = :B2, RTDT = :B3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RITM = :B4, USER = :B5, VALUE = :B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 (DLTF, SYSF, RTDT, RITM, USER, VALUE) =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(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SELECT  :B11, :B12, :B13, :B14, :B15, :B16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             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FROM  DU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 (:B19 != 'Y' OR :B19 IS NULL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 (:B21 = 'Y'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OR :B21 IS NOT NULL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6C6D6B-198F-4E41-9000-B2DABE413E40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"/>
          <p:cNvSpPr/>
          <p:nvPr/>
        </p:nvSpPr>
        <p:spPr>
          <a:xfrm>
            <a:off x="1688040" y="243000"/>
            <a:ext cx="71661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28.  UNION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과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UNION ALL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의 명확한 구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266760" y="947880"/>
            <a:ext cx="7667640" cy="195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인덱스정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95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HSNO A : HSNO_PK  : HSNO + SERIAL_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COL  B : COL_PK1  : YEAR + HOUSE + SERIAL_NO + HSNO + SERIAL_NO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95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COM  C : COM_IX   : YEAR + HOUSE + SERIAL_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95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COM  C : COM_IDX1 : CLASS + D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30000"/>
              </a:lnSpc>
              <a:buClr>
                <a:srgbClr val="ff0033"/>
              </a:buClr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182520" y="2655720"/>
            <a:ext cx="4884840" cy="3956040"/>
          </a:xfrm>
          <a:prstGeom prst="roundRect">
            <a:avLst>
              <a:gd name="adj" fmla="val 664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t">
            <a:noAutofit/>
          </a:bodyPr>
          <a:p>
            <a:pPr marL="343080" indent="-3430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C.CODE, C.HSNO, A.DESCR, SUM(B.AM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FROM  HSNO A, COL B, COM 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WHERE  A.HSNO = B.HSNO AND B.YEAR = C.YEA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AND  B.HOUSE = C.HOUSE AND C.CODE LIKE :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AND  C.DAT BETWEEN :B2 AND :B3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AND  C.CLASS &lt;&gt; 'C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GROUP BY  C.CODE, C.HSNO, A.DESC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ff0033"/>
                </a:solidFill>
                <a:latin typeface="굴림체"/>
                <a:ea typeface="굴림체"/>
              </a:rPr>
              <a:t>UN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C.CODE, C.HSNO, A.DESCR, SUM(B.AM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FROM  HSNO A, COL B, COM 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WHERE  A.HSNO = B.HSNO AND B.YEAR = C.YEA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AND  B.HOUSE = C.HOUSE AND C.CODE LIKE :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AND  C.DAT BETWEEN :B2 AND :B3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AND  C.CLASS = 'C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GROUP BY  C.CODE, C.HSNO, A.DESCR 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5024520" y="2532240"/>
            <a:ext cx="4952880" cy="485316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ROWS  EXECUTION PL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----  --------------------------------------------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0  SELECT STAT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48   </a:t>
            </a: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PROJ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48    </a:t>
            </a:r>
            <a:r>
              <a:rPr b="1" lang="ko-KR" sz="1200" spc="-1" strike="noStrike">
                <a:solidFill>
                  <a:srgbClr val="ff0033"/>
                </a:solidFill>
                <a:latin typeface="굴림체"/>
                <a:ea typeface="굴림체"/>
              </a:rPr>
              <a:t>SORT (UNIQU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48</a:t>
            </a:r>
            <a:r>
              <a:rPr b="1" lang="ko-KR" sz="1200" spc="-1" strike="noStrike">
                <a:solidFill>
                  <a:srgbClr val="3333cc"/>
                </a:solidFill>
                <a:latin typeface="굴림체"/>
                <a:ea typeface="굴림체"/>
              </a:rPr>
              <a:t>      UNION-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733      </a:t>
            </a: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SORT (GROUP B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733        NESTED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820          NESTED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678            </a:t>
            </a: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TABLE ACCESS (BY ROWID) OF 'COM'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1738             INDEX (RANGE SCAN) OF 'COM_IX' (NON-UNQ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820            </a:t>
            </a: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TABLE ACCESS (BY ROWID) OF 'COL'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1498             INDEX (RANGE SCAN) OF 'COL_PK' (UNIQU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733          </a:t>
            </a: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TABLE ACCESS (BY ROWID) OF 'HSNO'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820           INDEX (RANGE SCAN) OF 'HSNO_PK'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0      </a:t>
            </a: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SORT (GROUP B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0        NESTED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0          NESTED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1391            TABLE ACCESS (BY ROWID) OF 'COM'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6359             INDEX (RANGE SCAN) OF 'COM_IX' (NON-UNQ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1829            TABLE ACCESS (BY ROWID) OF 'COL'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3220             INDEX (RANGE SCAN) OF 'COL_PK1' (UNIQU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0          TABLE ACCESS (BY ROWID) OF 'HSNO'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0           INDEX (RANGE SCAN) OF 'HSNO_PK'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3919680" y="2066760"/>
            <a:ext cx="1585800" cy="594000"/>
          </a:xfrm>
          <a:custGeom>
            <a:avLst/>
            <a:gdLst>
              <a:gd name="textAreaLeft" fmla="*/ 58680 w 1585800"/>
              <a:gd name="textAreaRight" fmla="*/ 1527120 w 1585800"/>
              <a:gd name="textAreaTop" fmla="*/ 21960 h 594000"/>
              <a:gd name="textAreaBottom" fmla="*/ 474480 h 59400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2726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cce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330099"/>
                </a:solidFill>
                <a:latin typeface="Arial"/>
                <a:ea typeface="굴림체"/>
              </a:rPr>
              <a:t>Query</a:t>
            </a:r>
            <a:r>
              <a:rPr b="1" lang="ko-KR" sz="1400" spc="-1" strike="noStrike">
                <a:solidFill>
                  <a:srgbClr val="330099"/>
                </a:solidFill>
                <a:latin typeface="Arial"/>
                <a:ea typeface="굴림체"/>
              </a:rPr>
              <a:t>의 목적에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330099"/>
                </a:solidFill>
                <a:latin typeface="Arial"/>
                <a:ea typeface="굴림체"/>
              </a:rPr>
              <a:t>따라 효율화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FD5059-8A1E-48F6-9CC9-60420E7B8C46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"/>
          <p:cNvSpPr/>
          <p:nvPr/>
        </p:nvSpPr>
        <p:spPr>
          <a:xfrm>
            <a:off x="1629360" y="243000"/>
            <a:ext cx="3825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29. 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불필요한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DU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266760" y="1166760"/>
            <a:ext cx="136692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641160" y="4652280"/>
            <a:ext cx="8818920" cy="1775880"/>
          </a:xfrm>
          <a:prstGeom prst="roundRect">
            <a:avLst>
              <a:gd name="adj" fmla="val 124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ctr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ID, DEPT, WARD, RO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INTO  :B1, :B2, :B3, :B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PAT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 WARD = :C1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 NVL(DAT,'999999') &gt;=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 TO_CHAR(SYSDATE, 'YYYYMMDD'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ORDER BY  DEPT, ROOM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828000" y="1684440"/>
            <a:ext cx="9251640" cy="207180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ID, DEPT, WARD, RO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INTO  :B1, :B2, :B3, :B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PAT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 WARD = :C1 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NVL(DAT, '999999') &gt;= (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SELECT  TO_CHAR(SYSDATE, 'YYMMDD'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                                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FROM  SYS.DUAL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ORDER BY  DEPT, ROOM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266760" y="4121280"/>
            <a:ext cx="201276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91960" indent="-291960" algn="just">
              <a:lnSpc>
                <a:spcPct val="90000"/>
              </a:lnSpc>
              <a:buClr>
                <a:srgbClr val="ff0033"/>
              </a:buClr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개선된 </a:t>
            </a: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2FAE66-2425-49E6-A7A8-0E65E4F2130D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"/>
          <p:cNvSpPr/>
          <p:nvPr/>
        </p:nvSpPr>
        <p:spPr>
          <a:xfrm>
            <a:off x="1769400" y="243000"/>
            <a:ext cx="4453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30.  OR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용 시 주의할 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266760" y="1103400"/>
            <a:ext cx="9820080" cy="223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인덱스정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5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CHULGOT : CHULGOT_IX     : CHULDATE + ITEM (CASE 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9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CHULGOT : CH_STATUS_ITEM : STATUS + ITEM (CASE 3,4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9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CHULGOT : CH_CHULNO      : CHULNO (CASE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9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(CASE 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713160" y="4159080"/>
            <a:ext cx="8868600" cy="2467080"/>
          </a:xfrm>
          <a:prstGeom prst="roundRect">
            <a:avLst>
              <a:gd name="adj" fmla="val 124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SUM(CN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(SELECT  COUNT(*) AS C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CHULGO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WHERE  :SW = 1  AND  CHULDATE  =  '941130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UNION A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COUNT(*) AS C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CHULGO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WHERE  :SW = 2  AND  CHULDATE+0  LIKE  '96%'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1144080" y="2682720"/>
            <a:ext cx="7129440" cy="118404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COUNT(*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CHULGO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(:SW =  1  AND  CHULDATE  =  '941130'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  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OR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(:SW  = 2  AND  </a:t>
            </a:r>
            <a:r>
              <a:rPr b="1" lang="ko-KR" sz="1800" spc="-1" strike="noStrike">
                <a:solidFill>
                  <a:srgbClr val="00cc99"/>
                </a:solidFill>
                <a:latin typeface="굴림체"/>
                <a:ea typeface="굴림체"/>
              </a:rPr>
              <a:t>CHULDATE+0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 LIKE  '96%')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266760" y="4103640"/>
            <a:ext cx="1303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91960" indent="-291960" algn="just">
              <a:lnSpc>
                <a:spcPct val="90000"/>
              </a:lnSpc>
              <a:buClr>
                <a:srgbClr val="ff0033"/>
              </a:buClr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개선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just">
              <a:lnSpc>
                <a:spcPct val="9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BF8F1F-CD13-4A17-AF48-5BAD1112E8BE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"/>
          <p:cNvSpPr/>
          <p:nvPr/>
        </p:nvSpPr>
        <p:spPr>
          <a:xfrm>
            <a:off x="1769400" y="243000"/>
            <a:ext cx="4453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30.  OR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용 시 주의할 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1281960" y="1593720"/>
            <a:ext cx="5360760" cy="138420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38160" bIns="3816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COUNT(*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CHULGO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CHULNO = '254'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    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OR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 (:FILED1 + :FILED2 )  &gt;  0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1191600" y="3571920"/>
            <a:ext cx="6553080" cy="268668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38160" bIns="3816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SUM(CN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( SELECT  COUNT(*) AS C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CHULGO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CHULNO = '254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UNION A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COUNT(*) AS C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CHULGO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 (:FILED1 + :FILED2) &gt; 0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)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266760" y="1103400"/>
            <a:ext cx="27860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QUERY (CASE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266760" y="3693960"/>
            <a:ext cx="1303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91960" indent="-291960" algn="just">
              <a:lnSpc>
                <a:spcPct val="90000"/>
              </a:lnSpc>
              <a:buClr>
                <a:srgbClr val="ff0033"/>
              </a:buClr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개선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just">
              <a:lnSpc>
                <a:spcPct val="9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3118A1-649E-41D8-B8CB-909422E39352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"/>
          <p:cNvSpPr/>
          <p:nvPr/>
        </p:nvSpPr>
        <p:spPr>
          <a:xfrm>
            <a:off x="1769400" y="243000"/>
            <a:ext cx="4453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30.  OR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용 시 주의할 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1487520" y="5299200"/>
            <a:ext cx="7818480" cy="184500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</a:t>
            </a:r>
            <a:r>
              <a:rPr b="1" lang="ko-KR" sz="1600" spc="-1" strike="noStrike">
                <a:solidFill>
                  <a:srgbClr val="000000"/>
                </a:solidFill>
                <a:latin typeface="Modern"/>
                <a:ea typeface="굴림체"/>
              </a:rPr>
              <a:t>--+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RU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CHULNO, CUSTNO, CHULDATE,UNCO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FROM  CHULGO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WHERE</a:t>
            </a:r>
            <a:r>
              <a:rPr b="1" lang="ko-KR" sz="1600" spc="-1" strike="noStrike">
                <a:solidFill>
                  <a:srgbClr val="ff0033"/>
                </a:solidFill>
                <a:latin typeface="굴림체"/>
                <a:ea typeface="굴림체"/>
              </a:rPr>
              <a:t>  STATUS  LIKE  DECODE( :SW, 1, '2%')             </a:t>
            </a:r>
            <a:r>
              <a:rPr b="1" lang="ko-KR" sz="1600" spc="-1" strike="noStrike">
                <a:solidFill>
                  <a:srgbClr val="800000"/>
                </a:solidFill>
                <a:latin typeface="굴림체"/>
                <a:ea typeface="굴림체"/>
              </a:rPr>
              <a:t>&lt;---- ②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ff0033"/>
                </a:solidFill>
                <a:latin typeface="굴림체"/>
                <a:ea typeface="굴림체"/>
              </a:rPr>
              <a:t>    </a:t>
            </a:r>
            <a:r>
              <a:rPr b="1" lang="ko-KR" sz="1600" spc="-1" strike="noStrike">
                <a:solidFill>
                  <a:srgbClr val="ff0033"/>
                </a:solidFill>
                <a:latin typeface="굴림체"/>
                <a:ea typeface="굴림체"/>
              </a:rPr>
              <a:t>OR  STATUS  LIKE  DECODE( :SW, 1, '1%' , '3%') ;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1" lang="ko-KR" sz="1600" spc="-1" strike="noStrike">
                <a:solidFill>
                  <a:srgbClr val="800000"/>
                </a:solidFill>
                <a:latin typeface="굴림체"/>
                <a:ea typeface="굴림체"/>
              </a:rPr>
              <a:t>&lt;---- 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1114200" y="3306600"/>
            <a:ext cx="5196600" cy="184500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</a:t>
            </a:r>
            <a:r>
              <a:rPr b="1" lang="ko-KR" sz="1600" spc="-1" strike="noStrike">
                <a:solidFill>
                  <a:srgbClr val="000000"/>
                </a:solidFill>
                <a:latin typeface="Modern"/>
                <a:ea typeface="굴림체"/>
              </a:rPr>
              <a:t>--+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RU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CHULNO, CUSTNO, CHULDATE,UNCO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FROM  CHULGO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WHERE</a:t>
            </a:r>
            <a:r>
              <a:rPr b="1" lang="ko-KR" sz="1600" spc="-1" strike="noStrike">
                <a:solidFill>
                  <a:srgbClr val="ff0033"/>
                </a:solidFill>
                <a:latin typeface="굴림체"/>
                <a:ea typeface="굴림체"/>
              </a:rPr>
              <a:t>  (:SW = 1 AND (STATUS  LIKE '1%'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ff0033"/>
                </a:solidFill>
                <a:latin typeface="굴림체"/>
                <a:ea typeface="굴림체"/>
              </a:rPr>
              <a:t>    </a:t>
            </a:r>
            <a:r>
              <a:rPr b="1" lang="ko-KR" sz="1600" spc="-1" strike="noStrike">
                <a:solidFill>
                  <a:srgbClr val="ff0033"/>
                </a:solidFill>
                <a:latin typeface="굴림체"/>
                <a:ea typeface="굴림체"/>
              </a:rPr>
              <a:t>OR  (:SW = 1 AND (STATUS  LIKE '2%'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ff0033"/>
                </a:solidFill>
                <a:latin typeface="굴림체"/>
                <a:ea typeface="굴림체"/>
              </a:rPr>
              <a:t>    </a:t>
            </a:r>
            <a:r>
              <a:rPr b="1" lang="ko-KR" sz="1600" spc="-1" strike="noStrike">
                <a:solidFill>
                  <a:srgbClr val="ff0033"/>
                </a:solidFill>
                <a:latin typeface="굴림체"/>
                <a:ea typeface="굴림체"/>
              </a:rPr>
              <a:t>OR  (:SW = 2 AND (STATUS  LIKE '3%'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ORDER BY  STATUS 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1533600" y="1378080"/>
            <a:ext cx="7419960" cy="2064960"/>
          </a:xfrm>
          <a:prstGeom prst="roundRect">
            <a:avLst>
              <a:gd name="adj" fmla="val 124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</a:t>
            </a:r>
            <a:r>
              <a:rPr b="1" lang="ko-KR" sz="1800" spc="-1" strike="noStrike">
                <a:solidFill>
                  <a:srgbClr val="000000"/>
                </a:solidFill>
                <a:latin typeface="Modern"/>
                <a:ea typeface="굴림체"/>
              </a:rPr>
              <a:t>--+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RU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CHULNO, CUSTNO, CHULDATE,UNC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CHULGO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 (:SW = 1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AND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(STATUS  LIKE '1%'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OR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TATUS LIKE </a:t>
            </a:r>
            <a:r>
              <a:rPr b="1" lang="ko-KR" sz="1800" spc="-1" strike="noStrike">
                <a:solidFill>
                  <a:srgbClr val="000000"/>
                </a:solidFill>
                <a:latin typeface="Arial"/>
                <a:ea typeface="굴림체"/>
              </a:rPr>
              <a:t>‘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2%</a:t>
            </a:r>
            <a:r>
              <a:rPr b="1" lang="ko-KR" sz="1800" spc="-1" strike="noStrike">
                <a:solidFill>
                  <a:srgbClr val="000000"/>
                </a:solidFill>
                <a:latin typeface="Arial"/>
                <a:ea typeface="굴림체"/>
              </a:rPr>
              <a:t>’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)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OR  (:SW = 2 AND (STATUS  LIKE '3%')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ORDER BY  STATUS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266760" y="976320"/>
            <a:ext cx="27860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QUERY (CASE 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266760" y="3233880"/>
            <a:ext cx="13032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91960" indent="-291960" algn="just">
              <a:lnSpc>
                <a:spcPct val="90000"/>
              </a:lnSpc>
              <a:buClr>
                <a:srgbClr val="ff0033"/>
              </a:buClr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개선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just">
              <a:lnSpc>
                <a:spcPct val="9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QUERY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6942240" y="5189400"/>
            <a:ext cx="2273040" cy="501840"/>
          </a:xfrm>
          <a:custGeom>
            <a:avLst/>
            <a:gdLst>
              <a:gd name="textAreaLeft" fmla="*/ 83880 w 2273040"/>
              <a:gd name="textAreaRight" fmla="*/ 2189160 w 2273040"/>
              <a:gd name="textAreaTop" fmla="*/ 18360 h 501840"/>
              <a:gd name="textAreaBottom" fmla="*/ 401040 h 50184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3302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cce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0099"/>
                </a:solidFill>
                <a:latin typeface="Arial"/>
                <a:ea typeface="굴림체"/>
              </a:rPr>
              <a:t>ORDER BY</a:t>
            </a:r>
            <a:r>
              <a:rPr b="1" lang="ko-KR" sz="1600" spc="-1" strike="noStrike">
                <a:solidFill>
                  <a:srgbClr val="330099"/>
                </a:solidFill>
                <a:latin typeface="Arial"/>
                <a:ea typeface="굴림체"/>
              </a:rPr>
              <a:t>절 없음</a:t>
            </a:r>
            <a:r>
              <a:rPr b="1" lang="ko-KR" sz="1600" spc="-1" strike="noStrike">
                <a:solidFill>
                  <a:srgbClr val="330099"/>
                </a:solidFill>
                <a:latin typeface="Arial"/>
                <a:ea typeface="굴림체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266760" y="5291280"/>
            <a:ext cx="13032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91960" indent="-291960" algn="just">
              <a:lnSpc>
                <a:spcPct val="90000"/>
              </a:lnSpc>
              <a:buClr>
                <a:srgbClr val="ff0033"/>
              </a:buClr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개선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just">
              <a:lnSpc>
                <a:spcPct val="9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QUERY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99E5F5-C958-4958-8D53-C69C4CDB3F35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"/>
          <p:cNvSpPr/>
          <p:nvPr/>
        </p:nvSpPr>
        <p:spPr>
          <a:xfrm>
            <a:off x="461520" y="1598760"/>
            <a:ext cx="7865640" cy="187452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</a:t>
            </a:r>
            <a:r>
              <a:rPr b="1" lang="ko-KR" sz="1800" spc="-1" strike="noStrike">
                <a:solidFill>
                  <a:srgbClr val="000000"/>
                </a:solidFill>
                <a:latin typeface="Modern"/>
                <a:ea typeface="굴림체"/>
              </a:rPr>
              <a:t>--+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RU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CHULNO, CUSTNO, CHULDATE,UNC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CHULGO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 ( :SW = 1 AND  STATUS = 10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  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OR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( :SW = 2 AND  STATUS  BETWEEN  20  AND  40 )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1769400" y="243000"/>
            <a:ext cx="4453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30.  OR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용 시 주의할 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442800" y="4270320"/>
            <a:ext cx="8150760" cy="202212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</a:t>
            </a:r>
            <a:r>
              <a:rPr b="1" lang="ko-KR" sz="1800" spc="-1" strike="noStrike">
                <a:solidFill>
                  <a:srgbClr val="000000"/>
                </a:solidFill>
                <a:latin typeface="Modern"/>
                <a:ea typeface="굴림체"/>
              </a:rPr>
              <a:t>--+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RU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CHULNO, CUSTNO, CHULDATE,UNC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CHULGO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  STATUS BETWEEN  DECODE ( :SW , 1 , 10 , 2, 20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                  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AND  DECODE ( :SW , 1 , 10 , 2, 40 )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266760" y="1119240"/>
            <a:ext cx="27860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QUERY (CASE 4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266760" y="3852720"/>
            <a:ext cx="240660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91960" indent="-291960" algn="just">
              <a:lnSpc>
                <a:spcPct val="90000"/>
              </a:lnSpc>
              <a:buClr>
                <a:srgbClr val="ff0033"/>
              </a:buClr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개선된 </a:t>
            </a: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67D778-BE84-491F-A896-B46F43857650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"/>
          <p:cNvSpPr/>
          <p:nvPr/>
        </p:nvSpPr>
        <p:spPr>
          <a:xfrm>
            <a:off x="1599480" y="243000"/>
            <a:ext cx="30747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31.  OR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의 활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369720" y="1135080"/>
            <a:ext cx="6551640" cy="1193760"/>
          </a:xfrm>
          <a:prstGeom prst="rect">
            <a:avLst/>
          </a:prstGeom>
          <a:solidFill>
            <a:srgbClr val="ffff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marL="285840" indent="-285840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DRW_NO           VARCHAR2(16)  PRIMARY K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DESIGN_ID        VARCHAR(5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REVISION_DATE    VARCHAR2(8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 rot="5400000">
            <a:off x="5879520" y="2212560"/>
            <a:ext cx="5245200" cy="2899080"/>
          </a:xfrm>
          <a:custGeom>
            <a:avLst/>
            <a:gdLst>
              <a:gd name="textAreaLeft" fmla="*/ 194040 w 5245200"/>
              <a:gd name="textAreaRight" fmla="*/ 5051160 w 5245200"/>
              <a:gd name="textAreaTop" fmla="*/ 107280 h 2899080"/>
              <a:gd name="textAreaBottom" fmla="*/ 2315520 h 289908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3113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anchorCtr="1" vert="eaVert" rot="10800000">
            <a:noAutofit/>
          </a:bodyPr>
          <a:p>
            <a:pPr marL="285840" indent="-285840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DRW_NO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구성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132-218-1256784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132-218-125678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132-218-12567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132-218-1256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132-218-125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132-218-12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132-218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132-218-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132-2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169-730-3478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169-730-347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347760" y="2717640"/>
            <a:ext cx="6805440" cy="3632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marL="285840" indent="-285840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&lt;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프로그램 코딩으로 해결한  방법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IF D1 = </a:t>
            </a:r>
            <a:r>
              <a:rPr b="1" lang="ko-KR" sz="1800" spc="-1" strike="noStrike">
                <a:solidFill>
                  <a:srgbClr val="000000"/>
                </a:solidFill>
                <a:latin typeface="Arial"/>
                <a:ea typeface="굴림체"/>
              </a:rPr>
              <a:t>‘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132-218-12567845</a:t>
            </a:r>
            <a:r>
              <a:rPr b="1" lang="ko-KR" sz="1800" spc="-1" strike="noStrike">
                <a:solidFill>
                  <a:srgbClr val="000000"/>
                </a:solidFill>
                <a:latin typeface="Arial"/>
                <a:ea typeface="굴림체"/>
              </a:rPr>
              <a:t>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* FROM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도면정보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DRW_NO = :D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IF NOT FOU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* FROM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도면정보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DRW_NO = SUSTR(:D1,1,15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IF NOT FOU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* FROM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도면정보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DRW_NO = SUSTR(:D1,1,14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              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              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              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96D008-89AA-410D-90ED-733A19756572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"/>
          <p:cNvSpPr/>
          <p:nvPr/>
        </p:nvSpPr>
        <p:spPr>
          <a:xfrm>
            <a:off x="1599480" y="243000"/>
            <a:ext cx="30747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31.  OR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의 활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297000" y="2163600"/>
            <a:ext cx="4300560" cy="41418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42480" y="2290680"/>
            <a:ext cx="4455360" cy="40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SELECT   *  FROM  </a:t>
            </a: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도면정보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WHERE   ( DRW_NO = SUBSTR( :d1 , 1, 8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   </a:t>
            </a:r>
            <a:r>
              <a:rPr b="1" i="1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OR          DRW_NO = SUBSTR( :d1 , 1, 9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   </a:t>
            </a:r>
            <a:r>
              <a:rPr b="1" i="1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OR          DRW_NO = SUBSTR( :d1 , 1, 10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   </a:t>
            </a:r>
            <a:r>
              <a:rPr b="1" i="1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OR          DRW_NO = SUBSTR( :d1 , 1, 11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   </a:t>
            </a:r>
            <a:r>
              <a:rPr b="1" i="1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OR          DRW_NO = SUBSTR( :d1 , 1, 12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   </a:t>
            </a:r>
            <a:r>
              <a:rPr b="1" i="1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OR          DRW_NO = SUBSTR( :d1 , 1, 13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   </a:t>
            </a:r>
            <a:r>
              <a:rPr b="1" i="1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OR          DRW_NO = SUBSTR( :d1 , 1, 14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   </a:t>
            </a:r>
            <a:r>
              <a:rPr b="1" i="1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OR          DRW_NO = SUBSTR( :d1 , 1, 15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   </a:t>
            </a:r>
            <a:r>
              <a:rPr b="1" i="1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OR          DRW_NO =                  :d1           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0033"/>
                </a:solidFill>
                <a:latin typeface="Arial"/>
                <a:ea typeface="돋움"/>
              </a:rPr>
              <a:t>AND          ROWNUM  =  1 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4395960" y="1123920"/>
            <a:ext cx="6090840" cy="554040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0033"/>
                </a:solidFill>
                <a:latin typeface="굴림체"/>
                <a:ea typeface="굴림체"/>
              </a:rPr>
              <a:t>EXECUTION PL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CONCATEN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 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TABLE  ACCESS  ( BY ROWID ) OF  </a:t>
            </a: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‘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도면정보 </a:t>
            </a: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‘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INDEX  ( UNIQUE  SCAN )  OF </a:t>
            </a: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‘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SYS_C001328 </a:t>
            </a: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‘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 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TABLE  ACCESS  ( BY ROWID ) OF  </a:t>
            </a: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‘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도면정보 </a:t>
            </a: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‘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INDEX  ( UNIQUE SCAN )  OF </a:t>
            </a: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‘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SYS_C001328 </a:t>
            </a: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‘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 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TABLE  ACCESS  ( BY ROWID ) OF  </a:t>
            </a: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‘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도면정보 </a:t>
            </a: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‘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INDEX  ( UNIQUE SCAN )  OF </a:t>
            </a: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‘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SYS_C001328 </a:t>
            </a: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‘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 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TABLE  ACCESS  ( BY ROWID ) OF  </a:t>
            </a: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‘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도면정보 </a:t>
            </a: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‘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INDEX  ( UNIQUE SCAN )  OF </a:t>
            </a: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‘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SYS_C001328 </a:t>
            </a: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‘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6" name=""/>
          <p:cNvGrpSpPr/>
          <p:nvPr/>
        </p:nvGrpSpPr>
        <p:grpSpPr>
          <a:xfrm>
            <a:off x="4202280" y="2733840"/>
            <a:ext cx="1511280" cy="3340080"/>
            <a:chOff x="4202280" y="2733840"/>
            <a:chExt cx="1511280" cy="3340080"/>
          </a:xfrm>
        </p:grpSpPr>
        <p:sp>
          <p:nvSpPr>
            <p:cNvPr id="1267" name=""/>
            <p:cNvSpPr/>
            <p:nvPr/>
          </p:nvSpPr>
          <p:spPr>
            <a:xfrm flipV="1">
              <a:off x="4229280" y="2733840"/>
              <a:ext cx="1469880" cy="2992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4214880" y="2824200"/>
              <a:ext cx="1484280" cy="3249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4214880" y="3201840"/>
              <a:ext cx="1484280" cy="1951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 flipV="1">
              <a:off x="4202280" y="3656160"/>
              <a:ext cx="1511280" cy="1707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71" name=""/>
          <p:cNvSpPr/>
          <p:nvPr/>
        </p:nvSpPr>
        <p:spPr>
          <a:xfrm>
            <a:off x="3992040" y="3952800"/>
            <a:ext cx="817560" cy="6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6901920" y="4064040"/>
            <a:ext cx="817560" cy="6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17FBED-CB89-4060-9DFA-B138EB897288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460080" y="1330200"/>
            <a:ext cx="1735560" cy="479160"/>
          </a:xfrm>
          <a:prstGeom prst="roundRect">
            <a:avLst>
              <a:gd name="adj" fmla="val 1084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개선된 </a:t>
            </a: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14360" y="243000"/>
            <a:ext cx="5715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3.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년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/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월이 분리된 경우에도 인덱스 사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20" y="1892160"/>
            <a:ext cx="7739280" cy="202212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A.YY || A.MM, DEPT, SUM(SALE_QT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TAB_A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33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</a:t>
            </a:r>
            <a:r>
              <a:rPr b="1" lang="ko-KR" sz="1800" spc="-1" strike="noStrike">
                <a:solidFill>
                  <a:srgbClr val="ff3300"/>
                </a:solidFill>
                <a:latin typeface="굴림체"/>
                <a:ea typeface="굴림체"/>
              </a:rPr>
              <a:t>  (A.YY = '94' AND A.MM BETWEEN '10'  AND '12'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3300"/>
                </a:solidFill>
                <a:latin typeface="굴림체"/>
                <a:ea typeface="굴림체"/>
              </a:rPr>
              <a:t>     </a:t>
            </a:r>
            <a:r>
              <a:rPr b="1" lang="ko-KR" sz="1800" spc="-1" strike="noStrike">
                <a:solidFill>
                  <a:srgbClr val="ff3300"/>
                </a:solidFill>
                <a:latin typeface="굴림체"/>
                <a:ea typeface="굴림체"/>
              </a:rPr>
              <a:t>OR  (A.YY = '95' AND A.MM BETWEEN '01'  AND '04'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GROUP BY  A.YY || A.MM, DEPT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B0D9E2-302E-420E-A652-A7ADDA73284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"/>
          <p:cNvSpPr/>
          <p:nvPr/>
        </p:nvSpPr>
        <p:spPr>
          <a:xfrm>
            <a:off x="1843560" y="243000"/>
            <a:ext cx="6402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32. 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두 개의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UPDATE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문을 하나로 통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266760" y="1103400"/>
            <a:ext cx="9820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-206640" y="1606680"/>
            <a:ext cx="10555560" cy="4619880"/>
          </a:xfrm>
          <a:prstGeom prst="roundRect">
            <a:avLst>
              <a:gd name="adj" fmla="val 30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EXEC SQL UPDATE 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BA003D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T  ( DC_STUS_ID, INACT_RSN, TOT_AMT_OF_WON, TOT_AMT_OF_DLR,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CUS_DUTY_TOT_AMT, CONSUM_TAX_TOT_AMT, HOLD_DATE)  =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( SELECT  'Z', 'A', SUM(AMT_OF_WON), SUM(AMT_OF_DLR),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UM(CUS_DUTY_AMT), SUM(CONSUM_TAX_AMT)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TO_DATE(:SYS_DATE, 'YYYYMMDD'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</a:t>
            </a:r>
            <a:r>
              <a:rPr b="1" lang="ko-KR" sz="1800" spc="-1" strike="noStrike">
                <a:solidFill>
                  <a:srgbClr val="339933"/>
                </a:solidFill>
                <a:latin typeface="굴림체"/>
                <a:ea typeface="굴림체"/>
              </a:rPr>
              <a:t>BA004D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 BRK_CD  = :BRK_CD  AND  DCL_YEAR = :DCL_YEA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800000"/>
                </a:solidFill>
                <a:latin typeface="굴림체"/>
                <a:ea typeface="굴림체"/>
              </a:rPr>
              <a:t>WHERE  BRK_CD = :BRK_CD  AND 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DCL_YEAR = </a:t>
            </a:r>
            <a:r>
              <a:rPr b="1" lang="ko-KR" sz="1800" spc="-1" strike="noStrike">
                <a:solidFill>
                  <a:srgbClr val="800000"/>
                </a:solidFill>
                <a:latin typeface="굴림체"/>
                <a:ea typeface="굴림체"/>
              </a:rPr>
              <a:t>:DCL_YEAR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)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EXEC SQL UPDATE 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BA003D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T  DUTY_TOT_AMT =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(SELECT 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CUS_DUTY_TOT_AMT + CONSUM_TAX_TOT_AMT +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LATE_FE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BA003D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 BRK_CD  = :BRK_CD  AND  DCL_YEAR = :DCL_YEA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</a:t>
            </a:r>
            <a:r>
              <a:rPr b="1" lang="ko-KR" sz="1800" spc="-1" strike="noStrike">
                <a:solidFill>
                  <a:srgbClr val="800000"/>
                </a:solidFill>
                <a:latin typeface="굴림체"/>
                <a:ea typeface="굴림체"/>
              </a:rPr>
              <a:t>WHERE  BRK_CD = :BRK_CD  AND 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DCL_CD = </a:t>
            </a:r>
            <a:r>
              <a:rPr b="1" lang="ko-KR" sz="1800" spc="-1" strike="noStrike">
                <a:solidFill>
                  <a:srgbClr val="800000"/>
                </a:solidFill>
                <a:latin typeface="굴림체"/>
                <a:ea typeface="굴림체"/>
              </a:rPr>
              <a:t>:DCL_YEAR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C0B4AF-E117-4956-BBFF-DE3EC4B14646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"/>
          <p:cNvSpPr/>
          <p:nvPr/>
        </p:nvSpPr>
        <p:spPr>
          <a:xfrm>
            <a:off x="1843560" y="243000"/>
            <a:ext cx="6402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32. 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두 개의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UPDATE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문을 하나로 통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531720" y="236520"/>
            <a:ext cx="9082080" cy="7228440"/>
          </a:xfrm>
          <a:prstGeom prst="roundRect">
            <a:avLst>
              <a:gd name="adj" fmla="val 5292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EXEC SQ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UPDATE 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BA003DM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T  (DC_STUS_ID, INACT_RSN, TOT_AMT_OF_WON, TOT_AMT_OF_DLR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CUS_DUTY_TOT_AMT, CONSUM_TAX_TOT_AMT, HOLD_DATE,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DUTY_TOT_AMT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)  =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(SELECT  'Z', 'A', TOT_AMT_OF_WON, TOT_AMT_OF_DLR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CUS_DUTY_TOT_AMT, CONSUM_TAX_TOT_AMT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TO_DATE(:SYS_DATE, 'YYYYMMDD')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     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CUS_DUTY_TOT_AMT + CONSUM_TAX_TOT_AMT + A.LATE_FE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</a:t>
            </a:r>
            <a:r>
              <a:rPr b="1" lang="ko-KR" sz="1800" spc="-1" strike="noStrike">
                <a:solidFill>
                  <a:srgbClr val="009900"/>
                </a:solidFill>
                <a:latin typeface="굴림체"/>
                <a:ea typeface="굴림체"/>
              </a:rPr>
              <a:t>(SELECT  SUM(AMT_OF_WON) AS TOT_AMT_OF_WON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9900"/>
                </a:solidFill>
                <a:latin typeface="굴림체"/>
                <a:ea typeface="굴림체"/>
              </a:rPr>
              <a:t>                            </a:t>
            </a:r>
            <a:r>
              <a:rPr b="1" lang="ko-KR" sz="1800" spc="-1" strike="noStrike">
                <a:solidFill>
                  <a:srgbClr val="009900"/>
                </a:solidFill>
                <a:latin typeface="굴림체"/>
                <a:ea typeface="굴림체"/>
              </a:rPr>
              <a:t>SUM(AMT_OF_DIR) AS TOT_AMT_OF_DLR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9900"/>
                </a:solidFill>
                <a:latin typeface="굴림체"/>
                <a:ea typeface="굴림체"/>
              </a:rPr>
              <a:t>                            </a:t>
            </a:r>
            <a:r>
              <a:rPr b="1" lang="ko-KR" sz="1800" spc="-1" strike="noStrike">
                <a:solidFill>
                  <a:srgbClr val="009900"/>
                </a:solidFill>
                <a:latin typeface="굴림체"/>
                <a:ea typeface="굴림체"/>
              </a:rPr>
              <a:t>SUM(CUS_DUTY_AMT) AS CUS_DUTY_TOT_AMT,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9900"/>
                </a:solidFill>
                <a:latin typeface="굴림체"/>
                <a:ea typeface="굴림체"/>
              </a:rPr>
              <a:t>                            </a:t>
            </a:r>
            <a:r>
              <a:rPr b="1" lang="ko-KR" sz="1800" spc="-1" strike="noStrike">
                <a:solidFill>
                  <a:srgbClr val="009900"/>
                </a:solidFill>
                <a:latin typeface="굴림체"/>
                <a:ea typeface="굴림체"/>
              </a:rPr>
              <a:t>SUM(CONSUM_TAX_AMT) AS CONSUM_TAX_TOT_AMT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9900"/>
                </a:solidFill>
                <a:latin typeface="굴림체"/>
                <a:ea typeface="굴림체"/>
              </a:rPr>
              <a:t>                      </a:t>
            </a:r>
            <a:r>
              <a:rPr b="1" lang="ko-KR" sz="1800" spc="-1" strike="noStrike">
                <a:solidFill>
                  <a:srgbClr val="009900"/>
                </a:solidFill>
                <a:latin typeface="굴림체"/>
                <a:ea typeface="굴림체"/>
              </a:rPr>
              <a:t>FROM</a:t>
            </a:r>
            <a:r>
              <a:rPr b="1" lang="ko-KR" sz="1800" spc="-1" strike="noStrike">
                <a:solidFill>
                  <a:srgbClr val="0099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BA004D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9900"/>
                </a:solidFill>
                <a:latin typeface="굴림체"/>
                <a:ea typeface="굴림체"/>
              </a:rPr>
              <a:t>                     </a:t>
            </a:r>
            <a:r>
              <a:rPr b="1" lang="ko-KR" sz="1800" spc="-1" strike="noStrike">
                <a:solidFill>
                  <a:srgbClr val="009900"/>
                </a:solidFill>
                <a:latin typeface="굴림체"/>
                <a:ea typeface="굴림체"/>
              </a:rPr>
              <a:t>WHERE  BRK_CD = :BRK_CD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9900"/>
                </a:solidFill>
                <a:latin typeface="굴림체"/>
                <a:ea typeface="굴림체"/>
              </a:rPr>
              <a:t>                       </a:t>
            </a:r>
            <a:r>
              <a:rPr b="1" lang="ko-KR" sz="1800" spc="-1" strike="noStrike">
                <a:solidFill>
                  <a:srgbClr val="009900"/>
                </a:solidFill>
                <a:latin typeface="굴림체"/>
                <a:ea typeface="굴림체"/>
              </a:rPr>
              <a:t>AND  DCL_YEAR = :DCL_YEAR )</a:t>
            </a:r>
            <a:r>
              <a:rPr b="1" lang="ko-KR" sz="1800" spc="-1" strike="noStrike">
                <a:solidFill>
                  <a:srgbClr val="0099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V1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, BA003DM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 BRK_CD = :BRK_CD  AND 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DCL_YEAR =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:DCL_YEAR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 BRK_CD = :BRK_CD  AND 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DCL_CD =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:DCL_YEAR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CC0BBC-C668-480C-9FD0-43F1DC6B06CD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"/>
          <p:cNvSpPr/>
          <p:nvPr/>
        </p:nvSpPr>
        <p:spPr>
          <a:xfrm>
            <a:off x="1673640" y="243000"/>
            <a:ext cx="5910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33.  DECODE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를 활용한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SQL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통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343080" y="1103400"/>
            <a:ext cx="184752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QUERY</a:t>
            </a: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685800" y="1635120"/>
            <a:ext cx="6330960" cy="6025680"/>
          </a:xfrm>
          <a:prstGeom prst="roundRect">
            <a:avLst>
              <a:gd name="adj" fmla="val 5292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NVL(SUM(DACT_MH),0), NVL(SUM(DACT_AMT),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 S_DAY_ACTS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 ORDERNO = :B1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 ITEMNO  = :B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NVL(SUM(DACT_MH),0), NVL(SUM(DACT_AMT),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 S_DAY_ACTS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 ORDERNO = :B1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 ITEMNO  = :B2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AND  CON_CODE IS NOT NUL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NVL(SUM(DACT_MH),0), NVL(SUM(DACT_AMT),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 S_DAY_ACTS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 ORDERNO = :B1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 ITEMNO  = :B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AND  (CON_CODE IS NULL OR LENGTH(CON_CODE) = 1 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157A84-DFBD-45BE-A513-ECBD9F439CF5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PlaceHolder 1"/>
          <p:cNvSpPr>
            <a:spLocks noGrp="1"/>
          </p:cNvSpPr>
          <p:nvPr>
            <p:ph type="title"/>
          </p:nvPr>
        </p:nvSpPr>
        <p:spPr>
          <a:xfrm>
            <a:off x="1717560" y="228600"/>
            <a:ext cx="81820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33.  DECODE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를 활용한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SQL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통합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282" name=""/>
          <p:cNvSpPr/>
          <p:nvPr/>
        </p:nvSpPr>
        <p:spPr>
          <a:xfrm>
            <a:off x="-133200" y="1941480"/>
            <a:ext cx="10631160" cy="3844440"/>
          </a:xfrm>
          <a:prstGeom prst="roundRect">
            <a:avLst>
              <a:gd name="adj" fmla="val 70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NVL(SUM(DACT_MH ),0)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NVL(SUM(DACT_AMT),0)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NVL(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SUM(DECODE(CON_CODE, NULL, 0, DACT_MH ))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,0)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NVL(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SUM(DECODE(CON_CODE, NULL, 0, DACT_AMT))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,0)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NVL(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SUM(DECODE</a:t>
            </a:r>
            <a:r>
              <a:rPr b="1" lang="ko-KR" sz="1800" spc="-1" strike="noStrike">
                <a:solidFill>
                  <a:srgbClr val="339933"/>
                </a:solidFill>
                <a:latin typeface="굴림체"/>
                <a:ea typeface="굴림체"/>
              </a:rPr>
              <a:t>(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CON_CODE, NULL, DACT_MH,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               </a:t>
            </a:r>
            <a:r>
              <a:rPr b="1" lang="ko-KR" sz="1800" spc="-1" strike="noStrike">
                <a:solidFill>
                  <a:srgbClr val="330099"/>
                </a:solidFill>
                <a:latin typeface="굴림체"/>
                <a:ea typeface="굴림체"/>
              </a:rPr>
              <a:t>DECODE(LENGTH(CON_CODE), 1, DACT_MH,  0)</a:t>
            </a:r>
            <a:r>
              <a:rPr b="1" lang="ko-KR" sz="1800" spc="-1" strike="noStrike">
                <a:solidFill>
                  <a:srgbClr val="339933"/>
                </a:solidFill>
                <a:latin typeface="굴림체"/>
                <a:ea typeface="굴림체"/>
              </a:rPr>
              <a:t>)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, 0)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NVL(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SUM(DECODE</a:t>
            </a:r>
            <a:r>
              <a:rPr b="1" lang="ko-KR" sz="1800" spc="-1" strike="noStrike">
                <a:solidFill>
                  <a:srgbClr val="339933"/>
                </a:solidFill>
                <a:latin typeface="굴림체"/>
                <a:ea typeface="굴림체"/>
              </a:rPr>
              <a:t>(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CON_CODE, NULL, DACT_AMT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               </a:t>
            </a:r>
            <a:r>
              <a:rPr b="1" lang="ko-KR" sz="1800" spc="-1" strike="noStrike">
                <a:solidFill>
                  <a:srgbClr val="330099"/>
                </a:solidFill>
                <a:latin typeface="굴림체"/>
                <a:ea typeface="굴림체"/>
              </a:rPr>
              <a:t>DECODE(LENGTH(CON_CODE), 1, DACT_AMT, 0)</a:t>
            </a:r>
            <a:r>
              <a:rPr b="1" lang="ko-KR" sz="1800" spc="-1" strike="noStrike">
                <a:solidFill>
                  <a:srgbClr val="339933"/>
                </a:solidFill>
                <a:latin typeface="굴림체"/>
                <a:ea typeface="굴림체"/>
              </a:rPr>
              <a:t>)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, 0)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 S_DAY_ACTS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 ORDERNO = :B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 ITEMNO  = :B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392040" y="1281240"/>
            <a:ext cx="18478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개선된 </a:t>
            </a: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A989F0-FDAB-4B6C-A905-84A43912D94A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"/>
          <p:cNvSpPr/>
          <p:nvPr/>
        </p:nvSpPr>
        <p:spPr>
          <a:xfrm>
            <a:off x="1672920" y="243000"/>
            <a:ext cx="5083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34. 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과도한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DECODE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의 사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266760" y="1027080"/>
            <a:ext cx="2089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-220680" y="1407960"/>
            <a:ext cx="9406440" cy="5156280"/>
          </a:xfrm>
          <a:prstGeom prst="roundRect">
            <a:avLst>
              <a:gd name="adj" fmla="val 50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7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B.TM, M.TAX, M.PUMMOK,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7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700" spc="-1" strike="noStrike">
                <a:solidFill>
                  <a:srgbClr val="000000"/>
                </a:solidFill>
                <a:latin typeface="굴림체"/>
                <a:ea typeface="굴림체"/>
              </a:rPr>
              <a:t>SUM(DECODE(NAPBAN, '1', P.SSU, 0)),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7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700" spc="-1" strike="noStrike">
                <a:solidFill>
                  <a:srgbClr val="000000"/>
                </a:solidFill>
                <a:latin typeface="굴림체"/>
                <a:ea typeface="굴림체"/>
              </a:rPr>
              <a:t>SUM(DECODE(NAPBAN, '1', P.KUMEK1, 0)),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7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700" spc="-1" strike="noStrike">
                <a:solidFill>
                  <a:srgbClr val="3333cc"/>
                </a:solidFill>
                <a:latin typeface="굴림체"/>
                <a:ea typeface="굴림체"/>
              </a:rPr>
              <a:t>SUM(DECODE(NAPBAN, '1', DECODE(B.BOKWAN, '1', P.KUMEK2, 0))),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700" spc="-1" strike="noStrike">
                <a:solidFill>
                  <a:srgbClr val="3333cc"/>
                </a:solidFill>
                <a:latin typeface="굴림체"/>
                <a:ea typeface="굴림체"/>
              </a:rPr>
              <a:t>        </a:t>
            </a:r>
            <a:r>
              <a:rPr b="1" lang="ko-KR" sz="1700" spc="-1" strike="noStrike">
                <a:solidFill>
                  <a:srgbClr val="3333cc"/>
                </a:solidFill>
                <a:latin typeface="굴림체"/>
                <a:ea typeface="굴림체"/>
              </a:rPr>
              <a:t>SUM(DECODE(NAPBAN, '1', DECODE(B.BOKWAN, '2', P.KUMEK2, 0))),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700" spc="-1" strike="noStrike">
                <a:solidFill>
                  <a:srgbClr val="3333cc"/>
                </a:solidFill>
                <a:latin typeface="굴림체"/>
                <a:ea typeface="굴림체"/>
              </a:rPr>
              <a:t>        </a:t>
            </a:r>
            <a:r>
              <a:rPr b="1" lang="ko-KR" sz="1700" spc="-1" strike="noStrike">
                <a:solidFill>
                  <a:srgbClr val="3333cc"/>
                </a:solidFill>
                <a:latin typeface="굴림체"/>
                <a:ea typeface="굴림체"/>
              </a:rPr>
              <a:t>SUM(DECODE(NAPBAN, '1', DECODE(B.BOKWAN, '3', P.KUMEK2, 0))),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7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700" spc="-1" strike="noStrike">
                <a:solidFill>
                  <a:srgbClr val="000000"/>
                </a:solidFill>
                <a:latin typeface="굴림체"/>
                <a:ea typeface="굴림체"/>
              </a:rPr>
              <a:t>SUM(DECODE(NAPBAN, '2', P.SSU, 0)),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7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700" spc="-1" strike="noStrike">
                <a:solidFill>
                  <a:srgbClr val="000000"/>
                </a:solidFill>
                <a:latin typeface="굴림체"/>
                <a:ea typeface="굴림체"/>
              </a:rPr>
              <a:t>SUM(DECODE(NAPBAN, '2', P.KUMEK1, 0)),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7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700" spc="-1" strike="noStrike">
                <a:solidFill>
                  <a:srgbClr val="000000"/>
                </a:solidFill>
                <a:latin typeface="굴림체"/>
                <a:ea typeface="굴림체"/>
              </a:rPr>
              <a:t>SUM(DECODE(NAPBAN, '2', DECODE(B.BOKWAN, '1', P.KUMEK2, 0))),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7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700" spc="-1" strike="noStrike">
                <a:solidFill>
                  <a:srgbClr val="000000"/>
                </a:solidFill>
                <a:latin typeface="굴림체"/>
                <a:ea typeface="굴림체"/>
              </a:rPr>
              <a:t>SUM(DECODE(NAPBAN, '2', DECODE(B.BOKWAN, '2', P.KUMEK2, 0))),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7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700" spc="-1" strike="noStrike">
                <a:solidFill>
                  <a:srgbClr val="000000"/>
                </a:solidFill>
                <a:latin typeface="굴림체"/>
                <a:ea typeface="굴림체"/>
              </a:rPr>
              <a:t>SUM(DECODE(NAPBAN, '2', DECODE(B.BOKWAN, '3', P.KUMEK2, 0))),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7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700" spc="-1" strike="noStrike">
                <a:solidFill>
                  <a:srgbClr val="000000"/>
                </a:solidFill>
                <a:latin typeface="굴림체"/>
                <a:ea typeface="굴림체"/>
              </a:rPr>
              <a:t>SUM(DECODE(NAPBAN, '3', P.SSU, 0)),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7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700" spc="-1" strike="noStrike">
                <a:solidFill>
                  <a:srgbClr val="000000"/>
                </a:solidFill>
                <a:latin typeface="굴림체"/>
                <a:ea typeface="굴림체"/>
              </a:rPr>
              <a:t>SUM(DECODE(NAPBAN, '3', P.KUMEK1, 0)),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7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700" spc="-1" strike="noStrike">
                <a:solidFill>
                  <a:srgbClr val="000000"/>
                </a:solidFill>
                <a:latin typeface="굴림체"/>
                <a:ea typeface="굴림체"/>
              </a:rPr>
              <a:t>SUM(DECODE(NAPBAN, '3', DECODE(B.BOKWAN, '1', P.KUMEK2, 0))),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7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700" spc="-1" strike="noStrike">
                <a:solidFill>
                  <a:srgbClr val="000000"/>
                </a:solidFill>
                <a:latin typeface="굴림체"/>
                <a:ea typeface="굴림체"/>
              </a:rPr>
              <a:t>SUM(DECODE(NAPBAN, '3', DECODE(B.BOKWAN, '2', P.KUMEK2, 0))),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7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700" spc="-1" strike="noStrike">
                <a:solidFill>
                  <a:srgbClr val="000000"/>
                </a:solidFill>
                <a:latin typeface="굴림체"/>
                <a:ea typeface="굴림체"/>
              </a:rPr>
              <a:t>SUM(DECODE(NAPBAN, '3', DECODE(B.BOKWAN, '3', P.KUMEK2, 0))),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7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700" spc="-1" strike="noStrike">
                <a:solidFill>
                  <a:srgbClr val="000000"/>
                </a:solidFill>
                <a:latin typeface="굴림체"/>
                <a:ea typeface="굴림체"/>
              </a:rPr>
              <a:t>FROM  GGB M, GPM P, MJ B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7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700" spc="-1" strike="noStrike">
                <a:solidFill>
                  <a:srgbClr val="000000"/>
                </a:solidFill>
                <a:latin typeface="굴림체"/>
                <a:ea typeface="굴림체"/>
              </a:rPr>
              <a:t>WHERE  B.YT = P.YT AND  B.MAEJANG = P.MAEJANG AND  M.CODE = P.PUMMOK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7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700" spc="-1" strike="noStrike">
                <a:solidFill>
                  <a:srgbClr val="000000"/>
                </a:solidFill>
                <a:latin typeface="굴림체"/>
                <a:ea typeface="굴림체"/>
              </a:rPr>
              <a:t>AND  P.DATE BETWEEN :B1 AND :B2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700" spc="-1" strike="noStrike">
                <a:solidFill>
                  <a:srgbClr val="3333cc"/>
                </a:solidFill>
                <a:latin typeface="굴림체"/>
                <a:ea typeface="굴림체"/>
              </a:rPr>
              <a:t> </a:t>
            </a:r>
            <a:r>
              <a:rPr b="1" lang="ko-KR" sz="1700" spc="-1" strike="noStrike">
                <a:solidFill>
                  <a:srgbClr val="3333cc"/>
                </a:solidFill>
                <a:latin typeface="굴림체"/>
                <a:ea typeface="굴림체"/>
              </a:rPr>
              <a:t>GROUP BY  B.TM, M.TAX, M.PUMMOK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700" spc="-1" strike="noStrike">
                <a:solidFill>
                  <a:srgbClr val="00cc99"/>
                </a:solidFill>
                <a:latin typeface="굴림체"/>
                <a:ea typeface="굴림체"/>
              </a:rPr>
              <a:t> </a:t>
            </a:r>
            <a:r>
              <a:rPr b="1" lang="ko-KR" sz="1700" spc="-1" strike="noStrike">
                <a:solidFill>
                  <a:srgbClr val="00cc99"/>
                </a:solidFill>
                <a:latin typeface="굴림체"/>
                <a:ea typeface="굴림체"/>
              </a:rPr>
              <a:t>ORDER BY  B.TM, M.TAX, M.PUMMOK</a:t>
            </a:r>
            <a:r>
              <a:rPr b="1" lang="ko-KR" sz="1700" spc="-1" strike="noStrike">
                <a:solidFill>
                  <a:srgbClr val="3333cc"/>
                </a:solidFill>
                <a:latin typeface="굴림체"/>
                <a:ea typeface="굴림체"/>
              </a:rPr>
              <a:t> 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80842F-2E73-4F08-BAF4-4E003451D6B0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"/>
          <p:cNvSpPr/>
          <p:nvPr/>
        </p:nvSpPr>
        <p:spPr>
          <a:xfrm>
            <a:off x="1672920" y="243000"/>
            <a:ext cx="5083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34. 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과도한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DECODE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의 사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711360" y="1473120"/>
            <a:ext cx="8523000" cy="5296320"/>
          </a:xfrm>
          <a:prstGeom prst="roundRect">
            <a:avLst>
              <a:gd name="adj" fmla="val 3792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0" bIns="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B.TM, M.TAX, M.PUMMOK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UM(DECODE(NAPBAN, '1', P.SSU, 0))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UM(DECODE(NAPBAN, '1', P.KUMEK1, 0))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SUM(DECODE(NAPBAN||B.BOKWAN, '11', P.KUMEK2, 0))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       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SUM(DECODE(NAPBAN||B.BOKWAN, '12', P.KUMEK2, 0))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       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SUM(DECODE(NAPBAN||B.BOKWAN, '13', P.KUMEK2, 0)),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UM(DECODE(NAPBAN, '2', P.SSU, 0))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UM(DECODE(NAPBAN, '2', P.KUMEK1, 0))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UM(DECODE(NAPBAN||B.BOKWAN, '21', P.KUMEK2, 0))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UM(DECODE(NAPBAN||B.BOKWAN, '22', P.KUMEK2, 0))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UM(DECODE(NAPBAN||B.BOKWAN, '23', P.KUMEK2, 0))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UM(DECODE(NAPBAN, '3', P.SSU, 0))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UM(DECODE(NAPBAN, '3', P.KUMEK1, 0))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UM(DECODE(NAPBAN||B.BOKWAN, '31', P.KUMEK2, 0))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UM(DECODE(NAPBAN||B.BOKWAN, '32', P.KUMEK2, 0))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UM(DECODE(NAPBAN||B.BOKWAN, '33', P.KUMEK2, 0))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GGB M, GPM P, MJ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 B.YT = P.YT AND  B.MAEJANG = P.MAEJANG AND  M.CODE = P.PUMMO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 P.DATE BETWEEN :B1 AND :B2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GROUP BY  B.TM, M.TAX, M.PUMMOK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320760" y="1012680"/>
            <a:ext cx="18478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개선된 </a:t>
            </a: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A9E3E7-8EEB-45D6-9A2C-5FADA57D78DF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431640" y="4714920"/>
            <a:ext cx="4011840" cy="163764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NVL (DEPTNO, ' '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INTO  :B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EM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EMPNO  = 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:B2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989000" y="243000"/>
            <a:ext cx="5762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4. BINDING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변수의 인덱스 사용 확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70000" y="1103400"/>
            <a:ext cx="4097160" cy="38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테이블 정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30000"/>
              </a:lnSpc>
              <a:buClr>
                <a:srgbClr val="ff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인덱스 정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EMP :  EMP_EMPNO_PK :  EMP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784680" y="4886280"/>
            <a:ext cx="5859360" cy="177156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90440" indent="-1904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600" spc="-1" strike="noStrike">
                <a:solidFill>
                  <a:srgbClr val="cc0000"/>
                </a:solidFill>
                <a:latin typeface="굴림체"/>
                <a:ea typeface="굴림체"/>
              </a:rPr>
              <a:t>ROWS   EXECUTION PL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------  ---------------------------------------------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0   </a:t>
            </a: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SELECT  STAT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ff0033"/>
                </a:solidFill>
                <a:latin typeface="굴림체"/>
                <a:ea typeface="굴림체"/>
              </a:rPr>
              <a:t>13148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TABLE ACCESS (</a:t>
            </a:r>
            <a:r>
              <a:rPr b="1" lang="ko-KR" sz="1600" spc="-1" strike="noStrike">
                <a:solidFill>
                  <a:srgbClr val="ff0033"/>
                </a:solidFill>
                <a:latin typeface="굴림체"/>
                <a:ea typeface="굴림체"/>
              </a:rPr>
              <a:t>BY ROWID</a:t>
            </a: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) OF 'EMP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ff3300"/>
                </a:solidFill>
                <a:latin typeface="굴림체"/>
                <a:ea typeface="굴림체"/>
              </a:rPr>
              <a:t>13149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 </a:t>
            </a: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INDEX (</a:t>
            </a:r>
            <a:r>
              <a:rPr b="1" lang="ko-KR" sz="1600" spc="-1" strike="noStrike">
                <a:solidFill>
                  <a:srgbClr val="ff0033"/>
                </a:solidFill>
                <a:latin typeface="굴림체"/>
                <a:ea typeface="굴림체"/>
              </a:rPr>
              <a:t>RANGE SCAN</a:t>
            </a: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) OF 'EMP_EMPNO_PK' (</a:t>
            </a:r>
            <a:r>
              <a:rPr b="1" lang="ko-KR" sz="1600" spc="-1" strike="noStrike">
                <a:solidFill>
                  <a:srgbClr val="ff0033"/>
                </a:solidFill>
                <a:latin typeface="굴림체"/>
                <a:ea typeface="굴림체"/>
              </a:rPr>
              <a:t>UNIQUE</a:t>
            </a: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102360" y="3998880"/>
            <a:ext cx="3268800" cy="951120"/>
          </a:xfrm>
          <a:custGeom>
            <a:avLst/>
            <a:gdLst>
              <a:gd name="textAreaLeft" fmla="*/ 120960 w 3268800"/>
              <a:gd name="textAreaRight" fmla="*/ 3147840 w 3268800"/>
              <a:gd name="textAreaTop" fmla="*/ 34920 h 951120"/>
              <a:gd name="textAreaBottom" fmla="*/ 759600 h 95112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3518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cce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0099"/>
                </a:solidFill>
                <a:latin typeface="굴림체"/>
                <a:ea typeface="굴림체"/>
              </a:rPr>
              <a:t>1) Dynamic SQL</a:t>
            </a:r>
            <a:r>
              <a:rPr b="1" lang="ko-KR" sz="1600" spc="-1" strike="noStrike">
                <a:solidFill>
                  <a:srgbClr val="330099"/>
                </a:solidFill>
                <a:latin typeface="굴림체"/>
                <a:ea typeface="굴림체"/>
              </a:rPr>
              <a:t>에서 주의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0099"/>
                </a:solidFill>
                <a:latin typeface="굴림체"/>
                <a:ea typeface="굴림체"/>
              </a:rPr>
              <a:t>2) </a:t>
            </a:r>
            <a:r>
              <a:rPr b="1" lang="ko-KR" sz="1600" spc="-1" strike="noStrike">
                <a:solidFill>
                  <a:srgbClr val="ff0033"/>
                </a:solidFill>
                <a:latin typeface="굴림체"/>
                <a:ea typeface="굴림체"/>
              </a:rPr>
              <a:t>HOST </a:t>
            </a:r>
            <a:r>
              <a:rPr b="1" lang="ko-KR" sz="1600" spc="-1" strike="noStrike">
                <a:solidFill>
                  <a:srgbClr val="ff0033"/>
                </a:solidFill>
                <a:latin typeface="굴림체"/>
                <a:ea typeface="굴림체"/>
              </a:rPr>
              <a:t>변수</a:t>
            </a:r>
            <a:r>
              <a:rPr b="1" lang="ko-KR" sz="1600" spc="-1" strike="noStrike">
                <a:solidFill>
                  <a:srgbClr val="330099"/>
                </a:solidFill>
                <a:latin typeface="굴림체"/>
                <a:ea typeface="굴림체"/>
              </a:rPr>
              <a:t> 선언에서 주의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1576080" y="1147680"/>
            <a:ext cx="4117320" cy="1962360"/>
            <a:chOff x="1576080" y="1147680"/>
            <a:chExt cx="4117320" cy="1962360"/>
          </a:xfrm>
        </p:grpSpPr>
        <p:sp>
          <p:nvSpPr>
            <p:cNvPr id="198" name=""/>
            <p:cNvSpPr/>
            <p:nvPr/>
          </p:nvSpPr>
          <p:spPr>
            <a:xfrm>
              <a:off x="1576080" y="1147680"/>
              <a:ext cx="4117320" cy="196236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0" bIns="0" anchor="t">
              <a:spAutoFit/>
            </a:bodyPr>
            <a:p>
              <a:pPr marL="343080" indent="-343080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0000"/>
                  </a:solidFill>
                  <a:latin typeface="Arial"/>
                  <a:ea typeface="굴림체"/>
                </a:rPr>
                <a:t>       </a:t>
              </a:r>
              <a:r>
                <a:rPr b="1" lang="ko-KR" sz="2000" spc="-1" strike="noStrike">
                  <a:solidFill>
                    <a:srgbClr val="000000"/>
                  </a:solidFill>
                  <a:latin typeface="Arial"/>
                  <a:ea typeface="굴림체"/>
                </a:rPr>
                <a:t>EM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# * EMPNO    </a:t>
              </a:r>
              <a:r>
                <a:rPr b="1" lang="ko-KR" sz="1600" spc="-1" strike="noStrike">
                  <a:solidFill>
                    <a:srgbClr val="ff0033"/>
                  </a:solidFill>
                  <a:latin typeface="굴림체"/>
                  <a:ea typeface="굴림체"/>
                </a:rPr>
                <a:t>VARCHAR2(5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 </a:t>
              </a:r>
              <a:r>
                <a:rPr b="1" lang="ko-KR" sz="18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ENAME    </a:t>
              </a:r>
              <a:r>
                <a:rPr b="1" lang="ko-KR" sz="16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VARCHAR2(20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 </a:t>
              </a:r>
              <a:r>
                <a:rPr b="1" lang="ko-KR" sz="18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DEPTNO   </a:t>
              </a:r>
              <a:r>
                <a:rPr b="1" lang="ko-KR" sz="16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VARCHAR2(5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</a:t>
              </a:r>
              <a:r>
                <a:rPr b="1" lang="ko-KR" sz="16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(</a:t>
              </a:r>
              <a:r>
                <a:rPr b="1" lang="ko-KR" sz="16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총 로우 수</a:t>
              </a:r>
              <a:r>
                <a:rPr b="1" lang="ko-KR" sz="16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:13,148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189160" y="1571760"/>
              <a:ext cx="2890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89743D-EF7D-4B5D-BBA3-B120C3F364D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-695160" y="2751120"/>
            <a:ext cx="11445840" cy="3714840"/>
          </a:xfrm>
          <a:prstGeom prst="roundRect">
            <a:avLst>
              <a:gd name="adj" fmla="val 694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t">
            <a:spAutoFit/>
          </a:bodyPr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INPTIDNO,INPTPKND,INPT,INPTLEVL,INPTMNDR,INPTDEPT,INPTCHRS,PBSCPNME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LOOR(MONTH_BETWEEN(SYSDATE,TO_DATE(PBSCBIRT,'YYMMDD'))/12)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PBSCRSEX,PBSCPHNI,CODEDES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THISCODE  A,  THISPBSC  B,  THISINPT  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 C.INPTCHRS =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SUBSTR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(</a:t>
            </a:r>
            <a:r>
              <a:rPr b="1" lang="ko-KR" sz="1800" spc="-1" strike="noStrike">
                <a:solidFill>
                  <a:srgbClr val="00cc99"/>
                </a:solidFill>
                <a:latin typeface="굴림체"/>
                <a:ea typeface="굴림체"/>
              </a:rPr>
              <a:t>A.CODENAME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, 1, 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 u="sng">
                <a:solidFill>
                  <a:srgbClr val="3333cc"/>
                </a:solidFill>
                <a:uFillTx/>
                <a:latin typeface="굴림체"/>
                <a:ea typeface="굴림체"/>
              </a:rPr>
              <a:t>C.INPTDATE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굴림체"/>
                <a:ea typeface="굴림체"/>
              </a:rPr>
              <a:t>= :B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 C.INPTGUBN IN  ('A', 'B'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 C.INPTBYBY LIKE  '1%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 C.INPTIDNO = B.PBSCID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 </a:t>
            </a:r>
            <a:r>
              <a:rPr b="1" lang="ko-KR" sz="1800" spc="-1" strike="noStrike" u="sng">
                <a:solidFill>
                  <a:srgbClr val="00cc99"/>
                </a:solidFill>
                <a:uFillTx/>
                <a:latin typeface="굴림체"/>
                <a:ea typeface="굴림체"/>
              </a:rPr>
              <a:t>A.CODEGUBN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굴림체"/>
                <a:ea typeface="굴림체"/>
              </a:rPr>
              <a:t> = '11'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42440" y="243000"/>
            <a:ext cx="5659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5.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인덱스 컬럼의 분리에 따른 문제 해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66760" y="988920"/>
            <a:ext cx="9728280" cy="179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인덱스정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THISCODE  A : THISCODE_PK1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: CODEGUBN + CODE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THISPBSC  B : THISPBSC_PK1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: PBSCID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THISINPT  C : THISINPT_IDX1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: INPTDATE + INPTCH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4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91080" y="4662360"/>
            <a:ext cx="5226120" cy="2830320"/>
          </a:xfrm>
          <a:prstGeom prst="rect">
            <a:avLst/>
          </a:prstGeom>
          <a:solidFill>
            <a:srgbClr val="ebebe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90440" indent="-190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200" spc="-1" strike="noStrike">
                <a:solidFill>
                  <a:srgbClr val="cc0000"/>
                </a:solidFill>
                <a:latin typeface="굴림체"/>
                <a:ea typeface="굴림체"/>
              </a:rPr>
              <a:t>ROWS  EXECUTION PL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------ ---------------------------------------------------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0  SELECT   STAT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40   NESTED 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40    NESTED 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480      TABLE  ACCESS (BY ROWID)  OF  'THISINPT'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481       INDEX (RANGE SCAN) OF 'THISINPT_IDX1'(NON-UNIQU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200" spc="-1" strike="noStrike">
                <a:solidFill>
                  <a:srgbClr val="ff0033"/>
                </a:solidFill>
                <a:latin typeface="굴림체"/>
                <a:ea typeface="굴림체"/>
              </a:rPr>
              <a:t>40</a:t>
            </a: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     TABLE  ACCESS (BY ROWID)  OF  'THISCODE'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ff3300"/>
                </a:solidFill>
                <a:latin typeface="굴림체"/>
                <a:ea typeface="굴림체"/>
              </a:rPr>
              <a:t> </a:t>
            </a:r>
            <a:r>
              <a:rPr b="1" lang="ko-KR" sz="1200" spc="-1" strike="noStrike">
                <a:solidFill>
                  <a:srgbClr val="ff3300"/>
                </a:solidFill>
                <a:latin typeface="굴림체"/>
                <a:ea typeface="굴림체"/>
              </a:rPr>
              <a:t>3290</a:t>
            </a: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      INDEX (</a:t>
            </a:r>
            <a:r>
              <a:rPr b="1" lang="ko-KR" sz="1200" spc="-1" strike="noStrike">
                <a:solidFill>
                  <a:srgbClr val="ff0033"/>
                </a:solidFill>
                <a:latin typeface="굴림체"/>
                <a:ea typeface="굴림체"/>
              </a:rPr>
              <a:t>RANGE SCAN</a:t>
            </a: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) OF 'THISCODE_PK1'(UNIQU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40    TABLE  ACCESS (BY ROWID)  OF  'THISPBSC'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40      INDEX (UNIQUE SCAN) OF 'THISPBSC_PK1'(UNIQU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735600" y="3848040"/>
            <a:ext cx="2343240" cy="749520"/>
          </a:xfrm>
          <a:custGeom>
            <a:avLst/>
            <a:gdLst>
              <a:gd name="textAreaLeft" fmla="*/ 86760 w 2343240"/>
              <a:gd name="textAreaRight" fmla="*/ 2256480 w 2343240"/>
              <a:gd name="textAreaTop" fmla="*/ 27720 h 749520"/>
              <a:gd name="textAreaBottom" fmla="*/ 598680 h 74952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3698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cce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0099"/>
                </a:solidFill>
                <a:latin typeface="Arial"/>
                <a:ea typeface="굴림체"/>
              </a:rPr>
              <a:t>Access </a:t>
            </a:r>
            <a:r>
              <a:rPr b="1" lang="ko-KR" sz="1600" spc="-1" strike="noStrike">
                <a:solidFill>
                  <a:srgbClr val="330099"/>
                </a:solidFill>
                <a:latin typeface="Arial"/>
                <a:ea typeface="굴림체"/>
              </a:rPr>
              <a:t>비 효율의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0099"/>
                </a:solidFill>
                <a:latin typeface="Arial"/>
                <a:ea typeface="굴림체"/>
              </a:rPr>
              <a:t>발생 부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9174600" y="5465880"/>
            <a:ext cx="678600" cy="11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40000"/>
              </a:lnSpc>
              <a:buClr>
                <a:srgbClr val="000000"/>
              </a:buClr>
              <a:buSzPct val="120000"/>
              <a:buFont typeface="Wingdings" charset="2"/>
              <a:buChar char="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700" spc="-1" strike="noStrike">
                <a:solidFill>
                  <a:srgbClr val="3333cc"/>
                </a:solidFill>
                <a:latin typeface="굴림체"/>
                <a:ea typeface="굴림체"/>
              </a:rPr>
              <a:t> </a:t>
            </a:r>
            <a:r>
              <a:rPr b="1" lang="ko-KR" sz="1700" spc="-1" strike="noStrike">
                <a:solidFill>
                  <a:srgbClr val="3333cc"/>
                </a:solidFill>
                <a:latin typeface="굴림체"/>
                <a:ea typeface="굴림체"/>
              </a:rPr>
              <a:t>C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000000"/>
              </a:buClr>
              <a:buSzPct val="120000"/>
              <a:buFont typeface="Wingdings" charset="2"/>
              <a:buChar char="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700" spc="-1" strike="noStrike">
                <a:solidFill>
                  <a:srgbClr val="3333cc"/>
                </a:solidFill>
                <a:latin typeface="굴림체"/>
                <a:ea typeface="굴림체"/>
              </a:rPr>
              <a:t> </a:t>
            </a:r>
            <a:r>
              <a:rPr b="1" lang="ko-KR" sz="1700" spc="-1" strike="noStrike">
                <a:solidFill>
                  <a:srgbClr val="3333cc"/>
                </a:solidFill>
                <a:latin typeface="굴림체"/>
                <a:ea typeface="굴림체"/>
              </a:rPr>
              <a:t>A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000000"/>
              </a:buClr>
              <a:buSzPct val="120000"/>
              <a:buFont typeface="Wingdings" charset="2"/>
              <a:buChar char="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700" spc="-1" strike="noStrike">
                <a:solidFill>
                  <a:srgbClr val="3333cc"/>
                </a:solidFill>
                <a:latin typeface="굴림체"/>
                <a:ea typeface="굴림체"/>
              </a:rPr>
              <a:t> </a:t>
            </a:r>
            <a:r>
              <a:rPr b="1" lang="ko-KR" sz="1700" spc="-1" strike="noStrike">
                <a:solidFill>
                  <a:srgbClr val="3333cc"/>
                </a:solidFill>
                <a:latin typeface="굴림체"/>
                <a:ea typeface="굴림체"/>
              </a:rPr>
              <a:t>B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E38462-4ED0-423B-AED0-4A33A79CD33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어진수</dc:creator>
  <dc:description/>
  <dc:language>en-US</dc:language>
  <cp:lastModifiedBy>kssong</cp:lastModifiedBy>
  <cp:lastPrinted>1997-11-14T05:28:08Z</cp:lastPrinted>
  <dcterms:modified xsi:type="dcterms:W3CDTF">2001-04-13T00:24:03Z</dcterms:modified>
  <cp:revision>251</cp:revision>
  <dc:subject/>
  <dc:title>슬라이드 제목 없음</dc:title>
</cp:coreProperties>
</file>